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1949-189A-4818-98A3-277E1CA839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93BC-250B-4A91-B1DA-59F379E4BDCA}" type="slidenum">
              <a:rPr b="0" lang="nl-NL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preventie en voorlichting algem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DD0-34F3-4363-96B1-318F55CF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E5A-F1AC-47F2-BBC1-DFE79B22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A80-63EB-41A5-B42D-3ECD9378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50D-FFFB-4CFA-A44E-9A5587F2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A61-A881-4B40-ACB5-52BFA967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FC5-ED16-4CE7-8482-DAB8AC61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472-2FB3-48DB-934C-D540DB0A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830-DB22-4CD6-8ADB-8567DF6D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6F3-D450-4AD3-9E1F-8D879FC6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C03-8866-489A-878D-B7DC373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564-9FD4-41A0-9D25-5A4F8EE2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B697-8ABC-487A-B963-33BC79E8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DBE6-DD7E-45C9-A248-E817AD833A29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lgemene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REVENTIE &amp; VOORLICH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CHM00180_0000[1]"/>
          <p:cNvPicPr/>
          <p:nvPr/>
        </p:nvPicPr>
        <p:blipFill>
          <a:blip r:embed="rId1"/>
          <a:stretch/>
        </p:blipFill>
        <p:spPr>
          <a:xfrm>
            <a:off x="2124000" y="2421000"/>
            <a:ext cx="4583160" cy="869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 jij als tandartsassist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Arial"/>
              </a:rPr>
              <a:t>Folders ivoren kruis…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99"/>
                </a:solidFill>
                <a:latin typeface="Arial"/>
              </a:rPr>
              <a:t>Opdracht: zie taa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4 B’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langrij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lleen hoofdzak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uikbaa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fo is toepasba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grijpelijk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en vakjarg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klijve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fo blijft hangen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elinge voorlic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aar moet je op letten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oorlichtingsmodel;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penstaa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egrijp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illen (kunnen!!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o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blijven do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delinge voorlich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atwerk in gespreksv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municatieproc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26920" y="378936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zender A                      boodschap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012000" y="378936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tvanger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84360" y="551664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tvanger A                  boodschap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084720" y="55166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zender B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755640" y="443700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ag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nterpret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waarnem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2195640" y="4005360"/>
            <a:ext cx="10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932360" y="4005360"/>
            <a:ext cx="1079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 flipH="1">
            <a:off x="4788000" y="5734080"/>
            <a:ext cx="122400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 flipH="1">
            <a:off x="2268000" y="5734080"/>
            <a:ext cx="100836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6156360" y="4437000"/>
            <a:ext cx="1368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waarnem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nterpret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agere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s attent o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ui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erbaal / non-verba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S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uisteren (actief)  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amenvatten       ) </a:t>
            </a:r>
            <a:r>
              <a:rPr b="0" i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empathi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oorvragen         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547640" y="2205000"/>
            <a:ext cx="6264360" cy="24710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folder</a:t>
            </a:r>
            <a:r>
              <a:rPr b="1" i="1" lang="en-US" sz="4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als geheugensteu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ef nooit een folder mee zonder uitleg, </a:t>
            </a: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us is een folder rek in de wachtkamer zinvol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etsinstr2"/>
          <p:cNvPicPr/>
          <p:nvPr/>
        </p:nvPicPr>
        <p:blipFill>
          <a:blip r:embed="rId1"/>
          <a:stretch/>
        </p:blipFill>
        <p:spPr>
          <a:xfrm>
            <a:off x="324000" y="2238480"/>
            <a:ext cx="2663640" cy="197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oetsinstr3"/>
          <p:cNvPicPr/>
          <p:nvPr/>
        </p:nvPicPr>
        <p:blipFill>
          <a:blip r:embed="rId2"/>
          <a:stretch/>
        </p:blipFill>
        <p:spPr>
          <a:xfrm>
            <a:off x="3132000" y="2270160"/>
            <a:ext cx="267660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poetsinstr4"/>
          <p:cNvPicPr/>
          <p:nvPr/>
        </p:nvPicPr>
        <p:blipFill>
          <a:blip r:embed="rId3"/>
          <a:stretch/>
        </p:blipFill>
        <p:spPr>
          <a:xfrm>
            <a:off x="6006960" y="2281320"/>
            <a:ext cx="30369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t voorkomen van…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t treffen van maatregelen 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zodat iets dat je niet wilt,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ok niet gebeur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 2 e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ezond …….. afwijking/ziek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i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zonder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klachten ……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.. afwijking/ziekte                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me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klachten ……..  verergering of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plicati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2843280" y="2060640"/>
            <a:ext cx="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6804000" y="2637000"/>
            <a:ext cx="0" cy="576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5003640" y="4581360"/>
            <a:ext cx="0" cy="648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primai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secundai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tertiai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voorkomen van (bijv. cariës en parodontiti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vroegtijdig opsporen tijdens afwijkingen (half) jaarlijkse control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voorkomen van verergeren of complicati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908000" y="1125360"/>
            <a:ext cx="5904000" cy="35305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GEEN PREVENTIE ZONDER GOEDE VOORLICHT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Invloed is gedrag patië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1547640" y="2060640"/>
            <a:ext cx="6264360" cy="4173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oede voorlichting stelt pati</a:t>
            </a:r>
            <a:r>
              <a:rPr b="0" lang="nl-NL" sz="2800" spc="-1" strike="noStrike">
                <a:solidFill>
                  <a:srgbClr val="003399"/>
                </a:solidFill>
                <a:latin typeface="Arial"/>
              </a:rPr>
              <a:t>ë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ten in staat om goede weloverwogen keuzes te maken en die na te leve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ierdoor worden pati</a:t>
            </a:r>
            <a:r>
              <a:rPr b="0" lang="nl-NL" sz="2800" spc="-1" strike="noStrike">
                <a:solidFill>
                  <a:srgbClr val="003399"/>
                </a:solidFill>
                <a:latin typeface="Arial"/>
              </a:rPr>
              <a:t>ë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ten minder afhankelijk van zorgverleners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187280" y="620640"/>
            <a:ext cx="71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VOORLICHTING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voorlich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ltijd gericht o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dragsvera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zond gedrag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ndigheid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rapietrouw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gerustheid en angst 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kosten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ostbus 5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ampenbestrijd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riepvaccinat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rij veili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erkiezing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lcoholpreventi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zien en gezien worden in het verke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o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732720" y="476280"/>
            <a:ext cx="2232000" cy="20372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ezond gedra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ondighei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rapietrouw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gerustheid/angs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Koste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Voorbeelden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po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99"/>
                </a:solidFill>
                <a:latin typeface="Arial"/>
              </a:rPr>
              <a:t>Opdracht ga 10 min. Door school lopen en wat valt je op aan posters en voorlich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Picture 13" descr="alcoholcampagne"/>
          <p:cNvPicPr/>
          <p:nvPr/>
        </p:nvPicPr>
        <p:blipFill>
          <a:blip r:embed="rId1"/>
          <a:stretch/>
        </p:blipFill>
        <p:spPr>
          <a:xfrm>
            <a:off x="2771640" y="306864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stop-smoking"/>
          <p:cNvPicPr/>
          <p:nvPr/>
        </p:nvPicPr>
        <p:blipFill>
          <a:blip r:embed="rId2"/>
          <a:stretch/>
        </p:blipFill>
        <p:spPr>
          <a:xfrm rot="550200">
            <a:off x="6372360" y="40464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poster%20licht%20aan_tcm20-159031"/>
          <p:cNvPicPr/>
          <p:nvPr/>
        </p:nvPicPr>
        <p:blipFill>
          <a:blip r:embed="rId3"/>
          <a:stretch/>
        </p:blipFill>
        <p:spPr>
          <a:xfrm rot="20701800">
            <a:off x="971640" y="4005360"/>
            <a:ext cx="153828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31%20mei%2006(1)"/>
          <p:cNvPicPr/>
          <p:nvPr/>
        </p:nvPicPr>
        <p:blipFill>
          <a:blip r:embed="rId4"/>
          <a:stretch/>
        </p:blipFill>
        <p:spPr>
          <a:xfrm>
            <a:off x="5364000" y="3068640"/>
            <a:ext cx="331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5:46:46Z</dcterms:created>
  <dc:creator>Gees Planten</dc:creator>
  <dc:description/>
  <dc:language>en-US</dc:language>
  <cp:lastModifiedBy>Franke-van Kleef,G.</cp:lastModifiedBy>
  <dcterms:modified xsi:type="dcterms:W3CDTF">2013-02-03T10:52:46Z</dcterms:modified>
  <cp:revision>39</cp:revision>
  <dc:subject/>
  <dc:title>PREVENTIE &amp; VOORLICHTING</dc:title>
</cp:coreProperties>
</file>