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7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9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59.png" ContentType="image/png"/>
  <Override PartName="/ppt/media/image24.jpeg" ContentType="image/jpeg"/>
  <Override PartName="/ppt/media/image16.jpeg" ContentType="image/jpeg"/>
  <Override PartName="/ppt/media/image60.png" ContentType="image/png"/>
  <Override PartName="/ppt/media/image28.jpeg" ContentType="image/jpeg"/>
  <Override PartName="/ppt/media/image62.png" ContentType="image/png"/>
  <Override PartName="/ppt/media/image73.png" ContentType="image/png"/>
  <Override PartName="/ppt/media/image32.jpeg" ContentType="image/jpeg"/>
  <Override PartName="/ppt/media/image72.png" ContentType="image/png"/>
  <Override PartName="/ppt/media/image23.png" ContentType="image/png"/>
  <Override PartName="/ppt/media/image70.png" ContentType="image/png"/>
  <Override PartName="/ppt/media/image64.jpeg" ContentType="image/jpeg"/>
  <Override PartName="/ppt/media/image6.jpeg" ContentType="image/jpeg"/>
  <Override PartName="/ppt/media/image71.png" ContentType="image/png"/>
  <Override PartName="/ppt/media/image29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69.png" ContentType="image/png"/>
  <Override PartName="/ppt/media/image67.jpeg" ContentType="image/jpeg"/>
  <Override PartName="/ppt/media/image21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74.png" ContentType="image/png"/>
  <Override PartName="/ppt/media/image61.jpeg" ContentType="image/jpeg"/>
  <Override PartName="/ppt/media/image63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17.png" ContentType="image/png"/>
  <Override PartName="/ppt/media/image39.jpeg" ContentType="image/jpe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75.png" ContentType="image/png"/>
  <Override PartName="/ppt/media/image22.jpeg" ContentType="image/jpeg"/>
  <Override PartName="/ppt/media/image9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png" ContentType="image/png"/>
  <Override PartName="/ppt/media/image30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7.jpeg" ContentType="image/jpeg"/>
  <Override PartName="/ppt/media/image40.jpeg" ContentType="image/jpeg"/>
  <Override PartName="/ppt/media/image4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84D-4231-4183-BF6D-4FD919ED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686-F349-48D9-880F-8EC9C1C7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E57-025C-4254-9A21-64302450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439-017B-4248-8598-9337089F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50CA-2978-4890-A696-1183DE44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8C23-FDDC-4425-9BEB-A9711EE9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FB01-2820-4FB5-AD20-6AD375B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15A2-E452-406E-88B0-164D0EEA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4F2A-7A36-43C6-AD3F-0826CC71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1A52-2517-4BE5-B3C8-A5BF969B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991E-C10C-4E99-895D-DF25CF40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EC9-BA82-41EE-85F4-ACF8E9F9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2872-2732-45D8-948D-66D2129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201E-BAFC-44C0-BE86-ADC20C0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D102-C8EC-4B48-9FD4-F6ABD9C6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3608-D550-4BAB-893F-79C644AD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B35E-49DB-4A52-AC82-9BA46021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E497-3949-40FF-A62B-5E7C6AFD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A189-B85A-4E85-84CB-564C4D5F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E1E7-F683-4E82-966B-2FF78099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8945-6BDC-4750-9E50-66A2443A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3BA6-B48F-46EE-98EC-90F3429F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56E-9FAA-4B34-90EF-2C1AE10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DAF1-5C59-4ABB-B2FF-222ED636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F6E2-C018-4902-B789-BBFE40B0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E5B9C-0B09-4D6A-A99D-A252E920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7391-C3F7-4C1C-B249-BDD8D2C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F743-2FD6-499B-8A50-9A3999E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6ED6-6259-48AC-B987-253390A7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9231-BDE5-44B3-83CD-A6F3F264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31B9-B2A8-41D0-B96B-2DEBCD8B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F4E3-8320-4A18-8B47-613463BC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0F4D-8268-4ADE-8697-3C96C5D6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F49-1383-40C0-8EAA-73D5F4BC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52077-63B6-407F-9ED8-99BCC6A0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01CC-2A57-4400-B7AE-77E6C766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23A4-5691-463C-999B-DBFA6F5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702A-24E9-4E36-8DBF-0C9B277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6CF7-431E-4E12-90F4-404C4445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DD05-1AA4-45E4-988E-22946BF8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B79F-C5B9-4E90-A48A-61449925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8156-8F47-446C-A34C-71B617E7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9D85-7A28-4C16-B58D-FD53D05A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2AB9C-36CF-4975-B3D9-954DFDF7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1E9-B0FA-4013-8D2D-4CCD3038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BF3D4-30BB-4318-A34D-BDE86571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099A6-8848-4455-903D-642A0C25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A0400-79CE-4B4A-8248-AFB637B1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3C78D-5D23-4A83-B976-AF14F29D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F7319-AD1A-4720-9041-B6ACBEA2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4B2A2-7C93-4639-A686-B63949A1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D72A-287B-4AE8-BF31-172A411A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4AAA9-6009-41AD-8C9A-4C19CCC9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F1BC-4B78-45CC-A938-79979BF2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4FD69-CFDA-4CF7-90F9-139BBD98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E58-7642-4AE2-B3B5-7D682CCB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666C1-C04E-4CE1-B129-2796BA64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5DB7C-FEEC-489D-9A68-41E51FE8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A30D-A86D-4E6D-8A68-F9920694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25D3F-BAF2-41D4-BD79-EF6FF8B9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21A9-4CBA-4C25-A783-E3817C8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6D267-2A23-484C-B2FF-6F9E37D6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A455-613A-4170-9E0D-45BECD96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9752B-0E75-4112-AEDC-8B1023A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CD0F5-9F17-47BB-97D5-0A4E016C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4CCE7-3FD8-417B-AF0E-20EEBF3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769-9CD2-4B4D-972D-55A3927B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C1B67-0B4A-476E-81B1-A4221E9E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3B8C9-874C-454A-AA60-D0F7A07A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AE134-427A-48AC-AD29-EE465031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ED30C-203D-439E-BEED-73ADE7AD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9546B-2B68-4330-BB99-C0CDCCC6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4BC32-1791-4534-AE48-E2D1BA88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C8F35-9547-4A86-A1C7-2AD7AAC6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5311A-633E-4635-9B4B-F248848A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CA712-3475-4AEE-A601-F8C96CCF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075F-0387-4544-AF74-0585AE3F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157-969C-4797-960C-8B0D2CD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F993A-AD32-41B8-90FD-893FD8F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296D3-54C6-4E40-9299-D088D87D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FDA7E-F4C9-42A0-9E48-9A7D0FFD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F22E-9D24-460A-A0AA-760A3BBB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80B92-6121-4355-B8E2-170C4CB4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9E31C-B9A3-49B2-982D-EF1D427A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6CDF-168D-4BEC-AC0D-D81DC136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C30D2-1E91-4F89-83B2-F7C42C7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82C36-1F87-4059-B3E4-FB272B57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898CF-CC31-4EEB-AFAB-47E03DE9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E89-ECB9-46E9-8B76-688839D9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7B15B-6F25-4CDA-8D10-BCDF14FF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EBBCE-67BD-4C7F-9B18-D16B4492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66490-EE26-4274-94A4-D2F22621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80BB7-DC15-4D25-A278-6AB6E21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D3C74-8B0E-4D03-86AD-BF191157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83D26-4B54-41BD-B87C-4C80D414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651FC-5125-453F-86FC-B1B9D311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2026-FB47-4190-8902-7D39D557471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5FE8-4451-4EA7-972F-7ECE81E7137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CAD1-ABFA-4FB1-8497-C8D780090C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E62C-AB0C-4DF9-A162-CFA03204210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4D8-F90E-4206-8CD5-921EB0EA879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86A8-EA9B-4760-BBB4-50100A0DD0A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9358-63F9-4F74-BF6D-818491FE5E9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D9AE-C0A9-468F-93A4-56DE3996CAF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55640" y="90792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388c"/>
                </a:solidFill>
                <a:latin typeface="Lucida Sans Unicode"/>
              </a:rPr>
              <a:t>Poetsinstructie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388c"/>
                </a:solidFill>
                <a:latin typeface="Lucida Sans Unicode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388c"/>
                </a:solidFill>
                <a:latin typeface="Lucida Sans Unicode"/>
              </a:rPr>
              <a:t>Interdentale reinig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Ondertitel 2"/>
          <p:cNvSpPr/>
          <p:nvPr/>
        </p:nvSpPr>
        <p:spPr>
          <a:xfrm>
            <a:off x="901800" y="38275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666666"/>
                </a:solidFill>
                <a:latin typeface="Lucida Sans Unicode"/>
              </a:rPr>
              <a:t>D.Dogger en M. Wilpst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8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2592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instructie1bovenkaak-binnen"/>
          <p:cNvPicPr/>
          <p:nvPr/>
        </p:nvPicPr>
        <p:blipFill>
          <a:blip r:embed="rId2"/>
          <a:stretch/>
        </p:blipFill>
        <p:spPr>
          <a:xfrm>
            <a:off x="2700360" y="1628640"/>
            <a:ext cx="3986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instrcutie2-bovenkaak-buite"/>
          <p:cNvPicPr/>
          <p:nvPr/>
        </p:nvPicPr>
        <p:blipFill>
          <a:blip r:embed="rId2"/>
          <a:stretch/>
        </p:blipFill>
        <p:spPr>
          <a:xfrm>
            <a:off x="2556000" y="1844640"/>
            <a:ext cx="4608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instrcutie3-bovenkaak-boven"/>
          <p:cNvPicPr/>
          <p:nvPr/>
        </p:nvPicPr>
        <p:blipFill>
          <a:blip r:embed="rId2"/>
          <a:stretch/>
        </p:blipFill>
        <p:spPr>
          <a:xfrm>
            <a:off x="2195640" y="1773360"/>
            <a:ext cx="4248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onderkaak-achter"/>
          <p:cNvPicPr/>
          <p:nvPr/>
        </p:nvPicPr>
        <p:blipFill>
          <a:blip r:embed="rId2"/>
          <a:stretch/>
        </p:blipFill>
        <p:spPr>
          <a:xfrm>
            <a:off x="2411280" y="1844640"/>
            <a:ext cx="4753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bovenkaak-achter"/>
          <p:cNvPicPr/>
          <p:nvPr/>
        </p:nvPicPr>
        <p:blipFill>
          <a:blip r:embed="rId2"/>
          <a:stretch/>
        </p:blipFill>
        <p:spPr>
          <a:xfrm>
            <a:off x="2411280" y="1628640"/>
            <a:ext cx="4537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Elektrisch poetsen</a:t>
            </a: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tandenborstel maakt de juiste poetsbeweg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lledige concentratie op plaatsing borstelk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orstelkop is klein en komt daardoor beter bij de moeilijk bereikbare plaats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nder vermoei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een elektrische tandenborstel poets je meestal langer, waardoor je gebit vaak ook schoner word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trillen van de bors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osten aanschaf tandenborstel en vervanging van de borstelkopj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tandenborstel is kwetsbaarder doordat deze een ingewikkeld stukje techniek bev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scillerende-roterende (ronddraaiend heen-en-weergaan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nische (zijwaarts heen-en-weergaan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ccugeladen elektrische tandenbors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lektrische tandenborstel op batterij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mer (2 min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De beste tandenborstel is die borstel die je graag gebruikt!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volg-de-vorm-van-uw-tanden"/>
          <p:cNvPicPr/>
          <p:nvPr/>
        </p:nvPicPr>
        <p:blipFill>
          <a:blip r:embed="rId2"/>
          <a:stretch/>
        </p:blipFill>
        <p:spPr>
          <a:xfrm>
            <a:off x="2411280" y="1773360"/>
            <a:ext cx="4160880" cy="45352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5651640" y="5805360"/>
            <a:ext cx="302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n een hoek van 90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°</a:t>
            </a:r>
            <a:r>
              <a:rPr b="1" lang="nl-NL" sz="3700" spc="-1" strike="noStrike">
                <a:solidFill>
                  <a:srgbClr val="666666"/>
                </a:solidFill>
                <a:latin typeface="Lucida Sans Unicode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7207200" y="4437000"/>
            <a:ext cx="1182600" cy="211608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ets twee maal per d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nimaal 2 minuten per ke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 voorkeur na het ontbijt en voor het slapen g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t een vaste poetsvolgorde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ijvoorbeeld: binnenkant, buitenkant, bovenk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ou-een-vast-volgorde-aan"/>
          <p:cNvPicPr/>
          <p:nvPr/>
        </p:nvPicPr>
        <p:blipFill>
          <a:blip r:embed="rId2"/>
          <a:stretch/>
        </p:blipFill>
        <p:spPr>
          <a:xfrm>
            <a:off x="2268360" y="1700280"/>
            <a:ext cx="46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onderkaak-achterkant"/>
          <p:cNvPicPr/>
          <p:nvPr/>
        </p:nvPicPr>
        <p:blipFill>
          <a:blip r:embed="rId2"/>
          <a:stretch/>
        </p:blipFill>
        <p:spPr>
          <a:xfrm>
            <a:off x="2771640" y="1628640"/>
            <a:ext cx="460872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onderkaak-binnenkant"/>
          <p:cNvPicPr/>
          <p:nvPr/>
        </p:nvPicPr>
        <p:blipFill>
          <a:blip r:embed="rId2"/>
          <a:stretch/>
        </p:blipFill>
        <p:spPr>
          <a:xfrm>
            <a:off x="2195640" y="1628640"/>
            <a:ext cx="48243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onderkaak-buitenkant"/>
          <p:cNvPicPr/>
          <p:nvPr/>
        </p:nvPicPr>
        <p:blipFill>
          <a:blip r:embed="rId2"/>
          <a:stretch/>
        </p:blipFill>
        <p:spPr>
          <a:xfrm>
            <a:off x="2627280" y="1268280"/>
            <a:ext cx="5041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onderkaak-bovenop"/>
          <p:cNvPicPr/>
          <p:nvPr/>
        </p:nvPicPr>
        <p:blipFill>
          <a:blip r:embed="rId2"/>
          <a:stretch/>
        </p:blipFill>
        <p:spPr>
          <a:xfrm>
            <a:off x="2195640" y="1413000"/>
            <a:ext cx="48243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bovenkaak-achterkant"/>
          <p:cNvPicPr/>
          <p:nvPr/>
        </p:nvPicPr>
        <p:blipFill>
          <a:blip r:embed="rId2"/>
          <a:stretch/>
        </p:blipFill>
        <p:spPr>
          <a:xfrm>
            <a:off x="2340000" y="1844640"/>
            <a:ext cx="41036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bovenkaak-binnenkant"/>
          <p:cNvPicPr/>
          <p:nvPr/>
        </p:nvPicPr>
        <p:blipFill>
          <a:blip r:embed="rId2"/>
          <a:stretch/>
        </p:blipFill>
        <p:spPr>
          <a:xfrm>
            <a:off x="2987640" y="1916280"/>
            <a:ext cx="4680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bovenkaak-buiten%20elektrisch"/>
          <p:cNvPicPr/>
          <p:nvPr/>
        </p:nvPicPr>
        <p:blipFill>
          <a:blip r:embed="rId2"/>
          <a:stretch/>
        </p:blipFill>
        <p:spPr>
          <a:xfrm>
            <a:off x="2916360" y="1773360"/>
            <a:ext cx="46814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bovenkaak-bovenop"/>
          <p:cNvPicPr/>
          <p:nvPr/>
        </p:nvPicPr>
        <p:blipFill>
          <a:blip r:embed="rId2"/>
          <a:stretch/>
        </p:blipFill>
        <p:spPr>
          <a:xfrm>
            <a:off x="2484360" y="1557360"/>
            <a:ext cx="44658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666666"/>
                </a:solidFill>
                <a:latin typeface="Lucida Sans Unicode"/>
              </a:rPr>
              <a:t>Interdentale reinig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0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527200" cy="473724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achte borst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leine borstelk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ang de tandenborstel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lke drie maanden of ee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Flossen</a:t>
            </a: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6" descr="Instructie11"/>
          <p:cNvPicPr/>
          <p:nvPr/>
        </p:nvPicPr>
        <p:blipFill>
          <a:blip r:embed="rId1"/>
          <a:stretch/>
        </p:blipFill>
        <p:spPr>
          <a:xfrm>
            <a:off x="1116000" y="620640"/>
            <a:ext cx="5256360" cy="3530520"/>
          </a:xfrm>
          <a:prstGeom prst="rect">
            <a:avLst/>
          </a:prstGeom>
          <a:ln w="0">
            <a:noFill/>
          </a:ln>
        </p:spPr>
      </p:pic>
      <p:pic>
        <p:nvPicPr>
          <p:cNvPr id="436" name="Rectangle 15" descr=""/>
          <p:cNvPicPr/>
          <p:nvPr/>
        </p:nvPicPr>
        <p:blipFill>
          <a:blip r:embed="rId2"/>
          <a:stretch/>
        </p:blipFill>
        <p:spPr>
          <a:xfrm>
            <a:off x="609480" y="4151160"/>
            <a:ext cx="82296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6" descr="instructie2-contactpunt"/>
          <p:cNvPicPr/>
          <p:nvPr/>
        </p:nvPicPr>
        <p:blipFill>
          <a:blip r:embed="rId1"/>
          <a:stretch/>
        </p:blipFill>
        <p:spPr>
          <a:xfrm>
            <a:off x="1979640" y="2205000"/>
            <a:ext cx="6191280" cy="428004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4" descr=""/>
          <p:cNvPicPr/>
          <p:nvPr/>
        </p:nvPicPr>
        <p:blipFill>
          <a:blip r:embed="rId2"/>
          <a:stretch/>
        </p:blipFill>
        <p:spPr>
          <a:xfrm>
            <a:off x="249120" y="262080"/>
            <a:ext cx="851076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4" descr=""/>
          <p:cNvPicPr/>
          <p:nvPr/>
        </p:nvPicPr>
        <p:blipFill>
          <a:blip r:embed="rId1"/>
          <a:stretch/>
        </p:blipFill>
        <p:spPr>
          <a:xfrm>
            <a:off x="324000" y="4218120"/>
            <a:ext cx="8137440" cy="1944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instructie3draad-om-kies"/>
          <p:cNvPicPr/>
          <p:nvPr/>
        </p:nvPicPr>
        <p:blipFill>
          <a:blip r:embed="rId2"/>
          <a:stretch/>
        </p:blipFill>
        <p:spPr>
          <a:xfrm>
            <a:off x="2771640" y="620640"/>
            <a:ext cx="431964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4" descr=""/>
          <p:cNvPicPr/>
          <p:nvPr/>
        </p:nvPicPr>
        <p:blipFill>
          <a:blip r:embed="rId1"/>
          <a:stretch/>
        </p:blipFill>
        <p:spPr>
          <a:xfrm>
            <a:off x="469800" y="4651200"/>
            <a:ext cx="8217000" cy="17193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instructie4-aangrenzende-ki"/>
          <p:cNvPicPr/>
          <p:nvPr/>
        </p:nvPicPr>
        <p:blipFill>
          <a:blip r:embed="rId2"/>
          <a:stretch/>
        </p:blipFill>
        <p:spPr>
          <a:xfrm>
            <a:off x="1042920" y="1413000"/>
            <a:ext cx="4464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4" descr=""/>
          <p:cNvPicPr/>
          <p:nvPr/>
        </p:nvPicPr>
        <p:blipFill>
          <a:blip r:embed="rId1"/>
          <a:stretch/>
        </p:blipFill>
        <p:spPr>
          <a:xfrm>
            <a:off x="542880" y="506520"/>
            <a:ext cx="8229600" cy="1620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instructie5terugbrengen-dra"/>
          <p:cNvPicPr/>
          <p:nvPr/>
        </p:nvPicPr>
        <p:blipFill>
          <a:blip r:embed="rId2"/>
          <a:stretch/>
        </p:blipFill>
        <p:spPr>
          <a:xfrm>
            <a:off x="2484360" y="2421000"/>
            <a:ext cx="63356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4" descr=""/>
          <p:cNvPicPr/>
          <p:nvPr/>
        </p:nvPicPr>
        <p:blipFill>
          <a:blip r:embed="rId1"/>
          <a:stretch/>
        </p:blipFill>
        <p:spPr>
          <a:xfrm>
            <a:off x="-249120" y="476280"/>
            <a:ext cx="5033880" cy="5460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instructie6-nieuw-draad"/>
          <p:cNvPicPr/>
          <p:nvPr/>
        </p:nvPicPr>
        <p:blipFill>
          <a:blip r:embed="rId2"/>
          <a:stretch/>
        </p:blipFill>
        <p:spPr>
          <a:xfrm>
            <a:off x="4427640" y="1268280"/>
            <a:ext cx="4155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Tandenstok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Van hou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riehoekig van vorm me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en platte kant en loopt toe in een pu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Verkrijgbaar in verschillende dik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Picture 8" descr="Tandenstokers"/>
          <p:cNvPicPr/>
          <p:nvPr/>
        </p:nvPicPr>
        <p:blipFill>
          <a:blip r:embed="rId1"/>
          <a:stretch/>
        </p:blipFill>
        <p:spPr>
          <a:xfrm>
            <a:off x="4859280" y="4005360"/>
            <a:ext cx="3673440" cy="249696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1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Lucida Sans Unicode"/>
              </a:rPr>
              <a:t>Ronde tandenstokers bestaan nie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Na gebruik gooi je de tandenstoker we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Bij dagelijks gebruik verdwijnt de ontsteking en stopt het bloed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Bloedend tandvlees kan ook het gevolg zijn van een verkeerde techniek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Handtandenborstel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627552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 de tandenstoker tussen duim en wijsvinger dicht bij de punt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andere vingers steun je tegen de aangrenzende tanden of kiez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k de punt van de tandenstoker vochtig met spee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Picture 6" descr="Instructie1-tandenstokers"/>
          <p:cNvPicPr/>
          <p:nvPr/>
        </p:nvPicPr>
        <p:blipFill>
          <a:blip r:embed="rId1"/>
          <a:stretch/>
        </p:blipFill>
        <p:spPr>
          <a:xfrm>
            <a:off x="5580000" y="2276640"/>
            <a:ext cx="3278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Instructie2-tandenstokers"/>
          <p:cNvPicPr/>
          <p:nvPr/>
        </p:nvPicPr>
        <p:blipFill>
          <a:blip r:embed="rId1"/>
          <a:stretch/>
        </p:blipFill>
        <p:spPr>
          <a:xfrm>
            <a:off x="324000" y="1700280"/>
            <a:ext cx="4537080" cy="315576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788000" y="1412640"/>
            <a:ext cx="41767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 de platte kant van de tandenstoker richting het tandvl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eng de tandenstoker tussen de tanden en de kiez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6840" y="836640"/>
            <a:ext cx="8002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kom prikken in het tandvle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 de tandenstoker bij de bovenkaak schuin van boven naar beneden, bij de onderkaak schuin van onderen naar bov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Picture 6" descr="Instructie3-tandenstokers"/>
          <p:cNvPicPr/>
          <p:nvPr/>
        </p:nvPicPr>
        <p:blipFill>
          <a:blip r:embed="rId1"/>
          <a:stretch/>
        </p:blipFill>
        <p:spPr>
          <a:xfrm>
            <a:off x="2987640" y="3141720"/>
            <a:ext cx="5400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w de tandenstoker drie keer stevig tussen de tanden en kiez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groot het raakvlak met de tand door daarbij van richting 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(X-figuu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Picture 9" descr="Instructie5-tandenstokers"/>
          <p:cNvPicPr/>
          <p:nvPr/>
        </p:nvPicPr>
        <p:blipFill>
          <a:blip r:embed="rId1"/>
          <a:stretch/>
        </p:blipFill>
        <p:spPr>
          <a:xfrm>
            <a:off x="4643280" y="2276640"/>
            <a:ext cx="3630600" cy="41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uit uw mond iets als u de tandenstoker achter in de mond gebrui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Picture 6" descr="Instructie6-tandenstokers"/>
          <p:cNvPicPr/>
          <p:nvPr/>
        </p:nvPicPr>
        <p:blipFill>
          <a:blip r:embed="rId1"/>
          <a:stretch/>
        </p:blipFill>
        <p:spPr>
          <a:xfrm>
            <a:off x="1042920" y="620640"/>
            <a:ext cx="6481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6666"/>
                </a:solidFill>
                <a:latin typeface="Lucida Sans Unicode"/>
              </a:rPr>
              <a:t>Rag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850920" y="4005000"/>
            <a:ext cx="50497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De rager volgt de vorm van de k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Picture 5" descr="Ragers-volgt-vorm-kies"/>
          <p:cNvPicPr/>
          <p:nvPr/>
        </p:nvPicPr>
        <p:blipFill>
          <a:blip r:embed="rId1"/>
          <a:stretch/>
        </p:blipFill>
        <p:spPr>
          <a:xfrm>
            <a:off x="1042920" y="4437000"/>
            <a:ext cx="2881440" cy="1260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Ragers-tekening"/>
          <p:cNvPicPr/>
          <p:nvPr/>
        </p:nvPicPr>
        <p:blipFill>
          <a:blip r:embed="rId2"/>
          <a:stretch/>
        </p:blipFill>
        <p:spPr>
          <a:xfrm>
            <a:off x="5219640" y="1197000"/>
            <a:ext cx="3529080" cy="19717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8"/>
          <p:cNvSpPr/>
          <p:nvPr/>
        </p:nvSpPr>
        <p:spPr>
          <a:xfrm>
            <a:off x="324000" y="620640"/>
            <a:ext cx="5049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Lucida Sans Unicode"/>
              </a:rPr>
              <a:t>Ragers zijn er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Verschillende soorten en di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Lange spiraalborstel/ kort borstelt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Met of zonder handvat of hou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67071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k de rager nat onder de kr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tandpas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ussen duim en wijsvin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af de buitenkant inst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teunen tegen het buurel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kom doorschie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Picture 11" descr="http://www.ivorenkruis.nl/uploads/images/Instructie1-ragers.jpg"/>
          <p:cNvPicPr/>
          <p:nvPr/>
        </p:nvPicPr>
        <p:blipFill>
          <a:blip r:embed="rId1"/>
          <a:stretch/>
        </p:blipFill>
        <p:spPr>
          <a:xfrm>
            <a:off x="4356000" y="3429000"/>
            <a:ext cx="41054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erst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alen draad mag niet schu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uit de mond bij het rageren van de achterste eleme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uig de rager een beetje 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Picture 4" descr="http://www.ivorenkruis.nl/uploads/images/Instructie2-ragers.jpg"/>
          <p:cNvPicPr/>
          <p:nvPr/>
        </p:nvPicPr>
        <p:blipFill>
          <a:blip r:embed="rId1"/>
          <a:stretch/>
        </p:blipFill>
        <p:spPr>
          <a:xfrm>
            <a:off x="2627280" y="2986200"/>
            <a:ext cx="568980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kom prikken in het tandvl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laats de rager bij de bovenkaak schuin van boven naar beneden, bij de onderkaak schuin van onderen naar bov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Picture 5" descr="http://www.ivorenkruis.nl/uploads/images/Instructie3-ragers.jpg"/>
          <p:cNvPicPr/>
          <p:nvPr/>
        </p:nvPicPr>
        <p:blipFill>
          <a:blip r:embed="rId1"/>
          <a:stretch/>
        </p:blipFill>
        <p:spPr>
          <a:xfrm>
            <a:off x="3059280" y="2637000"/>
            <a:ext cx="511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vergang van tand en tandvl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k van 45 grad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t de borstel vast aan het eind van het handvat tussen uw duim en de toppen van uw vingers voor de juiste hoeveelheid dru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rizontale beweg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2649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weeg de rager een paar keer heen en we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groot het raakvlak met de tand door daarbij van richting 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(X-figuu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uiste 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lende mat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ast elk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ische rag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malig gebru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Picture 4" descr="http://www.ivorenkruis.nl/uploads/images/Instructie4-ragers.jpg"/>
          <p:cNvPicPr/>
          <p:nvPr/>
        </p:nvPicPr>
        <p:blipFill>
          <a:blip r:embed="rId1"/>
          <a:stretch/>
        </p:blipFill>
        <p:spPr>
          <a:xfrm>
            <a:off x="4788000" y="2565360"/>
            <a:ext cx="3208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ttp://www.ivorenkruis.nl/Folders-lezen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Rectangle 4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hou-een-vast-volgorde-aan"/>
          <p:cNvPicPr/>
          <p:nvPr/>
        </p:nvPicPr>
        <p:blipFill>
          <a:blip r:embed="rId2"/>
          <a:stretch/>
        </p:blipFill>
        <p:spPr>
          <a:xfrm>
            <a:off x="2268360" y="1700280"/>
            <a:ext cx="4608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7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instrcutie2-onderkaak-buite"/>
          <p:cNvPicPr/>
          <p:nvPr/>
        </p:nvPicPr>
        <p:blipFill>
          <a:blip r:embed="rId2"/>
          <a:stretch/>
        </p:blipFill>
        <p:spPr>
          <a:xfrm>
            <a:off x="2771640" y="1628640"/>
            <a:ext cx="44672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instrcutie3-onderkaak-boven"/>
          <p:cNvPicPr/>
          <p:nvPr/>
        </p:nvPicPr>
        <p:blipFill>
          <a:blip r:embed="rId2"/>
          <a:stretch/>
        </p:blipFill>
        <p:spPr>
          <a:xfrm>
            <a:off x="2556000" y="1557360"/>
            <a:ext cx="4537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9:08:39Z</dcterms:created>
  <dc:creator>Eigenaar</dc:creator>
  <dc:description/>
  <dc:language>en-US</dc:language>
  <cp:lastModifiedBy>Franke-van Kleef,G.</cp:lastModifiedBy>
  <dcterms:modified xsi:type="dcterms:W3CDTF">2013-02-03T11:01:11Z</dcterms:modified>
  <cp:revision>22</cp:revision>
  <dc:subject/>
  <dc:title>Piercings in de mond</dc:title>
</cp:coreProperties>
</file>