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422A-9812-403E-8E93-E74C200A88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1051F-16C7-491E-8C1D-708E3F714B44}"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3B80-DC0C-465A-8D41-2F46091D843D}"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731A-5DC8-487E-879B-B59AB79D0F19}"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ABBE-0001-4855-BAB6-5FAB4C4C57DC}"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3AD4-721A-4201-B1CA-E2B1DEAF03C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806F1-9779-4081-B3E0-77B9AABF4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C1005-3AFF-4FAE-99BB-DBD5566BA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92150-A919-44C3-B042-E18DCAAF5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91C0C-82AD-42CE-9450-C49517AE7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2615226-79DB-47E9-8743-20CCD5C90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C944BA4-EC8D-4181-835A-A0AF97B77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88DEA07-DCA6-4E09-8009-DD41B7BB6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24A60D8-FA73-4514-A747-CB0AF141E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089B3A6-754B-46EE-9587-1F55D1E70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DF5E28A-DEE6-498A-B1D7-FB6CA109E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09163B-EC57-4BF8-BCB2-7ADDA029F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09DF9-A6BF-41C5-8E29-97A4CEA73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A08F00-9DC5-4838-BA91-AC7BEF959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6E9EFAB-E2A4-41CA-A9D8-3E90526E1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5705D55-C26A-4174-85F8-E84A3221ED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06ADABD-BC0B-4B34-9FF0-FF6E808CCE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35E10FA-CA7C-4365-8AE6-4F8183EA5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35358-A063-41D3-A656-174D4EBE3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D7DE9-8E2D-4A0D-9A07-78991AC8B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F35EB-1C1C-4240-8F07-C3392396F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BBCBE-6B05-4F6F-89B5-64C778E1E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A8ACB-43C0-4359-9757-DF8FDBB35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4FA49-921F-4B2B-ABE4-ED6B87F6A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66380-119B-477E-B338-34B19BE46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0AC7-1F08-4A38-8EC4-5FDBACC9C971}" type="datetime">
              <a:rPr b="0" lang="nl-NL" sz="1200" spc="-1" strike="noStrike">
                <a:solidFill>
                  <a:srgbClr val="000000"/>
                </a:solidFill>
                <a:latin typeface="Arial"/>
              </a:rPr>
              <a:t>28-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8 2019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30AE-D299-4C02-8496-E621219FF98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E7F4A-F3F9-4AD2-A4BD-00CAA1B66689}" type="datetime">
              <a:rPr b="0" lang="nl-NL" sz="1200" spc="-1" strike="noStrike">
                <a:solidFill>
                  <a:srgbClr val="ffffff"/>
                </a:solidFill>
                <a:latin typeface="Arial"/>
              </a:rPr>
              <a:t>28-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BC9E-D3D8-4469-8620-B13764513692}"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0D36-0282-4447-9676-84040E6B12E2}"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5724-E90F-4FBB-AEA1-E604AAED134B}" type="datetime">
              <a:rPr b="0" lang="nl-NL" sz="1200" spc="-1" strike="noStrike">
                <a:solidFill>
                  <a:srgbClr val="ffffff"/>
                </a:solidFill>
                <a:latin typeface="Arial"/>
              </a:rPr>
              <a:t>28-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999B-7E7A-414E-9706-8D712D86337D}"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956A-032E-4820-9AC2-91A519C78F9B}" type="datetime">
              <a:rPr b="0" lang="nl-NL" sz="1200" spc="-1" strike="noStrike">
                <a:solidFill>
                  <a:srgbClr val="ffffff"/>
                </a:solidFill>
                <a:latin typeface="Arial"/>
              </a:rPr>
              <a:t>28-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9741-4FD9-4F91-B4DF-F67188C7EF3E}"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A65E-AF34-4FC7-8628-107EE49BAC68}" type="datetime">
              <a:rPr b="0" lang="nl-NL" sz="1200" spc="-1" strike="noStrike">
                <a:solidFill>
                  <a:srgbClr val="ffffff"/>
                </a:solidFill>
                <a:latin typeface="Arial"/>
              </a:rPr>
              <a:t>28-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DFDC-C7AE-4746-9424-3DC5E67C4903}"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FAD17-6FC4-4522-BB92-8E207794AE80}" type="datetime">
              <a:rPr b="0" lang="nl-NL" sz="1200" spc="-1" strike="noStrike">
                <a:solidFill>
                  <a:srgbClr val="ffffff"/>
                </a:solidFill>
                <a:latin typeface="Arial"/>
              </a:rPr>
              <a:t>28-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09696-BA89-4C65-8BA6-E2057CD11CD1}"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3068-AD16-426B-BE85-DB008170C21C}" type="datetime">
              <a:rPr b="0" lang="nl-NL" sz="1200" spc="-1" strike="noStrike">
                <a:solidFill>
                  <a:srgbClr val="ffffff"/>
                </a:solidFill>
                <a:latin typeface="Arial"/>
              </a:rPr>
              <a:t>28-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35BF-9C64-4412-B483-D89CFBC38D06}"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216E-2FA7-4DF4-90CF-48BCA3B99B00}" type="datetime">
              <a:rPr b="0" lang="nl-NL" sz="1200" spc="-1" strike="noStrike">
                <a:solidFill>
                  <a:srgbClr val="ffffff"/>
                </a:solidFill>
                <a:latin typeface="Arial"/>
              </a:rPr>
              <a:t>28-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8-10-29T07:42:02Z</dcterms:modified>
  <cp:revision>8</cp:revision>
  <dc:subject/>
  <dc:title>Beroepshouding</dc:title>
</cp:coreProperties>
</file>