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02A-A254-420A-82E5-0A275017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B79-DC74-4429-A792-A10C8D2C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DAA-D5A9-41A4-8BC1-C81FD8E6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2B13-9ACB-473D-AE1B-7AE1B31A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D6F0-7C36-4C46-BFCD-3B28E440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50FA-F9C4-426E-8769-DFA4EB77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FAB5-B518-4ED0-9DAC-C034CC85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10F7-1186-4E0F-BAE3-A1AB612A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F88F-CC1F-4F33-9615-B0852117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E7A2-122A-4FA9-A2DD-CDB7C706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FE44-6962-40FD-A724-6AD1376A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8BAB-C716-4682-AF58-B8C265CD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6CA9-9B62-47AA-9916-573CE808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4810-6BE6-432D-93C9-320783A2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C7D2-4A8F-4C1F-9990-491787AC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BBBC-F3C3-4797-B199-EFD4DD02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A406-9E87-4862-887C-183153E35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5CD0-B3CF-4005-BDB1-971F9D91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81F-35DB-4B41-9B7C-DA2CC98E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208-D290-4661-9BFE-5C5A34CA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0A15-E233-4C8D-BFF1-07CE9AF3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930-062F-4C75-B216-79B0EFCA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77F-5E89-4923-840B-8CB7E595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A59-C336-4037-BFAC-96BFE24D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FB71-E9B4-4076-92AE-3A982C49B1D2}" type="datetime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CE15-E12A-42A7-ABEC-E5D560BCA7A1}" type="slidenum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F615-215A-43C9-A461-1B629CB0891F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7FD9-E08B-4FC8-819A-07CD7F7B17E6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996C-28DA-4A87-B51E-3E258F80283B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B078-A1E7-422F-B5BA-A974DB50482A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ASSERTIVITE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voor jezelf op te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je mening te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en kunt gevoelens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initiatieven te n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Je collega, vriend, vriendin, ouders…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2881440" y="1905120"/>
            <a:ext cx="3921120" cy="4190760"/>
          </a:xfrm>
          <a:prstGeom prst="rect">
            <a:avLst/>
          </a:prstGeom>
          <a:ln w="0">
            <a:noFill/>
          </a:ln>
        </p:spPr>
      </p:pic>
      <p:sp>
        <p:nvSpPr>
          <p:cNvPr id="105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2682-7126-4550-894C-4A38E3544013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7F0E-A78D-4839-B32D-F31A86736984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DCD2-81A1-4159-B193-D50F1D4E0450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C38F-37A7-4363-988D-6ABE89EE8625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Vervolg kenmerken 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een ander in zijn waa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toont respect voor jezelf e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Afbeelding 1" descr=""/>
          <p:cNvPicPr/>
          <p:nvPr/>
        </p:nvPicPr>
        <p:blipFill>
          <a:blip r:embed="rId1"/>
          <a:stretch/>
        </p:blipFill>
        <p:spPr>
          <a:xfrm>
            <a:off x="3059280" y="3546360"/>
            <a:ext cx="20890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AAD2-9419-4468-A3BD-D2103A17839A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1B78-A30A-4B6E-95AC-FEDECC383C10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SUB-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over je heen l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stelt je afhankelijk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ent bang een conflict uit te lo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ander gaat voor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initiatief te t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lijft vaak op de achtergr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3203640" y="2168640"/>
            <a:ext cx="3006720" cy="2916000"/>
          </a:xfrm>
          <a:prstGeom prst="rect">
            <a:avLst/>
          </a:prstGeom>
          <a:ln w="0">
            <a:noFill/>
          </a:ln>
        </p:spPr>
      </p:pic>
      <p:sp>
        <p:nvSpPr>
          <p:cNvPr id="121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396A-E4DC-4A07-BA19-76E70DEFBB46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112A-4C3D-4F6E-82B2-1BEA5A3A76A4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1F08-02CD-4C6A-8F05-69C9A9DC8BF2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B50C-4944-46A4-A52E-C6988F5C13B4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hebt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e wederzijds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tere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zonder anderen te kwet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84B5-9BAA-4D65-8B20-E6DA62B26665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DE92-7DC1-456B-B496-2E68495A6A20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sub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ge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resp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ustr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E81E-0BE8-492A-9684-64B9BD109F6F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F75E-93BD-4BDD-A75F-BE15FEE2B5B8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AGRESS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daarbij geen rekening houden met de 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de mond snoeren of belachelijk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zin doordrijven, overheer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niet aan het woord l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58C7-09BA-449D-8A71-6A8AF6999BA8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0268-C459-45BF-9826-DD8BAB092F8F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el van m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flic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lies van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Afbeelding 1" descr=""/>
          <p:cNvPicPr/>
          <p:nvPr/>
        </p:nvPicPr>
        <p:blipFill>
          <a:blip r:embed="rId1"/>
          <a:stretch/>
        </p:blipFill>
        <p:spPr>
          <a:xfrm>
            <a:off x="4643280" y="4365720"/>
            <a:ext cx="25927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1:39:12Z</dcterms:created>
  <dc:creator>Henk Hermsen</dc:creator>
  <dc:description/>
  <dc:language>en-US</dc:language>
  <cp:lastModifiedBy>Nienke Hoogeveen</cp:lastModifiedBy>
  <dcterms:modified xsi:type="dcterms:W3CDTF">2019-06-27T09:52:08Z</dcterms:modified>
  <cp:revision>9</cp:revision>
  <dc:subject/>
  <dc:title>ASSERTIVITEIT</dc:title>
</cp:coreProperties>
</file>