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99DB-4193-4C68-BB51-1A076E2F57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A26C-B736-4241-B64F-4FB3D4DA073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40F7-B6BD-4C5B-8664-100985863DB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CC0E-1261-41FD-995D-14D883B3561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46B7-5573-4E5B-897B-4424D523324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792C-65E5-4936-9479-3B6BFE41279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F773D-22B2-414D-A26F-9CC864785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4A1A5-BA5D-4DA5-8EFB-A2E05825B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374C5-6F84-4A97-B9C1-B30DF106C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F4BE1-91DF-4F53-BB46-55DEB0667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B5D5FEF-6B7D-4653-883C-69B950F4D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3AA56C-F2AF-4BFF-98BF-BC98C77F8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EC1ED8-3705-4A58-8DEB-97EDE65F9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682886-40FA-4C55-8F9F-19A21B0AE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92CE8F-00ED-4CAA-AFDB-974AE50C4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CCBCDE-406A-4536-925C-D3A98A07F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4B808C-4E1B-4ADF-845D-702C22B4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0B03D-C8C6-4180-B16E-8A4B411C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BF9589-F2B3-4F99-BF21-22415757F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311561-4916-4117-A6FF-ECB9C04F9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E5CB3C-C106-40B4-B768-9FE0191F8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ED686B-7E21-4407-8E4D-0C9325804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849FC5-063B-4FCD-AE6D-ECCBB3AAC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2A3B4-39EA-49F6-9654-28F6679B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DF22-5E85-4285-8A72-CE99ADB7A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BE6C-8803-41F7-BE1D-D6328DCF0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521B3-88A6-4FA7-8077-BA2839196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7624-BC3C-40B4-BCC9-E6ADFE5B4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5A87-6EF3-41C7-8E9D-B5A31B11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8920-7E18-416D-9F05-346292365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835A-C7F6-42CB-8E3F-3BD033F5982A}" type="datetime">
              <a:rPr b="0" lang="nl-NL" sz="1200" spc="-1" strike="noStrike">
                <a:solidFill>
                  <a:srgbClr val="000000"/>
                </a:solidFill>
                <a:latin typeface="Arial"/>
              </a:rPr>
              <a:t>31-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6CD7-9592-442E-A9B6-F7EA3A1C5B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092B-5012-4179-85A0-A0A0B8321BAD}" type="datetime">
              <a:rPr b="0" lang="nl-NL" sz="1200" spc="-1" strike="noStrike">
                <a:solidFill>
                  <a:srgbClr val="ffffff"/>
                </a:solidFill>
                <a:latin typeface="Arial"/>
              </a:rPr>
              <a:t>31-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BB6D-B859-4AFC-9B2A-70C1D48ECC93}"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1235-7117-4A37-BFC9-91EAAE007E0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0D21-5F9A-442E-955D-8C808630AC44}"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B234-A074-4616-A063-93450114389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023B-8C98-4823-99F0-1A7DF32CBA07}"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228F-A967-492C-9EB8-48B0C1C1DC0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260F-9956-4BF1-84E2-2E444C7856F7}"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ACB3-6256-4BB4-BD04-E7F3343B146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D360-D5F4-4946-A407-819479479288}"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AC78-196A-483C-8B9E-9EB180C1607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9416-AF92-43E3-A9A2-E66BCF3EC405}"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8C7E-827D-4A47-8996-0BA7EB68A59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1E42-67BF-4B18-B0AB-6E3117D35254}"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