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D67A-38A2-43AA-BC85-F4D395EAFB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3E77-936C-4D76-8279-F3FB8AD367FE}"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289D-4B85-4229-BC8B-8E42664F8E8C}"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2204-A390-4939-9713-17724AFC4C64}"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228B-AC61-449C-86CF-DDEA93593B51}"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stantie bewaren: leed en de problemen van je cliënten te veel aantrekt, wordt het werk erg zwaar. Je neemt de dingen die je meemaakt mee naar huis, waardoor je je niet goed meer kunt ontspannen. De kunst is empathie op te brengen, maar daarin je grenzen te bewaken en een zekere afstand te bewa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0CAB-6BF3-470F-B87F-A0049D96D759}"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7465D-0035-4EA1-87B2-EB2B48723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AD731-C799-47E3-9B55-39E4934DB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E7FF7-6005-4C99-BCC4-7F4C74556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61069-DB99-436D-92EF-9C81DF342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8C20714-7D68-43CD-A3FF-0401603C32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49DB4E1-9CE4-4290-B0FB-B1636E562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BD36FB-2FC7-4F71-917C-8CD9E4426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678BC29-1AC9-4CC4-A7DF-E31A9859C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DB233A7-B92A-40E3-8EC3-D948F3B71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3A98D67-296F-4D33-B859-A6B48AACB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486573-B010-4395-9C56-1563D0C36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BD84D-5469-4ADE-A067-8D26E4FD0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72B009-7AC2-402A-A827-B13F35CC4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7B0BA6-4DD6-41CA-97D3-F32B2AFE0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15435F7-FA5C-4A6F-A3F0-964DAF1AA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6F8AFB7-92CC-4A2E-B53A-168566DCE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68100FE-DE1E-44AF-BC98-CB0D9D5D3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9B163-9A19-4DB3-BC3A-047EF3598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BC33E-BC9F-4DC2-B324-E5D07FD8B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C1A76-68D6-4F18-9324-31F64C416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D3E86-C85A-450F-B1B8-98F62DD36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9A173-45F5-49BD-BAF2-30E983446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7DC14-BCAC-4993-9F33-E53813CA4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1392C-BD37-4B33-8675-C6D6AE315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90D3-FD48-4133-987D-58BCD623DC97}" type="datetime">
              <a:rPr b="0" lang="nl-NL" sz="1200" spc="-1" strike="noStrike">
                <a:solidFill>
                  <a:srgbClr val="000000"/>
                </a:solidFill>
                <a:latin typeface="Arial"/>
              </a:rPr>
              <a:t>30-07-26</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A 2018 2019 NH</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1D068-4F74-4C4F-822C-4C069868B1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FA6B-6B6A-4E1C-A9F5-492BAB5884C8}" type="datetime">
              <a:rPr b="0" lang="nl-NL" sz="1200" spc="-1" strike="noStrike">
                <a:solidFill>
                  <a:srgbClr val="ffffff"/>
                </a:solidFill>
                <a:latin typeface="Arial"/>
              </a:rPr>
              <a:t>30-07-26</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2CFC-271E-473A-A63D-486D3436D438}"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8025-21A1-4A32-8B52-CC19042F0446}"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Beroepshouding</a:t>
            </a:r>
            <a:br>
              <a:rPr sz="1800"/>
            </a:br>
            <a:br>
              <a:rPr sz="1800"/>
            </a:br>
            <a:r>
              <a:rPr b="0" lang="en-US" sz="1800" spc="-1" strike="noStrike">
                <a:solidFill>
                  <a:srgbClr val="ff0000"/>
                </a:solidFill>
                <a:latin typeface="Arial"/>
              </a:rPr>
              <a:t>.</a:t>
            </a:r>
            <a:br>
              <a:rPr sz="1800"/>
            </a:br>
            <a:endParaRPr b="0" lang="en-US" sz="1800" spc="-1" strike="noStrike">
              <a:solidFill>
                <a:srgbClr val="e3e3ff"/>
              </a:solidFill>
              <a:latin typeface="Arial"/>
            </a:endParaRPr>
          </a:p>
        </p:txBody>
      </p:sp>
      <p:sp>
        <p:nvSpPr>
          <p:cNvPr id="131" name="PlaceHolder 2"/>
          <p:cNvSpPr>
            <a:spLocks noGrp="1"/>
          </p:cNvSpPr>
          <p:nvPr>
            <p:ph/>
          </p:nvPr>
        </p:nvSpPr>
        <p:spPr>
          <a:xfrm>
            <a:off x="456840" y="1599840"/>
            <a:ext cx="807732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ondhouding</a:t>
            </a:r>
            <a:r>
              <a:rPr b="0" lang="en-US" sz="3200" spc="-1" strike="noStrike">
                <a:solidFill>
                  <a:srgbClr val="ffffff"/>
                </a:solidFill>
                <a:latin typeface="Arial"/>
              </a:rPr>
              <a:t> </a:t>
            </a:r>
            <a:r>
              <a:rPr b="0" lang="en-US" sz="3200" spc="-1" strike="noStrike">
                <a:solidFill>
                  <a:srgbClr val="ff0000"/>
                </a:solidFill>
                <a:latin typeface="Arial"/>
              </a:rPr>
              <a:t>Attitu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1" lang="nl-NL" sz="2400" spc="-1" strike="noStrike">
                <a:solidFill>
                  <a:srgbClr val="ffffff"/>
                </a:solidFill>
                <a:latin typeface="Arial"/>
              </a:rPr>
              <a:t>hoe je over iets of iemand denk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wat ook je gedrag bepaalt)</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roepshou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3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749F-721E-49A1-B9BB-6468EA4B2D77}"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3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47DD8-7EF9-4037-A99C-740A090FE30B}"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houding</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er waarop je je gedraagt in situa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v. andere mensen of gebeurteniss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t is je attitu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 bestaat ui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weet (kenn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voelt (emot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zult doen (handel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FCC7-03EF-4EBF-8449-820521EF17CB}"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3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67D5-D9A2-48D4-9A01-F8B742D9D63C}"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beroepshouding</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uit de grondhou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N BEROEPSHOU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wikkelen</a:t>
            </a:r>
            <a:r>
              <a:rPr b="0" lang="en-US" sz="2800" spc="-1" strike="noStrike">
                <a:solidFill>
                  <a:srgbClr val="ff0000"/>
                </a:solidFill>
                <a:latin typeface="Arial"/>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1A9C-323B-4A8D-A19C-62EADA3A5027}"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4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75BB-657F-4D4A-B442-372D80DC360B}"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pecten van grondhouding</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te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angstelling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tie bewa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t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theid</a:t>
            </a:r>
            <a:endParaRPr b="0" lang="en-US" sz="3200" spc="-1" strike="noStrike">
              <a:solidFill>
                <a:srgbClr val="ffffff"/>
              </a:solidFill>
              <a:latin typeface="Arial"/>
            </a:endParaRPr>
          </a:p>
        </p:txBody>
      </p:sp>
      <p:sp>
        <p:nvSpPr>
          <p:cNvPr id="14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3695-1B15-461D-B224-B80B19049829}"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4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iswerk;</a:t>
            </a:r>
            <a:br>
              <a:rPr sz="4400"/>
            </a:br>
            <a:endParaRPr b="0" lang="en-US" sz="4400" spc="-1" strike="noStrike">
              <a:solidFill>
                <a:srgbClr val="e3e3ff"/>
              </a:solidFill>
              <a:latin typeface="Arial"/>
            </a:endParaRPr>
          </a:p>
        </p:txBody>
      </p:sp>
      <p:sp>
        <p:nvSpPr>
          <p:cNvPr id="150" name=""/>
          <p:cNvSpPr txBox="1"/>
          <p:nvPr/>
        </p:nvSpPr>
        <p:spPr>
          <a:xfrm>
            <a:off x="457200" y="1600200"/>
            <a:ext cx="8229600" cy="44956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ek op internet kwalificatie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dossier tandartsassistent</a:t>
            </a: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Tijdelijke aanduiding voor dianumm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88A2-8C49-415C-916F-FDFFBB9D718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Tijdelijke aanduiding voor datum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A7D7-8A18-49A7-B4A4-4DBF226879D8}"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53"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9EFB-AEB9-4A86-8124-CB2F38A6569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t heeft de assistent nodig??</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wge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ijkwaardig behandel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p:txBody>
      </p:sp>
      <p:sp>
        <p:nvSpPr>
          <p:cNvPr id="157"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antwoordelijkhei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ei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i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ouwbaar zij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ktisch</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BA35-CF5E-4606-B812-E732883783EA}" type="datetime">
              <a:rPr b="0" lang="nl-NL" sz="1200" spc="-1" strike="noStrike">
                <a:solidFill>
                  <a:srgbClr val="ffffff"/>
                </a:solidFill>
                <a:latin typeface="Arial"/>
              </a:rPr>
              <a:t>30-07-26</a:t>
            </a:fld>
            <a:endParaRPr b="0" lang="en-US" sz="1200" spc="-1" strike="noStrike">
              <a:solidFill>
                <a:srgbClr val="ffffff"/>
              </a:solidFill>
              <a:latin typeface="Arial"/>
            </a:endParaRPr>
          </a:p>
        </p:txBody>
      </p:sp>
      <p:sp>
        <p:nvSpPr>
          <p:cNvPr id="159"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0:18Z</dcterms:created>
  <dc:creator>Nienke</dc:creator>
  <dc:description/>
  <dc:language>en-US</dc:language>
  <cp:lastModifiedBy>Nienke Hoogeveen</cp:lastModifiedBy>
  <dcterms:modified xsi:type="dcterms:W3CDTF">2018-10-29T07:42:02Z</dcterms:modified>
  <cp:revision>8</cp:revision>
  <dc:subject/>
  <dc:title>Beroepshouding</dc:title>
</cp:coreProperties>
</file>