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0BF-03D5-42B0-B4C7-6BB11715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2F2-966E-437F-AD62-5F0ED021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15A-53ED-4B4A-B27A-D252CCDD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1BB-7C31-4994-A7F2-2F46C0BE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A790-3EAA-4C43-8E5C-544E9295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4191-8725-4870-85E7-EA6FBC69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B832-BACE-4147-BF1F-F38ACAC2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6FC9-DFF2-4D15-B328-F6C21D2E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B8B0-BB9D-49EA-9A3E-C6F772CC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940D-0331-4641-9A99-8D733968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1826-F6B5-4465-80F6-F4271431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D3D-335B-4CF1-BCC0-AED1C956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75C1-A737-40CB-AD01-FE5AF6DA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96E9-2F7A-4A37-A73C-216FC4A8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174E-BE3D-4633-A137-F71AF5E3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DF0D-0382-4105-A494-02E4DB22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1DE2-22FF-4F8D-94E6-4C7DADC8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1C4-1CC7-4D8A-B95B-A6BA2E1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31F-9326-483C-91B6-56E41E3F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B6B-9335-4B57-9FE6-033D4B3E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585-8E8C-4C76-9342-80BADC40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79A-B7D6-4D3A-A8D7-8AFBAF4C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5BA-F650-45F3-94FF-ABD6057B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5CA-D863-4FF5-B75E-518D5C32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1B3F-3869-49D0-A7FE-FA4575221EE1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E12E-E8F6-4273-ADB6-D5C814D87F20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33B4-EF78-44EF-AB7A-0EEE252E39FD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623F-59EA-47D2-976C-43E54A895595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962B-91F1-45E1-80AA-3BD8B599C519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CA8A-77D5-4D43-9540-0A29C3C78573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3C28-DBD2-4F1B-9FFE-0A6D836498B2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1749-0F4E-48D5-916C-8EE81B195EDB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71BC-6964-4D77-A7F0-251FB8655D4E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4EED-4449-4229-AF67-82C6EB9C160E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1C69-58D7-44F0-BD20-03D94CF505F1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2860-B3F9-47B4-A770-E9D651DFD8FE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14FC-660F-4878-8339-31F920C42799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AC3D-515A-466B-A086-A2FAEB058354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BEA6-802C-477C-8394-10187B758492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0E2F-D755-4771-9D0B-7346E74711E9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A80C-4941-4168-AC5F-9D405B609E11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4D99-99EF-4944-9E6C-C9FA649C750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7A90-0109-4328-8E95-C1FF172C288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7E98-B58A-4B5A-B2F7-95C9FC50079A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03F1-2BD4-4F75-8364-C2E984CDE405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0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C7E4-BC68-4FD3-B03C-9244BDD19E2F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9-06-27T09:52:08Z</dcterms:modified>
  <cp:revision>9</cp:revision>
  <dc:subject/>
  <dc:title>ASSERTIVITEIT</dc:title>
</cp:coreProperties>
</file>