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DEF6-6BDC-4B43-A7FD-1EC3F77F09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440F-3A80-4767-9261-DA1F0E41E22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A50D-B2AA-4EBD-B7F6-104CE021EF9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1017-95D0-445E-8B8B-8293B82F4BC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516B-A074-44B3-91CF-5FCA042F72E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084F-A192-4B5C-82AE-D1B014C7F3D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E36A-2E33-462B-99DE-3D3967DD7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1548C-1054-44E9-8960-54325A5A0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1ABC0-2EA8-4DAE-85E0-5BF4173C4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1FEE6-CBF4-4ACF-B93F-BBBC6FD7A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767E5E-5D69-45E9-B859-A7F059572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3EF931-5601-450E-BB05-0424C35DA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99DE09-90CA-4D7F-A98D-FA70958EC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807554-E3A6-43C3-80A7-72AB7CFE1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E37880-00BB-41FC-B76E-4701191F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C3725F-21DF-4D95-8A11-8E54511E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F0C7DF-6138-4A81-9960-78438021F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0517-FFFA-475D-841A-7796C3FD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CE6781-7BD5-4955-8790-33022728E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AD4729-6D28-4242-8C63-5A4FC761D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C3E904-6452-4E21-A940-AC11E7041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4CB5444-DEE7-4BB2-8320-1395ABCC4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9BBE550-3DA3-47BA-A2DB-1E4765F1D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1F080-0225-49F4-9066-09466397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C3F0E-E363-4D33-A08B-8B9ABDB3F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34542-18F5-4227-9650-18D8A4D06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F6F6F-F2C9-4CC3-AD79-AAC86243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DBE2F-DB27-47AE-975A-77C3C8FD1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294C-3602-470E-9A69-0CC3E828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B53DE-1557-431A-A91D-CC97280A0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9A81-ACED-4FA3-AAD5-C96BF8FB969E}" type="datetime">
              <a:rPr b="0" lang="nl-NL" sz="1200" spc="-1" strike="noStrike">
                <a:solidFill>
                  <a:srgbClr val="000000"/>
                </a:solidFill>
                <a:latin typeface="Arial"/>
              </a:rPr>
              <a:t>31-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C0B1-FA59-47A6-861A-5721038B87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75F6-54B6-4CD3-A0FA-0BD7DF2866DE}" type="datetime">
              <a:rPr b="0" lang="nl-NL" sz="1200" spc="-1" strike="noStrike">
                <a:solidFill>
                  <a:srgbClr val="ffffff"/>
                </a:solidFill>
                <a:latin typeface="Arial"/>
              </a:rPr>
              <a:t>31-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18CF-6B89-4561-AB7A-C914D50B1909}"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BFE7-D95F-4F0A-9716-94D7FFD5808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41F6-D031-48C3-BE99-791A4C5E044C}"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3020-841A-48FA-AD44-81A9404DA1B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EF28-E1BE-4A1E-871A-63146BFBC9C6}"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D50B-A7BD-4F8C-96F2-4FAEFAFB8AE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D9AC-B723-4EC8-AAB1-424BD17099B2}"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D6F2-1AE6-4F5F-868E-247E4FB612B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03CA-AD25-4E2D-AEE5-9A080FEC0842}"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C963-C654-4E55-9E8F-D28ECFA6F05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1327-5C9B-47E2-8618-720459A9113E}"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25B4-A119-4955-ADE2-A22ACD67F02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E21A-3FC2-46B2-AC15-7C8B7E2CE935}"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