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A4F67-D2FE-41D9-A4AD-3527DFBED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768E8-4A66-4973-B5D5-BF2362A39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D84FB-74B9-40D1-9F28-A47281FB9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11691-16DC-4742-A303-15F0DC1F3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BC9B6-12AD-431A-AAEA-4CC2590D3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AB7D3-8059-426B-964E-0CCEB85F4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131E7-22FD-431E-A188-C16E2B6A1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E3976-8E88-436F-8069-B4AFD492C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B5665-28F1-4151-B6FF-7D7D001AC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6CF75-F301-47C7-B2B5-2D3AABFD0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18B3B-1F59-4849-BA75-03F182135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D85AB-4AD5-4819-A86F-879420CE3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B6DBA-555A-4754-A5D9-881472CF3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9B736-198A-4188-A954-C5B560D56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3A359-5C49-4462-8F94-FF243B19D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3A3BD-0B7C-4BAE-9BD8-1CF4C5324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9170C-4164-4DFF-BC51-AF173F886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9BA5E-F5F6-4973-8949-F3370489E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691C3-6B54-4D4E-9CAC-1A7EE5375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03A2E-93D4-45B9-9211-3E4643EDF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EB84B-CF18-4611-B848-47951CB1E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95EF5-8551-4ABA-AC82-57E12440C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6323C-33E1-4CF7-91A0-7CEC72A4B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87AC6-0C99-46DF-B7C1-438FE1A4F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5FAE2-1847-4595-BCE1-655E7DBE7AC6}" type="datetime">
              <a:rPr b="0" lang="nl-NL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31-07-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H Communicatie 20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EB950-0478-4104-8B58-762BA2B03FB3}" type="slidenum">
              <a:rPr b="0" lang="nl-NL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Arial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6FCA4-3B91-42C6-9403-7CC5D40DF4AA}" type="datetime"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31-07-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Arial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NH Communicatie 20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Arial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8E924-1546-4FEE-9CE1-53361EB4A6DC}" type="slidenum"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ijdelijke aanduiding voor datum 3"/>
          <p:cNvSpPr/>
          <p:nvPr/>
        </p:nvSpPr>
        <p:spPr>
          <a:xfrm>
            <a:off x="83808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AF524-14E7-4159-B689-57E30F534F65}" type="datetime"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31-07-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ijdelijke aanduiding voor voettekst 4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NH Communicatie 2018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ijdelijke aanduiding voor dianummer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C67AC-9A42-4DAB-A3A5-C90A915F9724}" type="slidenum"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385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b7"/>
                </a:solidFill>
                <a:latin typeface="Arial Black"/>
              </a:rPr>
              <a:t>ASSERTIVITEI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Je durft voor jezelf op te kom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Je durft je mening te uit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Je durft en kunt gevoelens uit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Je durft ‘NEE’ te zegg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Je durft initiatieven te nem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b7"/>
                </a:solidFill>
                <a:latin typeface="Arial Black"/>
              </a:rPr>
              <a:t>Je collega, vriend, vriendin, ouders……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4" name="Tijdelijke aanduiding voor inhoud 6" descr=""/>
          <p:cNvPicPr/>
          <p:nvPr/>
        </p:nvPicPr>
        <p:blipFill>
          <a:blip r:embed="rId1"/>
          <a:stretch/>
        </p:blipFill>
        <p:spPr>
          <a:xfrm>
            <a:off x="2881440" y="1905120"/>
            <a:ext cx="3921120" cy="4190760"/>
          </a:xfrm>
          <a:prstGeom prst="rect">
            <a:avLst/>
          </a:prstGeom>
          <a:ln w="0">
            <a:noFill/>
          </a:ln>
        </p:spPr>
      </p:pic>
      <p:sp>
        <p:nvSpPr>
          <p:cNvPr id="105" name="Tijdelijke aanduiding voor datum 3"/>
          <p:cNvSpPr/>
          <p:nvPr/>
        </p:nvSpPr>
        <p:spPr>
          <a:xfrm>
            <a:off x="83808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CADEB-9183-42C9-ADFE-DC93638011CB}" type="datetime"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31-07-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ijdelijke aanduiding voor voettekst 4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NH Communicatie 201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ijdelijke aanduiding voor dianummer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962AC-1AB4-4A60-B27B-99ABF80EAAA4}" type="slidenum"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ijdelijke aanduiding voor datum 3"/>
          <p:cNvSpPr/>
          <p:nvPr/>
        </p:nvSpPr>
        <p:spPr>
          <a:xfrm>
            <a:off x="83808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67B0A-AC7B-4461-BEC8-56DB71428A72}" type="datetime"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31-07-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Tijdelijke aanduiding voor voettekst 4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NH Communicatie 201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ijdelijke aanduiding voor dianummer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2416D-E670-4D77-A2AA-0894014B7FF1}" type="slidenum"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5888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b7"/>
                </a:solidFill>
                <a:latin typeface="Arial Black"/>
              </a:rPr>
              <a:t>Vervolg kenmerken assertiviteit: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3616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Je laat een ander in zijn waar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Je toont respect voor jezelf en ander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Afbeelding 1" descr=""/>
          <p:cNvPicPr/>
          <p:nvPr/>
        </p:nvPicPr>
        <p:blipFill>
          <a:blip r:embed="rId1"/>
          <a:stretch/>
        </p:blipFill>
        <p:spPr>
          <a:xfrm>
            <a:off x="3059280" y="3546360"/>
            <a:ext cx="2089080" cy="203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ijdelijke aanduiding voor datum 3"/>
          <p:cNvSpPr/>
          <p:nvPr/>
        </p:nvSpPr>
        <p:spPr>
          <a:xfrm>
            <a:off x="83808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987DD-4196-4CA5-9625-4B90D308187A}" type="datetime"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31-07-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ijdelijke aanduiding voor voettekst 4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NH Communicatie 201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ijdelijke aanduiding voor dianummer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89A3D-91E5-4C65-9157-97D6C1E73588}" type="slidenum"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385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b7"/>
                </a:solidFill>
                <a:latin typeface="Arial Black"/>
              </a:rPr>
              <a:t>SUB-ASSERTIVITEIT: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Je laat over je heen lop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Je stelt je afhankelijk o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Je durft geen ‘NEE’ te zegg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Je bent bang een conflict uit te lokk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Een ander gaat voor…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Je durft geen initiatief te ton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Je blijft vaak op de achtergro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0" name="Tijdelijke aanduiding voor inhoud 6" descr=""/>
          <p:cNvPicPr/>
          <p:nvPr/>
        </p:nvPicPr>
        <p:blipFill>
          <a:blip r:embed="rId1"/>
          <a:stretch/>
        </p:blipFill>
        <p:spPr>
          <a:xfrm>
            <a:off x="3203640" y="2168640"/>
            <a:ext cx="3006720" cy="2916000"/>
          </a:xfrm>
          <a:prstGeom prst="rect">
            <a:avLst/>
          </a:prstGeom>
          <a:ln w="0">
            <a:noFill/>
          </a:ln>
        </p:spPr>
      </p:pic>
      <p:sp>
        <p:nvSpPr>
          <p:cNvPr id="121" name="Tijdelijke aanduiding voor datum 3"/>
          <p:cNvSpPr/>
          <p:nvPr/>
        </p:nvSpPr>
        <p:spPr>
          <a:xfrm>
            <a:off x="83808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5DE98-0430-4709-9C5D-E574A7821DF7}" type="datetime"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31-07-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ijdelijke aanduiding voor voettekst 4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NH Communicatie 201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ijdelijke aanduiding voor dianummer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F725E-E830-4C06-ABE6-4A9A4B4707AD}" type="slidenum"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ijdelijke aanduiding voor datum 3"/>
          <p:cNvSpPr/>
          <p:nvPr/>
        </p:nvSpPr>
        <p:spPr>
          <a:xfrm>
            <a:off x="83808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7825E-CB83-4B54-A065-3811DC172EAD}" type="datetime"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31-07-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Tijdelijke aanduiding voor voettekst 4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NH Communicatie 201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ijdelijke aanduiding voor dianummer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7FB8B-5654-4C0A-BBEC-A00CA405E719}" type="slidenum"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385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b7"/>
                </a:solidFill>
                <a:latin typeface="Arial Black"/>
              </a:rPr>
              <a:t>GEVOLG assertief gedrag: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Anderen houden rekening met jo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Je hebt zelfvertrouw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Goede wederzijdse communicati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Betere rela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Respect van ander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Voor je mening opkomen zonder anderen te kwets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ijdelijke aanduiding voor datum 3"/>
          <p:cNvSpPr/>
          <p:nvPr/>
        </p:nvSpPr>
        <p:spPr>
          <a:xfrm>
            <a:off x="83808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78FDC-D40D-4A35-832D-57791F6DCE81}" type="datetime"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31-07-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ijdelijke aanduiding voor voettekst 4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NH Communicatie 201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ijdelijke aanduiding voor dianummer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1AEFE-A284-460E-B617-9D07B94D0AF3}" type="slidenum"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b7"/>
                </a:solidFill>
                <a:latin typeface="Arial Black"/>
              </a:rPr>
              <a:t>GEVOLG sub assertief gedrag: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Anderen houden geen rekening met jo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Weinig zelfvertrouw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Weinig zelfresp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Weinig respect van ander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Frustrati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ijdelijke aanduiding voor datum 3"/>
          <p:cNvSpPr/>
          <p:nvPr/>
        </p:nvSpPr>
        <p:spPr>
          <a:xfrm>
            <a:off x="83808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15715-BBBE-406B-A2D0-D32FFCC85DD6}" type="datetime"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31-07-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Tijdelijke aanduiding voor voettekst 4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NH Communicatie 201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Tijdelijke aanduiding voor dianummer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1268C-C12C-4DCA-98FA-B91A59E12ED7}" type="slidenum"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385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b7"/>
                </a:solidFill>
                <a:latin typeface="Arial Black"/>
              </a:rPr>
              <a:t>AGRESSIEF gedrag: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Voor je mening opkomen daarbij geen rekening houden met de and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De ander de mond snoeren of belachelijk mak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Je zin doordrijven, overheers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De ander niet aan het woord lat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ijdelijke aanduiding voor datum 3"/>
          <p:cNvSpPr/>
          <p:nvPr/>
        </p:nvSpPr>
        <p:spPr>
          <a:xfrm>
            <a:off x="83808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DCFAB-1F84-4CB0-956B-61B6F5BCC5E6}" type="datetime"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31-07-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Tijdelijke aanduiding voor voettekst 4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NH Communicatie 201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ijdelijke aanduiding voor dianummer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9BB78-3C2C-41E5-8962-C1A538FCCE6A}" type="slidenum"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385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b7"/>
                </a:solidFill>
                <a:latin typeface="Arial Black"/>
              </a:rPr>
              <a:t>GEVOLG: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Gevoel van mach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Conflict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Verlies van rela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Weinig respect van ander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Afbeelding 1" descr=""/>
          <p:cNvPicPr/>
          <p:nvPr/>
        </p:nvPicPr>
        <p:blipFill>
          <a:blip r:embed="rId1"/>
          <a:stretch/>
        </p:blipFill>
        <p:spPr>
          <a:xfrm>
            <a:off x="4643280" y="4365720"/>
            <a:ext cx="2592720" cy="173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6T21:39:12Z</dcterms:created>
  <dc:creator>Henk Hermsen</dc:creator>
  <dc:description/>
  <dc:language>en-US</dc:language>
  <cp:lastModifiedBy>Nienke Hoogeveen</cp:lastModifiedBy>
  <dcterms:modified xsi:type="dcterms:W3CDTF">2019-06-27T09:52:08Z</dcterms:modified>
  <cp:revision>9</cp:revision>
  <dc:subject/>
  <dc:title>ASSERTIVITEIT</dc:title>
</cp:coreProperties>
</file>