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08623-ECF9-4D54-94CC-3C0C01712AD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C5BB5-D3DA-4F21-B0D7-5FD9BC24E4D7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C662A-E327-4A1C-A9BA-7A7E127907F7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3F387-70AB-41E8-B9BE-B5EEC3C6F3F0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AE776-C5C6-4327-B5D5-801C53A4FDB7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2282B-4570-4181-ADF6-6F01490F41DA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47E4D-7A66-405D-BC6E-EABE3AD33140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11FA-529B-4E22-99AF-A841ABFBD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F126-02D0-4ADF-B66F-EA7028980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F2BF-7FB3-4086-BD1A-3CCC29130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FDBF-D9B6-4BA6-ABBD-3B8957DD3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BE223-E624-46B5-B005-F57C77323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9C9A0-6568-41FC-9AA4-6334115F3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45528-219C-4DFF-843B-65F31A1F1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7C244-6D36-44BC-A5AD-0696D6AB8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953E3-7EA3-4D73-8ED1-ED93EA899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F45CD-2E89-4C0A-8189-0F9EC16DF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928D6-E5C4-4659-96D1-C47E0C2D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D4B4-A38A-4300-9A75-9D8A8929B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D1C03-15B6-45D2-9D85-FDD09B1F2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EE993-ECFF-4ED2-9D27-33DF3D086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BF0A7-605D-45E6-B0EC-B642B6FE0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4C7A8-ED8E-4979-A957-875E22F1A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9BB65-77EB-477A-8727-1E3FA2875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CA6C-9D80-4BDB-8326-A2472FC66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4E85-AE90-4A80-8BD3-8991C903A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C337-0AF0-4F9B-9427-2D6441E26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FEA2-E08F-4E1A-BD8F-1E5989802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9EA8-0A7F-4A32-A12A-5871A37AE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C173-6BD8-4EDF-8598-F4A8D61BB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0204-87AA-4265-AC90-564EB3AB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7e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00ac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367A6-2B04-40AF-80A1-117E99027777}" type="datetime">
              <a:rPr b="0" lang="nl-NL" sz="1200" spc="-1" strike="noStrike">
                <a:solidFill>
                  <a:srgbClr val="000000"/>
                </a:solidFill>
                <a:latin typeface="Tahoma"/>
              </a:rPr>
              <a:t>30-07-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F80E9-BD8B-426E-8149-61AD9213B88D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000072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00ac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8D4CF-8674-4F60-AD9C-E931C44E319D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0-07-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31FC0-39FE-4C2A-965F-0AF067421692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Tahoma"/>
              </a:rPr>
              <a:t>Waarom gedraag ik mij zoals ik doe?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oe gedraag jij je thuis, op school, bij vriende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aaro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aarom doe je dat zo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eef 2 redenen voor je gedra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ijdelijke aanduiding voor datum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15589-3F8E-4B24-A921-DAD9FE4F8777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54873-92E3-4A84-AFAB-192B104648CC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Tahoma"/>
              </a:rPr>
              <a:t>Vervol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Zoek op </a:t>
            </a:r>
            <a:r>
              <a:rPr b="0" lang="nl-NL" sz="3200" spc="-1" strike="noStrike">
                <a:solidFill>
                  <a:srgbClr val="3434ff"/>
                </a:solidFill>
                <a:latin typeface="Tahoma"/>
              </a:rPr>
              <a:t>you tube 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materiaal over gedrag, normen, waarde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Zie de opdracht over “ zelfbeeld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Tijdelijke aanduiding voor datum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4A50A-F985-44A5-ADB3-2ABF83237A03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BE90A-6B8D-4A34-ABD6-998CB1389347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6343560" y="3657600"/>
            <a:ext cx="1886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ffff"/>
                </a:solidFill>
                <a:latin typeface="Tahoma"/>
              </a:rPr>
              <a:t>Gedrag H 1.1. t/m 1.3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aarneembare activiteit van men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Aangeleerd (nurtur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Aangeboren gedrag (natur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Tijdelijke aanduiding voor datum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B283E-3B35-49B3-8541-1D426D9EB2E6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C6C56-10D9-4B71-BC4D-421A3018F43C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3F629-BEDE-4A2A-AE61-B6782960243E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anpassing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socialiseerd doo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ciale omgev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pvoe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igen keuz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7" descr="winkelwagen01"/>
          <p:cNvPicPr/>
          <p:nvPr/>
        </p:nvPicPr>
        <p:blipFill>
          <a:blip r:embed="rId1"/>
          <a:stretch/>
        </p:blipFill>
        <p:spPr>
          <a:xfrm>
            <a:off x="5029200" y="2347920"/>
            <a:ext cx="3124080" cy="2827440"/>
          </a:xfrm>
          <a:prstGeom prst="rect">
            <a:avLst/>
          </a:prstGeom>
          <a:ln w="0">
            <a:noFill/>
          </a:ln>
        </p:spPr>
      </p:pic>
      <p:sp>
        <p:nvSpPr>
          <p:cNvPr id="110" name="Tijdelijke aanduiding voor datum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488F4-4CD2-4359-B2B8-36B94B231818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8283A-1E37-42A0-9CA6-AF98C7FAF7EE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oci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or allerlei processen lid worden van de maatschappij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rmen en waarden eigen mak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Tijdelijke aanduiding voor datum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0A818-516F-4677-A8F2-DE49E6CA28BD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BACD9-3642-435A-A47C-916397D5679F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Gedrag bepaald door;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cial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ysisch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ermoge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gnitief, emotioneel, fysie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Tijdelijke aanduiding voor datum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81162-EAB1-4517-B5D2-3E7193D2B167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0CF4D-353E-4968-8E6C-DBA7ED5D5B2C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e persoon die ik  nu b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5" descr="CAUMIFN0CAV8LK34CA1GQ892CA0K5GJPCAL6EPQCCAO3GVXUCAV9H8ZZCA0RE7KZCA1EMKIXCA2SKIR2CADJN3RVCA0JK1O2CAWWYM1JCA8QWR4DCAPGNGPOCAUS9EGFCAXG4BB5CAOYFTPGCAOHYKAJ"/>
          <p:cNvPicPr/>
          <p:nvPr/>
        </p:nvPicPr>
        <p:blipFill>
          <a:blip r:embed="rId1"/>
          <a:stretch/>
        </p:blipFill>
        <p:spPr>
          <a:xfrm>
            <a:off x="2255760" y="1716120"/>
            <a:ext cx="3318120" cy="3160800"/>
          </a:xfrm>
          <a:prstGeom prst="rect">
            <a:avLst/>
          </a:prstGeom>
          <a:ln w="0">
            <a:noFill/>
          </a:ln>
        </p:spPr>
      </p:pic>
      <p:sp>
        <p:nvSpPr>
          <p:cNvPr id="126" name="Tijdelijke aanduiding voor datum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80932-D099-4B02-8382-7170C880E49B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1FBF3-22E9-47DD-B990-CAC9DF6F8BD1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Factoren die mij be</a:t>
            </a:r>
            <a:r>
              <a:rPr b="0" lang="nl-NL" sz="4400" spc="-1" strike="noStrike">
                <a:solidFill>
                  <a:srgbClr val="ccffff"/>
                </a:solidFill>
                <a:latin typeface="Tahoma"/>
              </a:rPr>
              <a:t>i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nvloedden: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uders/opvoe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rienden/buren/buurt/scho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ysisch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anle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igen keuz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ijdelijke aanduiding voor datum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73155-602A-4C97-A086-3D3B611B112D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Tahoma"/>
              </a:rPr>
              <a:t>Maslov’s menselijke behoeftenschema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Tijdelijke aanduiding voor datum 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82BCB-487A-471C-9E73-EE083ED12952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Tijdelijke aanduiding voor dianumm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59C60-ECDB-4FA9-BB92-2CB69427614E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1981080" y="2286000"/>
            <a:ext cx="51181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Tahoma"/>
              </a:rPr>
              <a:t>Opdracht bij gedrag: 15 minu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Jouw gedrag wordt gekenmerkt doo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Maak een lijstje Va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elke </a:t>
            </a:r>
            <a:r>
              <a:rPr b="0" lang="nl-NL" sz="3200" spc="-1" strike="noStrike">
                <a:solidFill>
                  <a:srgbClr val="3434ff"/>
                </a:solidFill>
                <a:latin typeface="Tahoma"/>
              </a:rPr>
              <a:t>achterliggende normen 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( regels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elke </a:t>
            </a:r>
            <a:r>
              <a:rPr b="0" lang="nl-NL" sz="3200" spc="-1" strike="noStrike">
                <a:solidFill>
                  <a:srgbClr val="3434ff"/>
                </a:solidFill>
                <a:latin typeface="Tahoma"/>
              </a:rPr>
              <a:t>achterliggende waarden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 zijn 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ebruik het </a:t>
            </a:r>
            <a:r>
              <a:rPr b="0" lang="nl-NL" sz="3200" spc="-1" strike="noStrike">
                <a:solidFill>
                  <a:srgbClr val="3434ff"/>
                </a:solidFill>
                <a:latin typeface="Tahoma"/>
              </a:rPr>
              <a:t>normen en waarden spel 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ierbij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Tijdelijke aanduiding voor datum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5C759-6EB3-4B56-AA64-F83AD550DB0E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A8ADC-4D10-4BD2-A3B8-61D914CE70E3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9:41:31Z</dcterms:created>
  <dc:creator>Nienke</dc:creator>
  <dc:description/>
  <dc:language>en-US</dc:language>
  <cp:lastModifiedBy>Nienke Hoogeveen</cp:lastModifiedBy>
  <dcterms:modified xsi:type="dcterms:W3CDTF">2019-06-24T13:44:24Z</dcterms:modified>
  <cp:revision>14</cp:revision>
  <dc:subject/>
  <dc:title>Gedrag</dc:title>
</cp:coreProperties>
</file>