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440E-8913-4DA6-A85B-A232EED8804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8DAE-AF78-41F7-BF77-8EA86920F79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F3F5-F545-4A78-A8EF-0E38A9A09F0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F2CD-0EC5-439C-BCAB-7DD2E342B34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F85F-8281-4062-847E-64DDA3AB776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5873-9CC0-49CB-B189-DE3E2AA7EB5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5FED-7F2C-4440-AFB5-80D527BC0E9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A3D-05D8-4B01-9765-B63C7470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1DB-E98D-4A87-9873-4B4AC834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3C5-BD6B-4420-8A4F-1E20A299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510-ECBB-4CB3-96B7-8F4C4095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13CF-C9D7-4FB5-BF9A-8006A725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94AC-CC10-4D93-BB75-B8505CB4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2FFF-D8F7-498F-8B2D-384ECFDA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9CD9-D7F2-4C4B-81A6-7FFE5277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4BAD-7B30-4521-8356-4FD0BA4B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3E97-E409-4A4F-A886-B2FB9D26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783E-1FB0-48BE-B6D1-DF91E4C0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C21-F76D-4AE4-8FCF-76AFF989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F14D-3007-43D8-9566-015CB7F6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D06D-7302-4F61-AB75-6AFED9BC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9DBD-6F02-4599-A089-353DBBB7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FF27-D1E4-4D73-915E-AFE5324F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BAA8-35EF-40FA-A086-F8637A6A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55F-13AD-498C-931B-90B3CB15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34B-0EBA-4980-9B8C-0A320784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575-C327-4F0A-963E-B635E82F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28D-1C5B-43D4-ABC3-1237FB34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D57-AC67-4806-B853-67979D06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5F3A-7C88-42E9-B0C4-0D080F7F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EF3-1D17-4338-9AFD-4366E558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66A8-50D4-46D1-8C38-7F1D87AB1352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BC34-4440-4A34-BA0D-032839E67F8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2A6E-835E-455C-8A2E-DDCF2889C15A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A283-94A4-4D8C-B2AC-756AFDB42D99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32C3-6D33-42E3-A14E-D45E453D8005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02DF-9F58-4B83-9D91-96F53E312BB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62AC-6B37-45D6-877A-8C073E48634C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FBBA-A5EC-4557-AAE3-463CAE88ACCF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17C4-787A-4175-9A23-9C260998938F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A276-0205-49EC-BC38-CBAEFDA55BA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40E0-8D0E-44BF-A668-AAA8880A9610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012E-AAB2-43FC-864C-A513B589AEFA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4AD2-F77C-4A68-A8DB-ACF49DE9867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64DE-0A2A-4F5C-8F2F-897905BF7B0A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FB97-8F5A-4178-9D85-9F520D330B8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45F8-D7C1-4A47-BA32-5EBF745F3CC2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05A9-5CE7-4C63-B150-840F66505636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FAFA-E0E5-4FA3-84FD-CC67686B41AE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AE8D-FA8C-45AB-89E6-B55AD301077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D467-C5C1-4665-92A7-91F88891149B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4F22-F76D-4495-9AB3-07F9A4C52234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F71B-DD07-4802-8DFD-E8D4E1BD91F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CDA3-7155-4B0F-912E-4839BB809B5F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9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AF1A-08A1-4962-87DD-70D8D18938D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9-06-24T13:44:24Z</dcterms:modified>
  <cp:revision>14</cp:revision>
  <dc:subject/>
  <dc:title>Gedrag</dc:title>
</cp:coreProperties>
</file>