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06D-F108-42A9-AA85-B4288563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8B21-EC91-41ED-94E7-5E9864F7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C730-62B8-4409-9C10-6CA4AAD5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4E1-9AC8-4EB6-AA43-F60BAD30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A249-8CFE-40B9-8EF0-FC3D370B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A174-1F4C-4EA4-80A8-8F3FD49A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32AA-5317-46B6-A7CF-F8E7CAF9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0DD8-552D-4E6E-AF27-9B168492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5556-3E3E-4E38-93E1-3343734F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FF07-7E05-476F-8504-76362651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82D4-835A-4457-B0D1-023FB692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E278-2620-4AA5-8847-B476E668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085D-3907-4468-8CB3-8C4A8108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351F-E4E7-4724-9186-118FE91E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273A-A39C-49CF-85EA-8899BA1A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49C2-5826-4B11-AB58-95D8A9E3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C86D-F95E-4007-B354-891EE4E3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992-D501-40D9-9700-75213672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506-898F-4E06-BD0A-7DF37C35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B51-6ABB-4404-AAF0-39B1C7A2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256-87F1-4DD3-8CC8-0DB4FD56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7A98-9FB2-42CD-A4CE-CB59260A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634-9042-4816-8AB0-45B05ECB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429-FDA8-4CBD-B114-7F5B53DD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E668-8D2F-4B2B-95FE-6EB6847A3A25}" type="datetime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BC8F-D1BD-4435-B815-6D1AF4983631}" type="slidenum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ECED-62AA-4135-8D59-4BA9EC897043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4D0C-A482-4B8B-AC31-DFED932C233B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61AB-5831-466D-AD2C-DF71355783E9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60AA-C7AD-453F-9CA5-7AAB2B4D871A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ASSERTIVITE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voor jezelf op te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je mening te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en kunt gevoelens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initiatieven te n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Je collega, vriend, vriendin, ouders…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2881440" y="1905120"/>
            <a:ext cx="3921120" cy="4190760"/>
          </a:xfrm>
          <a:prstGeom prst="rect">
            <a:avLst/>
          </a:prstGeom>
          <a:ln w="0">
            <a:noFill/>
          </a:ln>
        </p:spPr>
      </p:pic>
      <p:sp>
        <p:nvSpPr>
          <p:cNvPr id="105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F372-FD64-4C1A-9860-2A9B62DAC53D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03F1-3474-4246-A9B2-1E9662CD9BC2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E69F-1515-41B5-A87C-B81EE4FFA579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3D8D-7F1C-4D5B-A4EF-A3AF7D90FEB7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Vervolg kenmerken 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een ander in zijn waa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toont respect voor jezelf e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Afbeelding 1" descr=""/>
          <p:cNvPicPr/>
          <p:nvPr/>
        </p:nvPicPr>
        <p:blipFill>
          <a:blip r:embed="rId1"/>
          <a:stretch/>
        </p:blipFill>
        <p:spPr>
          <a:xfrm>
            <a:off x="3059280" y="3546360"/>
            <a:ext cx="20890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2932-7362-460F-8FBB-7FF2694FADCF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9F0E-F340-4B1C-8EC9-D2023CEF019D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B-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over je heen l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stelt je afhankelijk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ent bang een conflict uit te lo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ander gaat voor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initiatief te t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lijft vaak op de achtergr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3203640" y="2168640"/>
            <a:ext cx="3006720" cy="2916000"/>
          </a:xfrm>
          <a:prstGeom prst="rect">
            <a:avLst/>
          </a:prstGeom>
          <a:ln w="0">
            <a:noFill/>
          </a:ln>
        </p:spPr>
      </p:pic>
      <p:sp>
        <p:nvSpPr>
          <p:cNvPr id="121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E84F-0E1C-4DEA-A467-806237942923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37B2-3CFE-49C8-A49D-F6166DC5AB41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FA7F-ED0F-44E8-9265-97FCB3F321F8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3564-FA6A-40EC-8BAE-E4DF7B529CA7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hebt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wederzijds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ere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zonder anderen te kwet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4D6D-9B73-4729-8CEC-2C1A58AAA603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1267-CDDB-4717-86F1-9BC5851A91D2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sub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ge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resp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ustr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A935-EE75-4EE0-88A3-C5D10A45F11C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1E6A-27D0-4632-9588-1A6C02054940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AGRESS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daarbij geen rekening houden met de 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de mond snoeren of belachelijk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zin doordrijven, overheer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niet aan het woord l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DD5A-7B32-455B-84C4-DBB0E35570AC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CE64-BD86-44C1-81B7-EA090C506AEE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el van m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flic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lies van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Afbeelding 1" descr=""/>
          <p:cNvPicPr/>
          <p:nvPr/>
        </p:nvPicPr>
        <p:blipFill>
          <a:blip r:embed="rId1"/>
          <a:stretch/>
        </p:blipFill>
        <p:spPr>
          <a:xfrm>
            <a:off x="4643280" y="4365720"/>
            <a:ext cx="25927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1:39:12Z</dcterms:created>
  <dc:creator>Henk Hermsen</dc:creator>
  <dc:description/>
  <dc:language>en-US</dc:language>
  <cp:lastModifiedBy>Nienke Hoogeveen</cp:lastModifiedBy>
  <dcterms:modified xsi:type="dcterms:W3CDTF">2019-06-27T09:52:08Z</dcterms:modified>
  <cp:revision>9</cp:revision>
  <dc:subject/>
  <dc:title>ASSERTIVITEIT</dc:title>
</cp:coreProperties>
</file>