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DC11-7A14-4D07-989B-36618F494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5B86-E83C-4CE5-B768-44A2DCA7F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C1FC-BEAA-46A6-B096-7DFE430F5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684C-AC01-4DA2-B08C-A3F7CD321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29A54-39DD-44FE-A731-8B8CD49E8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2CB6B-014A-4130-A705-DA750D710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FE371-E68B-4A16-84B0-4644A3F72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A9B82-6F18-418B-847F-176514CD8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2B71F-F88E-4B0F-82AD-FEE4C1D2E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DA87A-7283-4C6C-B49B-6833D8412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E4E47-6BFB-4B76-B95D-23B5E776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19D4-A547-4361-826D-A707D92C5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0E426-3D7E-43BB-9EAD-344CA8F3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118DF-25A9-42BF-983C-04522B3C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BCAD6-11FA-4E3C-A29B-05FF4AC12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760BC-1ADC-4199-BC17-BC3543680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4DDCD-DC30-4114-BF9C-E92BE275C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CA03-658E-4742-955A-E5B97745E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AD12-F654-4BD8-9A29-9DE72FDB0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A4B1-C582-4C7A-89EB-436EDD484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BA91-C879-45F4-AE7B-E7088933E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4289-5342-44D2-B902-43EAF6F8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32E8-7261-4738-9188-32DA3A72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0CC9-C070-4749-A444-DA17D0B6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C9510-7453-4452-BA26-A892D99AB102}" type="datetime">
              <a:rPr b="0" lang="nl-N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90D57-3BA3-473D-A367-D955E0A4A4C6}" type="slidenum">
              <a:rPr b="0" lang="nl-N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1BBB1-3B19-4D85-BB53-9F17E30CC7F2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5E2CB-997D-49AE-A7B3-B878BCBD5B0B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07354-FF50-443E-9C54-3FAFBCA7A7E4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CD5B0-DF1F-4B84-9590-9A2F6216EF05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ASSERTIVITEI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voor jezelf op te ko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je mening te ui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en kunt gevoelens ui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‘NEE’ te zeg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initiatieven te ne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Je collega, vriend, vriendin, ouders…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4" name="Tijdelijke aanduiding voor inhoud 6" descr=""/>
          <p:cNvPicPr/>
          <p:nvPr/>
        </p:nvPicPr>
        <p:blipFill>
          <a:blip r:embed="rId1"/>
          <a:stretch/>
        </p:blipFill>
        <p:spPr>
          <a:xfrm>
            <a:off x="2881440" y="1905120"/>
            <a:ext cx="3921120" cy="4190760"/>
          </a:xfrm>
          <a:prstGeom prst="rect">
            <a:avLst/>
          </a:prstGeom>
          <a:ln w="0">
            <a:noFill/>
          </a:ln>
        </p:spPr>
      </p:pic>
      <p:sp>
        <p:nvSpPr>
          <p:cNvPr id="105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E19F6-6C22-4A2C-B6B7-CDFCD3FDCCA3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0FCF6-D6F6-4031-95B5-EAF124A98745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EB120-8DA4-4ECE-9FAE-ACD730B3F129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1D223-23DA-422A-AB9E-B2A6330C9F40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Vervolg kenmerken assertiviteit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3616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laat een ander in zijn waar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toont respect voor jezelf en and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Afbeelding 1" descr=""/>
          <p:cNvPicPr/>
          <p:nvPr/>
        </p:nvPicPr>
        <p:blipFill>
          <a:blip r:embed="rId1"/>
          <a:stretch/>
        </p:blipFill>
        <p:spPr>
          <a:xfrm>
            <a:off x="3059280" y="3546360"/>
            <a:ext cx="2089080" cy="20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D95BB-99B5-4181-962D-3C35069124B0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77A74-D6C6-42D6-A1B2-AE8ED4876D5C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SUB-ASSERTIVITEIT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laat over je heen lo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stelt je afhankelijk 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geen ‘NEE’ te zeg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bent bang een conflict uit te lok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Een ander gaat voor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geen initiatief te to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blijft vaak op de achtergr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0" name="Tijdelijke aanduiding voor inhoud 6" descr=""/>
          <p:cNvPicPr/>
          <p:nvPr/>
        </p:nvPicPr>
        <p:blipFill>
          <a:blip r:embed="rId1"/>
          <a:stretch/>
        </p:blipFill>
        <p:spPr>
          <a:xfrm>
            <a:off x="3203640" y="2168640"/>
            <a:ext cx="3006720" cy="2916000"/>
          </a:xfrm>
          <a:prstGeom prst="rect">
            <a:avLst/>
          </a:prstGeom>
          <a:ln w="0">
            <a:noFill/>
          </a:ln>
        </p:spPr>
      </p:pic>
      <p:sp>
        <p:nvSpPr>
          <p:cNvPr id="121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98D36-865F-46B8-84D3-FEBD89F90A8A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4B50D-3DC8-43AD-A77A-623F1E2A79E0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62F7F-20BB-4CE4-B91C-0065C6E37963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17DBD-30E4-4813-9885-185CE11B4E22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GEVOLG assertief gedrag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nderen houden rekening met j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hebt zelfvertrouw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oede wederzijdse communic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tere rela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Respect van and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 je mening opkomen zonder anderen te kwets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D951D-AE27-49AF-A6CC-43D263D43403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37668-FB13-4028-B68A-FFC8981D8742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GEVOLG sub assertief gedrag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nderen houden geen rekening met j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inig zelfvertrouw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inig zelfresp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inig respect van and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Frustr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F6160-19A9-4391-81F6-5847A527FD6B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F07CD-336F-4544-8948-8DC8EDF6F489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AGRESSIEF gedrag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 je mening opkomen daarbij geen rekening houden met de a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 ander de mond snoeren of belachelijk ma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zin doordrijven, overheers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 ander niet aan het woord la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0D7D8-B220-4114-B585-42F53F3E7AF6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18C29-3814-47EF-91DE-87B71E62009D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GEVOLG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voel van mac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Conflic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erlies van rela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inig respect van and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Afbeelding 1" descr=""/>
          <p:cNvPicPr/>
          <p:nvPr/>
        </p:nvPicPr>
        <p:blipFill>
          <a:blip r:embed="rId1"/>
          <a:stretch/>
        </p:blipFill>
        <p:spPr>
          <a:xfrm>
            <a:off x="4643280" y="4365720"/>
            <a:ext cx="2592720" cy="17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21:39:12Z</dcterms:created>
  <dc:creator>Henk Hermsen</dc:creator>
  <dc:description/>
  <dc:language>en-US</dc:language>
  <cp:lastModifiedBy>Nienke Hoogeveen</cp:lastModifiedBy>
  <dcterms:modified xsi:type="dcterms:W3CDTF">2019-06-27T09:52:08Z</dcterms:modified>
  <cp:revision>9</cp:revision>
  <dc:subject/>
  <dc:title>ASSERTIVITEIT</dc:title>
</cp:coreProperties>
</file>