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0FFF-E8D0-4ED3-B335-2147E7A8D0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8EFD-C809-4E65-9BAF-CE1B366647A7}"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3EDC-F82D-424E-ACC7-63A0D20FEFBD}"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4C77-B6D6-4BA1-B6B9-B642BBB4FC1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FB8F-AC88-4AA6-91FE-7553863A0A80}"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B817-D578-4933-9133-F240A9B5C36E}"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9C90A-0EE9-450C-8AC2-B5EB1D0B8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59254-11DC-46BB-A834-6651C614E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500BA-C7C8-443B-9B5C-8823E97AF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18532-24A6-41D3-9F14-CDAAEF82B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177B718-F504-4308-A779-3DB87E7DB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E5FD542-CC51-4E9C-A85B-36F9A1C49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AAB8D7C-3BEC-481D-803C-50BAE8C5F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BBB174-E8ED-4411-B07B-EE753BFDF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2C37F0B-11B4-4998-878A-0CE904C18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26731D7-6435-46DE-BFC2-6B9014C1A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BB8342-929E-410A-BA0F-C5E72553F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2BC98-FDE5-4D26-A8CA-11BF92A1D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60E28D-6729-49A6-B917-2EDE32E63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6AC592-DD95-408E-9B9F-77A6FA2FB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E78FC7A-18B7-4739-ABEC-73E1D13DB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77E6624-95B0-425A-AA02-FE1B28FC3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A6A1914-C84D-42F0-9120-0E441431A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CC5C6-6627-4CC7-A2E8-DDE52B8A3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10FC7-7D1E-44DE-9734-B3A9258DA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9F494-0A6D-4AD7-9DB2-F1F2F1920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763A6-5C5D-4F21-AAE0-17DBD99EC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8BED6-7DEE-4B9B-BD89-3FD57FF5E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4A8DB-9C6D-414A-B6ED-9CBED2874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AB746-8578-4EA4-9A36-D3E30FAF8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F96D-B79B-4DFB-972E-C0473902BC92}" type="datetime">
              <a:rPr b="0" lang="nl-NL" sz="1200" spc="-1" strike="noStrike">
                <a:solidFill>
                  <a:srgbClr val="000000"/>
                </a:solidFill>
                <a:latin typeface="Arial"/>
              </a:rPr>
              <a:t>29-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8 2019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F5C3-F9BE-4646-974C-BB985E4C774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7539-AFAA-4B03-BA1E-80C66A2923F2}" type="datetime">
              <a:rPr b="0" lang="nl-NL" sz="1200" spc="-1" strike="noStrike">
                <a:solidFill>
                  <a:srgbClr val="ffffff"/>
                </a:solidFill>
                <a:latin typeface="Arial"/>
              </a:rPr>
              <a:t>29-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672E-0608-4378-BA55-1BDF6DFA82F7}"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FE2F-6E41-4AA4-8D94-4EED857988A5}"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F826-0D92-4F82-8228-2BD7C6169F74}"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50E7-1C30-4410-8B70-8AA3A51E8855}"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76BC-AACA-46CC-81D2-3B2A3C78F387}"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3C01-FBD2-46B4-A6FC-FE00D5725C24}"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BB9C-8A65-457B-A5ED-E714AEB1D420}"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3AD7-27B0-4A78-986A-5275BF9F9F9F}"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D7E1D-EE34-42AA-9315-4C4C0E217034}"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5F6C-5B6B-4352-AF63-1D15BC940C4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99ED-18F1-468C-BE49-50F71B72B5A6}"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F63A-E8F3-4816-B951-69DA4857FD3D}"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95A1-0CA9-476A-99E0-D4900E22278F}"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8-10-29T07:42:02Z</dcterms:modified>
  <cp:revision>8</cp:revision>
  <dc:subject/>
  <dc:title>Beroepshouding</dc:title>
</cp:coreProperties>
</file>