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6E0C4-6D3F-406E-A2E5-7B1B3D13C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BD40E-0D56-4D75-AC5A-30B771B31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E8B6D-4F0C-4F3D-A428-22EC0DCCF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1F592-7933-4D21-9B9C-8AF41F454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CFFB8-36CD-483C-81D5-E917F75E2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233AA-B0CE-4821-BB6A-292FA599D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A172B-5952-4328-9E12-B40CD9CF1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62E87-EF18-4BCE-A0E7-F50F415E7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56C03-F687-434F-AF37-886FDF318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7D7BA-43F6-4AD9-A410-F7B622DE6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FC925-EAD7-4D00-8203-3DA08F6A7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F0359-9593-424C-BD19-DA549FD7E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6F9A6-5369-416B-90CE-3D5AA2B9B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BA9C9-714F-47F0-800D-13292431C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A96A7-EAA6-405F-A2DB-8D67813BB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BA3CB-1B36-44DD-A5EB-E4336D81B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E1605-F2B1-40EC-A82A-6792063A2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35E39-8B0C-4657-ABAE-0801D2DFD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E7A29-04D7-4FCC-A5A5-EDAE9B39A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D36FA-F8B0-4550-9DF0-191E5222A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20FB1-BAE0-4B4F-B48B-F90136362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1754C-8E16-4DC3-9A50-B7D67843E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1B99A-FE91-4CBD-BB2E-CC3B4C3DA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8D0BD-5328-4DEC-AE30-5D541E3E9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3C0A0-E51D-445C-BD0D-18D3B7BB1133}" type="datetime">
              <a:rPr b="0" lang="nl-NL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31-07-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H Communicatie 20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D0148-DADD-45B8-9076-E6FBB567BCB2}" type="slidenum">
              <a:rPr b="0" lang="nl-NL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Arial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04E4D-5967-4933-B195-D133B1412D43}" type="datetime"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31-07-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Arial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NH Communicatie 20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Arial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6C776-1C48-4C6E-89E4-A5703F6D9C4F}" type="slidenum"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ijdelijke aanduiding voor datum 3"/>
          <p:cNvSpPr/>
          <p:nvPr/>
        </p:nvSpPr>
        <p:spPr>
          <a:xfrm>
            <a:off x="83808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12407-154C-4801-BDA8-68A4D94D1E2F}" type="datetime"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31-07-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ijdelijke aanduiding voor voettekst 4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NH Communicatie 2018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ijdelijke aanduiding voor dianummer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57D2A-3C99-4EC6-9B21-4C5C8BB90092}" type="slidenum"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385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b7"/>
                </a:solidFill>
                <a:latin typeface="Arial Black"/>
              </a:rPr>
              <a:t>ASSERTIVITEI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Je durft voor jezelf op te kom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Je durft je mening te uit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Je durft en kunt gevoelens uit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Je durft ‘NEE’ te zegg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Je durft initiatieven te nem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b7"/>
                </a:solidFill>
                <a:latin typeface="Arial Black"/>
              </a:rPr>
              <a:t>Je collega, vriend, vriendin, ouders……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4" name="Tijdelijke aanduiding voor inhoud 6" descr=""/>
          <p:cNvPicPr/>
          <p:nvPr/>
        </p:nvPicPr>
        <p:blipFill>
          <a:blip r:embed="rId1"/>
          <a:stretch/>
        </p:blipFill>
        <p:spPr>
          <a:xfrm>
            <a:off x="2881440" y="1905120"/>
            <a:ext cx="3921120" cy="4190760"/>
          </a:xfrm>
          <a:prstGeom prst="rect">
            <a:avLst/>
          </a:prstGeom>
          <a:ln w="0">
            <a:noFill/>
          </a:ln>
        </p:spPr>
      </p:pic>
      <p:sp>
        <p:nvSpPr>
          <p:cNvPr id="105" name="Tijdelijke aanduiding voor datum 3"/>
          <p:cNvSpPr/>
          <p:nvPr/>
        </p:nvSpPr>
        <p:spPr>
          <a:xfrm>
            <a:off x="83808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E126E-20D2-464E-8CC5-05AF690356A6}" type="datetime"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31-07-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ijdelijke aanduiding voor voettekst 4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NH Communicatie 201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ijdelijke aanduiding voor dianummer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8960F-2B30-4B9F-A601-8F0AAB34DA5B}" type="slidenum"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ijdelijke aanduiding voor datum 3"/>
          <p:cNvSpPr/>
          <p:nvPr/>
        </p:nvSpPr>
        <p:spPr>
          <a:xfrm>
            <a:off x="83808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3E27D-2577-4447-9B25-FC92D92FFBB3}" type="datetime"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31-07-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Tijdelijke aanduiding voor voettekst 4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NH Communicatie 201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ijdelijke aanduiding voor dianummer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E5667-6DE1-4D11-916D-3672A5A3EADF}" type="slidenum"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5888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b7"/>
                </a:solidFill>
                <a:latin typeface="Arial Black"/>
              </a:rPr>
              <a:t>Vervolg kenmerken assertiviteit: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3616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Je laat een ander in zijn waar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Je toont respect voor jezelf en ander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Afbeelding 1" descr=""/>
          <p:cNvPicPr/>
          <p:nvPr/>
        </p:nvPicPr>
        <p:blipFill>
          <a:blip r:embed="rId1"/>
          <a:stretch/>
        </p:blipFill>
        <p:spPr>
          <a:xfrm>
            <a:off x="3059280" y="3546360"/>
            <a:ext cx="2089080" cy="203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ijdelijke aanduiding voor datum 3"/>
          <p:cNvSpPr/>
          <p:nvPr/>
        </p:nvSpPr>
        <p:spPr>
          <a:xfrm>
            <a:off x="83808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27772-7FC0-4D6C-812C-9F1F2B69BDC5}" type="datetime"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31-07-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ijdelijke aanduiding voor voettekst 4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NH Communicatie 201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ijdelijke aanduiding voor dianummer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94989-5136-445A-BD9A-12B68438DD0A}" type="slidenum"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385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b7"/>
                </a:solidFill>
                <a:latin typeface="Arial Black"/>
              </a:rPr>
              <a:t>SUB-ASSERTIVITEIT: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Je laat over je heen lop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Je stelt je afhankelijk o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Je durft geen ‘NEE’ te zegg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Je bent bang een conflict uit te lokk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Een ander gaat voor…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Je durft geen initiatief te ton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Je blijft vaak op de achtergro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0" name="Tijdelijke aanduiding voor inhoud 6" descr=""/>
          <p:cNvPicPr/>
          <p:nvPr/>
        </p:nvPicPr>
        <p:blipFill>
          <a:blip r:embed="rId1"/>
          <a:stretch/>
        </p:blipFill>
        <p:spPr>
          <a:xfrm>
            <a:off x="3203640" y="2168640"/>
            <a:ext cx="3006720" cy="2916000"/>
          </a:xfrm>
          <a:prstGeom prst="rect">
            <a:avLst/>
          </a:prstGeom>
          <a:ln w="0">
            <a:noFill/>
          </a:ln>
        </p:spPr>
      </p:pic>
      <p:sp>
        <p:nvSpPr>
          <p:cNvPr id="121" name="Tijdelijke aanduiding voor datum 3"/>
          <p:cNvSpPr/>
          <p:nvPr/>
        </p:nvSpPr>
        <p:spPr>
          <a:xfrm>
            <a:off x="83808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037D4-E686-4039-ABD9-52A0735B543F}" type="datetime"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31-07-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ijdelijke aanduiding voor voettekst 4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NH Communicatie 201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ijdelijke aanduiding voor dianummer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6907B-C4DC-4640-B317-560A00AA9BB7}" type="slidenum"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ijdelijke aanduiding voor datum 3"/>
          <p:cNvSpPr/>
          <p:nvPr/>
        </p:nvSpPr>
        <p:spPr>
          <a:xfrm>
            <a:off x="83808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F3B0B-DFBB-457A-A9C3-602BA63F90E2}" type="datetime"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31-07-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Tijdelijke aanduiding voor voettekst 4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NH Communicatie 201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ijdelijke aanduiding voor dianummer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E3EA5-B4FF-4428-97B2-B82482E930E9}" type="slidenum"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385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b7"/>
                </a:solidFill>
                <a:latin typeface="Arial Black"/>
              </a:rPr>
              <a:t>GEVOLG assertief gedrag: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Anderen houden rekening met jo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Je hebt zelfvertrouw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Goede wederzijdse communicati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Betere rela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Respect van ander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Voor je mening opkomen zonder anderen te kwets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ijdelijke aanduiding voor datum 3"/>
          <p:cNvSpPr/>
          <p:nvPr/>
        </p:nvSpPr>
        <p:spPr>
          <a:xfrm>
            <a:off x="83808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DABFE-1A9B-429E-8DE9-8EB17F4D1487}" type="datetime"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31-07-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ijdelijke aanduiding voor voettekst 4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NH Communicatie 201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ijdelijke aanduiding voor dianummer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6D424-13D9-42C4-9583-57F91D8FBB1E}" type="slidenum"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b7"/>
                </a:solidFill>
                <a:latin typeface="Arial Black"/>
              </a:rPr>
              <a:t>GEVOLG sub assertief gedrag: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Anderen houden geen rekening met jo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Weinig zelfvertrouw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Weinig zelfresp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Weinig respect van ander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Frustrati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ijdelijke aanduiding voor datum 3"/>
          <p:cNvSpPr/>
          <p:nvPr/>
        </p:nvSpPr>
        <p:spPr>
          <a:xfrm>
            <a:off x="83808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BD593-6C40-4E03-8CDB-04B49F308788}" type="datetime"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31-07-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Tijdelijke aanduiding voor voettekst 4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NH Communicatie 201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Tijdelijke aanduiding voor dianummer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2E494-967B-4C60-BF21-C7BB71212871}" type="slidenum"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385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b7"/>
                </a:solidFill>
                <a:latin typeface="Arial Black"/>
              </a:rPr>
              <a:t>AGRESSIEF gedrag: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Voor je mening opkomen daarbij geen rekening houden met de and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De ander de mond snoeren of belachelijk mak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Je zin doordrijven, overheers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De ander niet aan het woord lat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ijdelijke aanduiding voor datum 3"/>
          <p:cNvSpPr/>
          <p:nvPr/>
        </p:nvSpPr>
        <p:spPr>
          <a:xfrm>
            <a:off x="83808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F4994-C23A-462C-A330-1E2C0BB0E074}" type="datetime"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31-07-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Tijdelijke aanduiding voor voettekst 4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NH Communicatie 201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ijdelijke aanduiding voor dianummer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1DC9C-6CDF-41B3-9559-51A75A8E419B}" type="slidenum"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385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b7"/>
                </a:solidFill>
                <a:latin typeface="Arial Black"/>
              </a:rPr>
              <a:t>GEVOLG: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Gevoel van mach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Conflict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Verlies van rela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Weinig respect van ander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Afbeelding 1" descr=""/>
          <p:cNvPicPr/>
          <p:nvPr/>
        </p:nvPicPr>
        <p:blipFill>
          <a:blip r:embed="rId1"/>
          <a:stretch/>
        </p:blipFill>
        <p:spPr>
          <a:xfrm>
            <a:off x="4643280" y="4365720"/>
            <a:ext cx="2592720" cy="173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6T21:39:12Z</dcterms:created>
  <dc:creator>Henk Hermsen</dc:creator>
  <dc:description/>
  <dc:language>en-US</dc:language>
  <cp:lastModifiedBy>Nienke Hoogeveen</cp:lastModifiedBy>
  <dcterms:modified xsi:type="dcterms:W3CDTF">2019-06-27T09:52:08Z</dcterms:modified>
  <cp:revision>9</cp:revision>
  <dc:subject/>
  <dc:title>ASSERTIVITEIT</dc:title>
</cp:coreProperties>
</file>