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CA63-B816-48BA-A433-3B3BBF13E6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71D9-A591-4CE1-AFC5-8ED88FACDF8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C152-E697-41E4-904D-321D54DB45A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B6C3-F727-402F-B0B0-002A5B0037E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BEA5-D527-42ED-8A47-C1005099B40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1CB2-BEFB-4A1F-A2FA-A1EAC25BB42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543DB-D1F4-40A1-B3B9-49390AFD3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272E9-41EC-42C8-B3DF-2D068A2D0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64697-8EAE-4AA3-9DB1-B3790BC98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AF351-8A07-4755-B916-6D3A1C86F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2ED085-DA7C-4902-A4F8-9105C1DB6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961A1E-AFA4-402D-A87A-2B8EF8CD8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B9405E-5B73-4481-9381-0251DBE16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8B5B2B-D36E-49FA-B808-3D1E41A6A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864E3C-9825-4211-B41F-85B9DC626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7842CF-5FF0-485B-A5C2-62B346593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FB230C-8411-4885-B56C-8656141C8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1994-5BCA-4FAE-A9F8-E0E3F735F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2E8E0F-B96A-4AC6-900A-37870B88B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040B6C-A98C-4365-92A9-0D696D87A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A494B7-8657-4084-8FEA-43AF6D15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624CEE6-C64A-4475-B39D-9BDDE7F90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D54C47-7544-4E08-B398-A1F2D93AE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B071E-A60D-4BCE-8072-D3ADBE3A5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C18B-23A9-4CBB-AA6A-96F18B822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4349-0517-405A-B4CA-9CDCB723D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1DD3A-8D75-43B2-A7C5-6BC932BB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293F4-20A7-4317-838B-361A2E23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2314-3A5B-4972-A079-A44A5E6BD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7CBD-43CE-48F5-8BF0-4165BC230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5261-B3CB-4A3E-98AA-B7764906120E}" type="datetime">
              <a:rPr b="0" lang="nl-NL" sz="1200" spc="-1" strike="noStrike">
                <a:solidFill>
                  <a:srgbClr val="000000"/>
                </a:solidFill>
                <a:latin typeface="Arial"/>
              </a:rPr>
              <a:t>31-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F29C-2884-4126-AB48-D6DB0D6CB5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C898-09A0-4C14-BB8B-3C1350F40519}" type="datetime">
              <a:rPr b="0" lang="nl-NL" sz="1200" spc="-1" strike="noStrike">
                <a:solidFill>
                  <a:srgbClr val="ffffff"/>
                </a:solidFill>
                <a:latin typeface="Arial"/>
              </a:rPr>
              <a:t>31-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D2A8-F092-417D-93DB-2897129DC763}"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6226-5603-4A20-A47D-B0E70296E29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9036-2B90-4523-9B98-4492D2CB7E07}"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E463-A8A3-4FA7-909E-123F22B0161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E8A0-271C-4B63-9A21-762ADFCBD565}"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459F-2DA8-40AE-8A4E-745758E75F3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67FC-E0BF-486E-9261-E5E8DF42097B}"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2E78-1CA5-4C3F-AE02-87E0BDEADCB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50CD-9041-4981-969F-5EAC46E6F8A5}"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9485-9FC3-4709-95D7-80D5AD554CE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C930-15FF-4456-ACBA-DDCF0EE042C2}"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0C0E-F058-4F35-9A66-96F0ED51F8D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A546-4AF9-4CA5-BB0D-58564D202DC5}"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