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3034-BD09-43AD-9AF6-5069AB2BA76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B1BF-E2C4-4954-B0E2-D3FB0E1EA50F}"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AF77-79BC-4D11-A2F3-EBED5F0DD5FA}"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4489-3B47-4A1F-BB6B-538315AAABA4}"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6DC3D-9869-4987-98C2-3476AFCF661A}"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stantie bewaren: leed en de problemen van je cliënten te veel aantrekt, wordt het werk erg zwaar. Je neemt de dingen die je meemaakt mee naar huis, waardoor je je niet goed meer kunt ontspannen. De kunst is empathie op te brengen, maar daarin je grenzen te bewaken en een zekere afstand te bewar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B3FFC-64B5-4CD7-A6B3-5503D499A18E}"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EE870-DB05-42B2-A573-5B0A1A063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2B603-1A9B-4614-9721-5A35A6973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5D5D3-70A5-4027-87B7-201FE58D1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79DE4-98C6-4150-B781-FB683B4BB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A571A02-4DDA-4BC4-8671-F170575343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9EAC228-AF29-4765-92D9-46C85644D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8B79433-7863-42C1-9548-72CD4D3CD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554BCBB-126D-4AEA-8450-7F7A91868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639E5C6-A7F4-4D66-AB7D-423C71686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D82433C-30B4-480D-A677-DD527B775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6B9A02B-2A2F-4FB5-80FD-686474448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78945-29CF-49F3-A62F-06C9127AD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0399684-B301-435E-B6C9-575BCC486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806498B-0A09-463F-8A2A-42C24A721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8A364F4-246A-47BE-A83C-DF47E10C7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99AF1A9-8EE2-47BF-9E12-0F3B51D52F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3DB31BE-2138-4D96-BE47-902EBB7C9A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F32B3-3072-4F80-BEE3-816B9AEE0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60BCD-6E32-4053-B181-815BC29CC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C4267-040D-4719-95C0-9245AE5B1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6758D-6238-4155-AB19-AB414168F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26C0B-C92E-4F08-9999-74547E2B5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C9F30-5D31-4E1B-BEA2-0B2B0F53E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9DAB9-44C4-4E6E-ADE6-656E87D08C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0DBD5-2117-41C9-8FA8-9AA87B7351FD}" type="datetime">
              <a:rPr b="0" lang="nl-NL" sz="1200" spc="-1" strike="noStrike">
                <a:solidFill>
                  <a:srgbClr val="000000"/>
                </a:solidFill>
                <a:latin typeface="Arial"/>
              </a:rPr>
              <a:t>29-07-26</a:t>
            </a:fld>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A 2018 2019 NH</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35B7-2F63-4185-A49C-1B16821606A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435A3-6E2A-4473-A41F-21B4777982AA}" type="datetime">
              <a:rPr b="0" lang="nl-NL" sz="1200" spc="-1" strike="noStrike">
                <a:solidFill>
                  <a:srgbClr val="ffffff"/>
                </a:solidFill>
                <a:latin typeface="Arial"/>
              </a:rPr>
              <a:t>29-07-26</a:t>
            </a:fld>
            <a:endParaRPr b="0" lang="en-US" sz="1200" spc="-1" strike="noStrike">
              <a:solidFill>
                <a:srgbClr val="000000"/>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17DDC-C3AC-4186-AB27-61A920B801A9}"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A594-51CA-4CA5-BBFD-4D150B93F27D}"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Beroepshouding</a:t>
            </a:r>
            <a:br>
              <a:rPr sz="1800"/>
            </a:br>
            <a:br>
              <a:rPr sz="1800"/>
            </a:br>
            <a:r>
              <a:rPr b="0" lang="en-US" sz="1800" spc="-1" strike="noStrike">
                <a:solidFill>
                  <a:srgbClr val="ff0000"/>
                </a:solidFill>
                <a:latin typeface="Arial"/>
              </a:rPr>
              <a:t>.</a:t>
            </a:r>
            <a:br>
              <a:rPr sz="1800"/>
            </a:br>
            <a:endParaRPr b="0" lang="en-US" sz="1800" spc="-1" strike="noStrike">
              <a:solidFill>
                <a:srgbClr val="e3e3ff"/>
              </a:solidFill>
              <a:latin typeface="Arial"/>
            </a:endParaRPr>
          </a:p>
        </p:txBody>
      </p:sp>
      <p:sp>
        <p:nvSpPr>
          <p:cNvPr id="131" name="PlaceHolder 2"/>
          <p:cNvSpPr>
            <a:spLocks noGrp="1"/>
          </p:cNvSpPr>
          <p:nvPr>
            <p:ph/>
          </p:nvPr>
        </p:nvSpPr>
        <p:spPr>
          <a:xfrm>
            <a:off x="456840" y="1599840"/>
            <a:ext cx="8077320" cy="5257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rondhouding</a:t>
            </a:r>
            <a:r>
              <a:rPr b="0" lang="en-US" sz="3200" spc="-1" strike="noStrike">
                <a:solidFill>
                  <a:srgbClr val="ffffff"/>
                </a:solidFill>
                <a:latin typeface="Arial"/>
              </a:rPr>
              <a:t> </a:t>
            </a:r>
            <a:r>
              <a:rPr b="0" lang="en-US" sz="3200" spc="-1" strike="noStrike">
                <a:solidFill>
                  <a:srgbClr val="ff0000"/>
                </a:solidFill>
                <a:latin typeface="Arial"/>
              </a:rPr>
              <a:t>Attitud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1" lang="nl-NL" sz="2400" spc="-1" strike="noStrike">
                <a:solidFill>
                  <a:srgbClr val="ffffff"/>
                </a:solidFill>
                <a:latin typeface="Arial"/>
              </a:rPr>
              <a:t>hoe je over iets of iemand denk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wat ook je gedrag bepaalt)</a:t>
            </a:r>
            <a:endParaRPr b="0" lang="en-US" sz="2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eroepshoud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ffffff"/>
              </a:solidFill>
              <a:latin typeface="Arial"/>
            </a:endParaRPr>
          </a:p>
        </p:txBody>
      </p:sp>
      <p:sp>
        <p:nvSpPr>
          <p:cNvPr id="13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C56CE-D95A-4382-916D-16FA6836595B}"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3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48C6E-FA31-4DF9-BF29-31E3C205E740}"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houding</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ier waarop je je gedraagt in situa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v. andere mensen of gebeurteniss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t is je attitud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 bestaat ui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weet (kenn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voelt (emoti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zult doen (handel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2087-C2A3-435A-A901-58897434DFDA}"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3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E745-19BA-4581-A529-FDF7506F51A7}"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beroepshouding</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uit de grondhoud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EN BEROEPSHOUD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wikkelen</a:t>
            </a:r>
            <a:r>
              <a:rPr b="0" lang="en-US" sz="2800" spc="-1" strike="noStrike">
                <a:solidFill>
                  <a:srgbClr val="ff0000"/>
                </a:solidFill>
                <a:latin typeface="Arial"/>
              </a:rPr>
              <a:t>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4BAD2-828D-443E-860B-6133DC271E20}"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4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E4AE9-C684-47EA-9A9B-868D115FCB5C}"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specten van grondhouding</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iste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angstelling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ath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tie bewa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t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theid</a:t>
            </a:r>
            <a:endParaRPr b="0" lang="en-US" sz="3200" spc="-1" strike="noStrike">
              <a:solidFill>
                <a:srgbClr val="ffffff"/>
              </a:solidFill>
              <a:latin typeface="Arial"/>
            </a:endParaRPr>
          </a:p>
        </p:txBody>
      </p:sp>
      <p:sp>
        <p:nvSpPr>
          <p:cNvPr id="14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269B-DFAB-4528-8ABF-29E6CAF56E74}"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4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iswerk;</a:t>
            </a:r>
            <a:br>
              <a:rPr sz="4400"/>
            </a:br>
            <a:endParaRPr b="0" lang="en-US" sz="4400" spc="-1" strike="noStrike">
              <a:solidFill>
                <a:srgbClr val="e3e3ff"/>
              </a:solidFill>
              <a:latin typeface="Arial"/>
            </a:endParaRPr>
          </a:p>
        </p:txBody>
      </p:sp>
      <p:sp>
        <p:nvSpPr>
          <p:cNvPr id="150" name=""/>
          <p:cNvSpPr txBox="1"/>
          <p:nvPr/>
        </p:nvSpPr>
        <p:spPr>
          <a:xfrm>
            <a:off x="457200" y="1600200"/>
            <a:ext cx="8229600" cy="44956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ek op internet kwalificatie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dossier tandartsassistent</a:t>
            </a: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Tijdelijke aanduiding voor dianumm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D46A-0782-4D14-8F94-9AFB6A1B84E3}"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Tijdelijke aanduiding voor datum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F334-64D4-4EBE-94C3-42710F3CD3BF}"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53"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8FA2E-5148-4295-ABD6-A8979412DBB3}"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t heeft de assistent nodig??</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s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tief</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wge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lijkwaardig behandele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p:txBody>
      </p:sp>
      <p:sp>
        <p:nvSpPr>
          <p:cNvPr id="157"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antwoordelijkheid</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ei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nti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rouwbaar zij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ktisch</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4BE75-D0A7-431F-B6EB-047C475EB78B}"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59"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9:50:18Z</dcterms:created>
  <dc:creator>Nienke</dc:creator>
  <dc:description/>
  <dc:language>en-US</dc:language>
  <cp:lastModifiedBy>Nienke Hoogeveen</cp:lastModifiedBy>
  <dcterms:modified xsi:type="dcterms:W3CDTF">2018-10-29T07:42:02Z</dcterms:modified>
  <cp:revision>8</cp:revision>
  <dc:subject/>
  <dc:title>Beroepshouding</dc:title>
</cp:coreProperties>
</file>