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0A29-0841-4FEB-93B5-15F4AE701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9937-D77D-43C7-BE7E-881A25D22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3FDA-0161-495A-8B31-02BEC5224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44F0-5299-4474-B938-103EF81A9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3D0CA-395F-4974-A8EA-84139F9FA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F817B-9D0A-4CB5-80E4-80048699A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C3FC9-33FA-4455-B0F1-32B8EDEEF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5CED1-4C06-4A11-87C2-889705CB4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E8D8B-05DC-4EB0-8979-D30EFF079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DC814-DF09-4858-8DD1-737EFB8C6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B5CA0-B2F8-425C-8120-8C2397D2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D948-57CB-47A4-B114-262BFF1CB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AC526-FD2A-4CB4-8FD4-536720DC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015B1-7D98-4CBC-92F8-43CACF06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CDBD6-83C4-46D5-9D6F-F7D7B4B92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483C6-199D-4BED-A2D8-4EE790E78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95235-02EB-4777-B395-E1545F9E5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C8E3-BAE6-4237-BFDE-534FDA2B7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C598-182E-494F-A8E8-3EF661DAE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CB56-19D3-4014-8B2D-08EAE123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3628-7A3D-4946-891D-3E5E702A3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865A-4693-4CFE-A267-4BDEF828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7173-33E4-49C7-9749-CAF8938F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42E6-DBDC-4D13-A3AA-6C8EC234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3F2A0-CAD3-4B84-BE68-EED3F00C5539}" type="datetime">
              <a:rPr b="0" lang="nl-N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04C21-D132-4EC5-941B-8C8DAE85E90B}" type="slidenum">
              <a:rPr b="0" lang="nl-N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2D6CC-4360-47F3-8A24-D3314D1D71CA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9135A-3E8A-4A0D-A51C-778B56B53DAD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3BB5-B9F6-4D7B-A8B8-6FC35705765C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3FF68-0141-4E50-B302-17866B5E3D63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ASSERTIVITEI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voor jezelf op te ko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je mening te ui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en kunt gevoelens ui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‘NEE’ te zeg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initiatieven te ne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Je collega, vriend, vriendin, ouders…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4" name="Tijdelijke aanduiding voor inhoud 6" descr=""/>
          <p:cNvPicPr/>
          <p:nvPr/>
        </p:nvPicPr>
        <p:blipFill>
          <a:blip r:embed="rId1"/>
          <a:stretch/>
        </p:blipFill>
        <p:spPr>
          <a:xfrm>
            <a:off x="2881440" y="1905120"/>
            <a:ext cx="3921120" cy="4190760"/>
          </a:xfrm>
          <a:prstGeom prst="rect">
            <a:avLst/>
          </a:prstGeom>
          <a:ln w="0">
            <a:noFill/>
          </a:ln>
        </p:spPr>
      </p:pic>
      <p:sp>
        <p:nvSpPr>
          <p:cNvPr id="105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741EB-3C9B-413D-A40C-617A2DB1042D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70C2C-8592-456E-9714-88EF96A5318A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B0255-7390-44EB-89A0-4F22C0481B5D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A67CE-F6DF-4D85-A0B0-314C799F8AC9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Vervolg kenmerken assertiviteit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3616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laat een ander in zijn waar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toont respect voor jezelf en and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Afbeelding 1" descr=""/>
          <p:cNvPicPr/>
          <p:nvPr/>
        </p:nvPicPr>
        <p:blipFill>
          <a:blip r:embed="rId1"/>
          <a:stretch/>
        </p:blipFill>
        <p:spPr>
          <a:xfrm>
            <a:off x="3059280" y="3546360"/>
            <a:ext cx="2089080" cy="20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6275F-C150-43E9-8BC8-A9901C779B7C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240F1-6F2B-4544-B018-D28912126018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SUB-ASSERTIVITEIT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laat over je heen lo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stelt je afhankelijk 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geen ‘NEE’ te zeg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bent bang een conflict uit te lok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Een ander gaat voor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geen initiatief te to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blijft vaak op de achtergr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0" name="Tijdelijke aanduiding voor inhoud 6" descr=""/>
          <p:cNvPicPr/>
          <p:nvPr/>
        </p:nvPicPr>
        <p:blipFill>
          <a:blip r:embed="rId1"/>
          <a:stretch/>
        </p:blipFill>
        <p:spPr>
          <a:xfrm>
            <a:off x="3203640" y="2168640"/>
            <a:ext cx="3006720" cy="2916000"/>
          </a:xfrm>
          <a:prstGeom prst="rect">
            <a:avLst/>
          </a:prstGeom>
          <a:ln w="0">
            <a:noFill/>
          </a:ln>
        </p:spPr>
      </p:pic>
      <p:sp>
        <p:nvSpPr>
          <p:cNvPr id="121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30FDB-4734-42D4-9C84-DA994FC5AB98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A9496-CBFD-472C-BD0E-980777B43E7C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579C0-6169-43D4-9C61-90468A124B76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A848F-1018-490C-B5D8-65EDD9D39B53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GEVOLG assertief gedrag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nderen houden rekening met j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hebt zelfvertrouw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oede wederzijdse communic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tere rela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Respect van and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 je mening opkomen zonder anderen te kwets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6735A-60D7-4DA6-97E3-74346E911716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43709-0B05-4D0F-A503-1FC4716FCAAE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GEVOLG sub assertief gedrag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nderen houden geen rekening met j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inig zelfvertrouw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inig zelfresp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inig respect van and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Frustr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66054-696A-4682-8921-25F1B57820BA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DCEAD-D7D9-4F6A-982F-4BE2E003D1B6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AGRESSIEF gedrag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 je mening opkomen daarbij geen rekening houden met de a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 ander de mond snoeren of belachelijk ma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zin doordrijven, overheers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 ander niet aan het woord la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FBFA5-6456-4C3C-B39D-B64B2E60031F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1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2C144-0E8F-4E1D-AAFC-8AF391D13967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GEVOLG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voel van mac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Conflic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erlies van rela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inig respect van and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Afbeelding 1" descr=""/>
          <p:cNvPicPr/>
          <p:nvPr/>
        </p:nvPicPr>
        <p:blipFill>
          <a:blip r:embed="rId1"/>
          <a:stretch/>
        </p:blipFill>
        <p:spPr>
          <a:xfrm>
            <a:off x="4643280" y="4365720"/>
            <a:ext cx="2592720" cy="17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21:39:12Z</dcterms:created>
  <dc:creator>Henk Hermsen</dc:creator>
  <dc:description/>
  <dc:language>en-US</dc:language>
  <cp:lastModifiedBy>Nienke Hoogeveen</cp:lastModifiedBy>
  <dcterms:modified xsi:type="dcterms:W3CDTF">2019-06-27T09:52:08Z</dcterms:modified>
  <cp:revision>9</cp:revision>
  <dc:subject/>
  <dc:title>ASSERTIVITEIT</dc:title>
</cp:coreProperties>
</file>