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654F-0594-4831-9A86-A719B235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0A2-FC89-43DF-BD5B-52806EA8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99D-90D5-4AEB-84DA-428CC557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BD9-F923-4422-B306-EA786989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16CD-C6E3-4C83-9837-71E383F0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C375-16D7-4FA8-ACF2-0C3695AF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0704-6BBC-4530-B6D7-D61B838E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6E59-F547-4B37-9A6E-D3550276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0190-5439-44F3-925A-7A19EF56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C6A4-AD0D-4C6D-A415-F99B021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8A54-ECD0-472E-B001-1948C34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C2B-5DE9-4A7B-A863-A1ACE2C7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2C9A-B7A8-4946-960C-9F8CA28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AD27-93BA-4032-AA00-99ED9AF1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E481-A64F-4AD3-9B0E-48EE4D86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819-FAFB-4197-894E-9E788626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5E8E-C6C6-4071-9F07-3C3D91EA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A8B-FB53-4A53-B6CD-1A8D19D9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C67-8226-438E-B2D7-8C0A906F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3D7-040B-4B0C-9267-A064CB79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290-2E8F-44AA-9666-5F8CDC0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C60-8163-42C2-9FA9-DE6BA704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497-AB52-40A2-BC8F-033BC19F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99C-4504-4972-93DF-E5BCDCC5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D4DF-6956-40C0-99C0-1C3F8F743B89}" type="datetime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3525-6A62-4E9F-98C0-4AE8C83EA230}" type="slidenum">
              <a:rPr b="0" lang="nl-N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F63-FA1E-4C31-8110-2C8EE99B810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7AFE-E160-4BFF-97FB-73D24E5730A6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994A-AF7D-4FB6-9377-1CF6516B2425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68DC-77DA-4650-A284-D63D3F2D4DB5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ASSERTIVITE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voor jezelf op te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je mening te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en kunt gevoelens u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initiatieven te n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Je collega, vriend, vriendin, ouders…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2881440" y="1905120"/>
            <a:ext cx="3921120" cy="4190760"/>
          </a:xfrm>
          <a:prstGeom prst="rect">
            <a:avLst/>
          </a:prstGeom>
          <a:ln w="0">
            <a:noFill/>
          </a:ln>
        </p:spPr>
      </p:pic>
      <p:sp>
        <p:nvSpPr>
          <p:cNvPr id="105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D072-1FC7-4A56-B157-48CDDD615FEF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5D19-CA95-4351-96D7-0146675048CF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AA77-B63B-4F04-A0D6-18A4A6DC1400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FE7D-8CCC-4B5C-A569-CCE97E92CA9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Vervolg kenmerken 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een ander in zijn waar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toont respect voor jezelf e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Afbeelding 1" descr=""/>
          <p:cNvPicPr/>
          <p:nvPr/>
        </p:nvPicPr>
        <p:blipFill>
          <a:blip r:embed="rId1"/>
          <a:stretch/>
        </p:blipFill>
        <p:spPr>
          <a:xfrm>
            <a:off x="3059280" y="3546360"/>
            <a:ext cx="20890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FEA8-33A3-4A7A-B70F-C07967A81F7E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6C4-4039-49CD-89E1-0A40A6257C5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SUB-ASSERTIVITEIT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laat over je heen l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stelt je afhankelijk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‘NEE’ te zeg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ent bang een conflict uit te lo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ander gaat voor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urft geen initiatief te to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blijft vaak op de achtergr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Tijdelijke aanduiding voor inhoud 6" descr=""/>
          <p:cNvPicPr/>
          <p:nvPr/>
        </p:nvPicPr>
        <p:blipFill>
          <a:blip r:embed="rId1"/>
          <a:stretch/>
        </p:blipFill>
        <p:spPr>
          <a:xfrm>
            <a:off x="3203640" y="2168640"/>
            <a:ext cx="3006720" cy="2916000"/>
          </a:xfrm>
          <a:prstGeom prst="rect">
            <a:avLst/>
          </a:prstGeom>
          <a:ln w="0">
            <a:noFill/>
          </a:ln>
        </p:spPr>
      </p:pic>
      <p:sp>
        <p:nvSpPr>
          <p:cNvPr id="121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B9E2-7935-4C40-ACC0-84CF71AFBFB2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4980-31E8-49D5-A321-7582C888AF7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5ADD-13E2-4AD4-8AD2-B5C755957B61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C44-9C15-4DA7-825C-5B7AC50FEE24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hebt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oede wederzijds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tere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zonder anderen te kwet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B316-71F9-44D5-87EB-B5318665D5AA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D29D-2FAC-44F9-A92C-C3414EC9C452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 sub assert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deren houden geen rekening met j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vertrouw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zelfresp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rustr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DE0A-4C71-474A-89D1-26EC0E336637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B7F8-199A-469D-9B27-FE015AB9541C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AGRESSIEF gedra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je mening opkomen daarbij geen rekening houden met de a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de mond snoeren of belachelijk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zin doordrijven, overheer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nder niet aan het woord l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atum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2049-EC2C-4EC9-8249-A623C6BF2DA9}" type="datetime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H Communicatie 20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42D-55E2-4AA0-92E2-D3A5E68FABF0}" type="slidenum">
              <a:rPr b="0" lang="nl-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b7"/>
                </a:solidFill>
                <a:latin typeface="Arial Black"/>
              </a:rPr>
              <a:t>GEVOLG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el van m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flic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lies van rel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inig respect van an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Afbeelding 1" descr=""/>
          <p:cNvPicPr/>
          <p:nvPr/>
        </p:nvPicPr>
        <p:blipFill>
          <a:blip r:embed="rId1"/>
          <a:stretch/>
        </p:blipFill>
        <p:spPr>
          <a:xfrm>
            <a:off x="4643280" y="4365720"/>
            <a:ext cx="259272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12Z</dcterms:created>
  <dc:creator>Henk Hermsen</dc:creator>
  <dc:description/>
  <dc:language>en-US</dc:language>
  <cp:lastModifiedBy>Nienke Hoogeveen</cp:lastModifiedBy>
  <dcterms:modified xsi:type="dcterms:W3CDTF">2019-06-27T09:52:08Z</dcterms:modified>
  <cp:revision>9</cp:revision>
  <dc:subject/>
  <dc:title>ASSERTIVITEIT</dc:title>
</cp:coreProperties>
</file>