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BAF2-D4A1-4A68-A3DA-EACF25FC69C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2425-3027-434E-8CE8-1FF2F89DA83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5309-4BA8-43E2-A6C6-357846C6D00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53C1-CB01-4404-829A-7EFA26A6D19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F692-B4B3-475F-8715-E08338DA51C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5682-4743-4957-8D99-471914AEC72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532D-01C6-4EEB-849E-D4F5CEB2309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8B6A-07A7-4163-B69D-F986299A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384-E914-4600-8BA0-847A6457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D3F-E68E-4D1F-844F-EC40E89B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882-65B9-4B8B-9460-52893BED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BB62-63AA-486D-B91F-CA90BFCE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EDAF-5D83-46B8-BDC4-CFB498E3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7F7C-F8B5-43E6-BDE7-3007E277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6A92-CB1F-453E-9F6D-BBE3D957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E904-56ED-47E1-AF05-DC9359E9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12D2-09F8-4FB4-BED7-A0E4748E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0208-A85B-4340-A69D-7682A37F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08F6-8898-4C3E-9DF3-FE65F12B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B031-D938-4D4E-916C-8E54BFDE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9D3C-8808-4EAC-A064-DB310892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4272-FEA3-4AD6-B14F-9DD99300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7C16-5510-476A-86F7-7C5959AC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33FE-9989-4E5D-895E-4B309B74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E5D1-BF77-40CC-B1A6-400B5BD9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F52-5674-49CD-B5F2-2A244802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E56A-F29F-4C6A-A124-E39E79FB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A06E-EB65-45DA-BD70-E3C5C94F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5E60-14BD-4A34-88F7-20A2EEEB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ABD-5F91-45D7-A9EA-D4E723C1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A771-1777-41B2-AFBE-A0A0F118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A57C-9846-4AAF-80C5-C532F22B8B8C}" type="datetime">
              <a:rPr b="0" lang="nl-NL" sz="1200" spc="-1" strike="noStrike">
                <a:solidFill>
                  <a:srgbClr val="000000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C54D-8388-448B-9F91-9C4D6797A108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470C-2FAD-4BA9-A436-C5128453B918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510C-76ED-4883-AA52-3C71F91E6151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Waarom gedraag ik mij zoals ik doe?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 gedraag jij je thuis, op school, bij vriend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 doe je dat z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ef 2 redenen voor je gedr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DF6B-6482-4821-8C40-5E02BD82F430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648E-9BCA-4B3E-B3F9-B82A926EFD1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Vervol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oek op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you tube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teriaal over gedrag, normen, waar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de opdracht over “ zelfbee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D699-D391-4C35-A7FD-8BCDAEC4DF83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1616-4172-419F-ACB2-5D23584A9048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343560" y="36576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Gedrag H 1.1. t/m 1.3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neembare activiteit van men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leerd (nur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boren gedrag (na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DD47-5FFD-42CC-AAE8-78BDFE66DD0B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FBE0-A253-4F48-AC4F-D15843C01FC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68E7-2885-4B7E-9AE2-659F0C7E377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anpassing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socialiseerd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vo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winkelwagen01"/>
          <p:cNvPicPr/>
          <p:nvPr/>
        </p:nvPicPr>
        <p:blipFill>
          <a:blip r:embed="rId1"/>
          <a:stretch/>
        </p:blipFill>
        <p:spPr>
          <a:xfrm>
            <a:off x="5029200" y="2347920"/>
            <a:ext cx="3124080" cy="2827440"/>
          </a:xfrm>
          <a:prstGeom prst="rect">
            <a:avLst/>
          </a:prstGeom>
          <a:ln w="0">
            <a:noFill/>
          </a:ln>
        </p:spPr>
      </p:pic>
      <p:sp>
        <p:nvSpPr>
          <p:cNvPr id="11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7385-2E4B-4A30-9490-5B44D5157D27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8E91-3D9D-4398-832F-F676DA22C0DD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ci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or allerlei processen lid worden van de maatschappi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en en waarden eigen m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B846-204A-4CFA-A833-3160027A6246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D3EE-94CC-46DB-B9CB-3A398B764CBB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edrag bepaald door;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moge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ef, emotioneel, fysi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2B88-7FB3-48DC-A17B-76D0B916E69B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BE8D-830D-4EB5-B2F4-EEF7E29D03F1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 persoon die ik  nu b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CAUMIFN0CAV8LK34CA1GQ892CA0K5GJPCAL6EPQCCAO3GVXUCAV9H8ZZCA0RE7KZCA1EMKIXCA2SKIR2CADJN3RVCA0JK1O2CAWWYM1JCA8QWR4DCAPGNGPOCAUS9EGFCAXG4BB5CAOYFTPGCAOHYKAJ"/>
          <p:cNvPicPr/>
          <p:nvPr/>
        </p:nvPicPr>
        <p:blipFill>
          <a:blip r:embed="rId1"/>
          <a:stretch/>
        </p:blipFill>
        <p:spPr>
          <a:xfrm>
            <a:off x="2255760" y="1716120"/>
            <a:ext cx="3318120" cy="3160800"/>
          </a:xfrm>
          <a:prstGeom prst="rect">
            <a:avLst/>
          </a:prstGeom>
          <a:ln w="0">
            <a:noFill/>
          </a:ln>
        </p:spPr>
      </p:pic>
      <p:sp>
        <p:nvSpPr>
          <p:cNvPr id="126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C1A2-8F66-4311-93CE-CAF106BE7E39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B6E3-757F-4B0D-BF14-DC225FB55589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en die mij be</a:t>
            </a: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vloedden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ders/opvoe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rienden/buren/buurt/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anl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5449-90D3-4204-9BCF-622FDB19AA8C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Maslov’s menselijke behoeftenschema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Tijdelijke aanduiding voor datum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1296-46BB-4533-BDA3-26413DD90AF4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05FA-5285-42EB-92DB-5A0389FAA727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118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Opdracht bij gedrag: 15 minu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ouw gedrag wordt gekenmerkt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ak een lijstje V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normen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( regel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waarden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zijn 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bruik het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normen en waarden spel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ierbi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52A6-7449-4353-990A-F85C647E022D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4BD2-1547-4E19-93B6-DF3E536EBCF3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9:41:31Z</dcterms:created>
  <dc:creator>Nienke</dc:creator>
  <dc:description/>
  <dc:language>en-US</dc:language>
  <cp:lastModifiedBy>Nienke Hoogeveen</cp:lastModifiedBy>
  <dcterms:modified xsi:type="dcterms:W3CDTF">2019-06-24T13:44:24Z</dcterms:modified>
  <cp:revision>14</cp:revision>
  <dc:subject/>
  <dc:title>Gedrag</dc:title>
</cp:coreProperties>
</file>