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BE6B-B371-4C0E-9704-8073F84098D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DB4A-D3D8-4816-9914-38C948EC7C6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68EA-60E6-4270-978E-31536DB96A0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5A53-24B4-4295-878A-C3F3C309A68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2A61-121B-42C7-920D-705EEA8D086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606B-859B-49E4-A198-026ABE13DB7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90A9-DE68-419A-B21B-71B17C207F0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67C-66CF-4D2F-83E4-F2BDDDA65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EDC-0CC0-4CE4-9754-CECD399C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C0D-E6A2-446E-9BBB-1344FBE6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BBA-11C3-4775-B4AC-C77D0AEA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4F95-D58A-4805-B5ED-8ABC2829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B376-AC03-4D87-A378-E0079EE2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D886-F3C6-4BA7-8684-B871C391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F3D8-DB11-4778-99FA-AFD5DBE7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0EB4-467A-4B6C-BBA1-A070F80D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CC2C-98C0-4603-8A3A-290CC61C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FA41-AE13-444B-BEE9-44A86E80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230-EF4A-48AF-A220-E67CC92E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8991-10CB-4489-B3E2-66517EA6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318B-AE0E-45EB-A249-04552C72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667E-BC4E-486B-AF4D-1F794656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AE50-52E4-485C-A1AB-744ADB35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37AB-63F5-418E-B53C-4F364969B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2F6-276F-495F-A872-AEB0CED1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570-4FD4-433C-8BFD-E5C4111A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27A-1F7C-4237-A3C7-F0195FB8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CBD-4612-435A-AE4F-690511A5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8814-15EA-4213-B131-54F59503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B8F-BF9F-4658-9583-2BE718BA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01B-87D2-4318-BE97-0DDD97C6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BB76-39B0-41DE-841E-EF3C5493F9DF}" type="datetime">
              <a:rPr b="0" lang="nl-NL" sz="1200" spc="-1" strike="noStrike">
                <a:solidFill>
                  <a:srgbClr val="000000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6A80-8E3A-4F91-A74C-5C3EBC5F326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B216-28E5-463B-98C1-7FAF67B603F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A8D6-AE18-4416-8FA2-82C02D69530F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Waarom gedraag ik mij zoals ik doe?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 gedraag jij je thuis, op school, bij vriend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om doe je dat z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2 redenen voor je gedra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DE25-2007-409B-A1FF-1E890E8375A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8C67-B5CB-4BDF-A49B-2B2E4CBD6DBE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Vervol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oek op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you tube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teriaal over gedrag, normen, waar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de opdracht over “ zelfbeel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9989-A4BD-4C30-81A6-27FC8F5A0DD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658F-EBB2-46A3-A024-55E51DD4621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6343560" y="3657600"/>
            <a:ext cx="18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Gedrag H 1.1. t/m 1.3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neembare activiteit van men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leerd (nur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geboren gedrag (n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1A3C-E6BD-4302-BE7A-520B72D2B4E5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5924-3657-4BC7-89FA-1719DDAB00BA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55DA-78B9-4F9D-A185-B5EFF6CD9B0F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anpassing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socialiseerd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vo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winkelwagen01"/>
          <p:cNvPicPr/>
          <p:nvPr/>
        </p:nvPicPr>
        <p:blipFill>
          <a:blip r:embed="rId1"/>
          <a:stretch/>
        </p:blipFill>
        <p:spPr>
          <a:xfrm>
            <a:off x="5029200" y="2347920"/>
            <a:ext cx="3124080" cy="2827440"/>
          </a:xfrm>
          <a:prstGeom prst="rect">
            <a:avLst/>
          </a:prstGeom>
          <a:ln w="0">
            <a:noFill/>
          </a:ln>
        </p:spPr>
      </p:pic>
      <p:sp>
        <p:nvSpPr>
          <p:cNvPr id="11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31E2-269F-49AC-971E-DCC7D9CD94CF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09D0-A4F8-4FFD-BB99-915EAA6D2EE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ci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or allerlei processen lid worden van de maatschappij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en en waarden eigen 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92B9-B5FD-4692-8E43-18C7CDD35CC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A89A-964E-41CB-8277-123CC93DDD7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edrag bepaald door;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ge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gnitief, emotioneel, fysi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D608-E0F7-41AB-B663-9778190C4BF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A745-3F34-4270-9AFE-C6E0F9872A6B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 persoon die ik  nu b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AUMIFN0CAV8LK34CA1GQ892CA0K5GJPCAL6EPQCCAO3GVXUCAV9H8ZZCA0RE7KZCA1EMKIXCA2SKIR2CADJN3RVCA0JK1O2CAWWYM1JCA8QWR4DCAPGNGPOCAUS9EGFCAXG4BB5CAOYFTPGCAOHYKAJ"/>
          <p:cNvPicPr/>
          <p:nvPr/>
        </p:nvPicPr>
        <p:blipFill>
          <a:blip r:embed="rId1"/>
          <a:stretch/>
        </p:blipFill>
        <p:spPr>
          <a:xfrm>
            <a:off x="2255760" y="1716120"/>
            <a:ext cx="3318120" cy="3160800"/>
          </a:xfrm>
          <a:prstGeom prst="rect">
            <a:avLst/>
          </a:prstGeom>
          <a:ln w="0">
            <a:noFill/>
          </a:ln>
        </p:spPr>
      </p:pic>
      <p:sp>
        <p:nvSpPr>
          <p:cNvPr id="126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4211-497D-4988-8908-348E39A76EB1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675F-4B05-4373-BAD4-15548BE63EDA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n die mij be</a:t>
            </a: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vloedden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ders/opvo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rienden/buren/buurt/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sisch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nl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gen keu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473B-A5FC-432F-9BF8-C63E152AEB93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Maslov’s menselijke behoeftenschema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Tijdelijke aanduiding voor datum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CA96-41A8-4D57-BBD1-0ADD53A392BE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AB0B-7570-47E9-86E9-BE10636D2540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11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Tahoma"/>
              </a:rPr>
              <a:t>Opdracht bij gedrag: 15 minu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ouw gedrag wordt gekenmerkt do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ak een lijstje V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normen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( regel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achterliggende waarden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zijn 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bruik het </a:t>
            </a:r>
            <a:r>
              <a:rPr b="0" lang="nl-NL" sz="3200" spc="-1" strike="noStrike">
                <a:solidFill>
                  <a:srgbClr val="3434ff"/>
                </a:solidFill>
                <a:latin typeface="Tahoma"/>
              </a:rPr>
              <a:t>normen en waarden spel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erbi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ijdelijke aanduiding voor datum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A941-BC26-479F-BA6A-475AD28EABB7}" type="datetime">
              <a:rPr b="0" lang="nl-NL" sz="1200" spc="-1" strike="noStrike">
                <a:solidFill>
                  <a:srgbClr val="ffffff"/>
                </a:solidFill>
                <a:latin typeface="Tahoma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drag NH 201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C3E0-CA78-40FA-BBFA-FA72117555E1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9:41:31Z</dcterms:created>
  <dc:creator>Nienke</dc:creator>
  <dc:description/>
  <dc:language>en-US</dc:language>
  <cp:lastModifiedBy>Nienke Hoogeveen</cp:lastModifiedBy>
  <dcterms:modified xsi:type="dcterms:W3CDTF">2019-06-24T13:44:24Z</dcterms:modified>
  <cp:revision>14</cp:revision>
  <dc:subject/>
  <dc:title>Gedrag</dc:title>
</cp:coreProperties>
</file>