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95E5-161B-47D0-920A-0662790C4A7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E81D-7502-44DA-90D3-9892CBF438C1}"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D032-B01C-4B8B-B9AD-5F4A8A3F569C}"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AC0D2-7077-4046-AA57-8DD660101033}"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D351-93C2-4392-85F6-A1DFA55EE93E}"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stantie bewaren: leed en de problemen van je cliënten te veel aantrekt, wordt het werk erg zwaar. Je neemt de dingen die je meemaakt mee naar huis, waardoor je je niet goed meer kunt ontspannen. De kunst is empathie op te brengen, maar daarin je grenzen te bewaken en een zekere afstand te bewar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1C31-864C-4149-871B-3B214B9A2CBC}"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6D87B-6F2E-4E65-A0F2-7DBB4448E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C2D26-20DB-4E0B-9373-26462BCF6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635D5-F574-4428-9F05-E24BBB29F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BCAD7-8383-4D15-B87D-5CE700F06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DA369F9-1B88-4505-B571-9FBCF5EA1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4319BE4-864E-418A-A8F6-B4F1DD250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16EA49F-BD5E-4589-9C41-5F903FE12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22D5115-0292-4F6C-9331-20498E923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B49E042-8EE3-4AD6-96E0-C553544E0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11D7CAB-F8B6-47CA-BCC4-A511F24B0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59A66B6-F278-4013-BF23-A3AAC3791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B6859-FE5F-4BDB-8FD4-8B52637BC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2E21C6F-0DA8-46E3-8287-EC7C7BAB0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5AD86E4-F00C-4477-85B8-5952F7C28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AACEA8A-BE0F-452E-A31E-FF4DBD508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2F64EDE-2651-4A28-B4C5-2392C0CC29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EB97C6C-7FAA-4898-B9A5-5D18327AD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81559-211F-4A9F-B9B8-13B08121F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E7B61-551E-428D-984D-F654E7483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55C7E-5005-4ED4-9492-32B395A2D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37778-2EEA-4EBA-8868-72EE100CC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C56AB-6CB3-4C3E-B4E9-7548DADB5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84B3E-6353-4BB9-942C-9429DE6B3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BDB28-DD46-4EFC-8602-5E2C78296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C486-010D-4B29-9D56-844AB3239A4D}" type="datetime">
              <a:rPr b="0" lang="nl-NL" sz="1200" spc="-1" strike="noStrike">
                <a:solidFill>
                  <a:srgbClr val="000000"/>
                </a:solidFill>
                <a:latin typeface="Arial"/>
              </a:rPr>
              <a:t>31-07-26</a:t>
            </a:fld>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A 2018 2019 NH</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E7F4-2B4B-4DE6-A9BC-0545C39D366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34C2-BAC7-4E0D-B124-A5E3586BD18B}" type="datetime">
              <a:rPr b="0" lang="nl-NL" sz="1200" spc="-1" strike="noStrike">
                <a:solidFill>
                  <a:srgbClr val="ffffff"/>
                </a:solidFill>
                <a:latin typeface="Arial"/>
              </a:rPr>
              <a:t>31-07-26</a:t>
            </a:fld>
            <a:endParaRPr b="0" lang="en-US" sz="1200" spc="-1" strike="noStrike">
              <a:solidFill>
                <a:srgbClr val="000000"/>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D69FE-5561-42B9-9E69-01BDC585166F}"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1851-61EE-464B-B8D8-6EF0A64277A1}"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Beroepshouding</a:t>
            </a:r>
            <a:br>
              <a:rPr sz="1800"/>
            </a:br>
            <a:br>
              <a:rPr sz="1800"/>
            </a:br>
            <a:r>
              <a:rPr b="0" lang="en-US" sz="1800" spc="-1" strike="noStrike">
                <a:solidFill>
                  <a:srgbClr val="ff0000"/>
                </a:solidFill>
                <a:latin typeface="Arial"/>
              </a:rPr>
              <a:t>.</a:t>
            </a:r>
            <a:br>
              <a:rPr sz="1800"/>
            </a:br>
            <a:endParaRPr b="0" lang="en-US" sz="1800" spc="-1" strike="noStrike">
              <a:solidFill>
                <a:srgbClr val="e3e3ff"/>
              </a:solidFill>
              <a:latin typeface="Arial"/>
            </a:endParaRPr>
          </a:p>
        </p:txBody>
      </p:sp>
      <p:sp>
        <p:nvSpPr>
          <p:cNvPr id="131" name="PlaceHolder 2"/>
          <p:cNvSpPr>
            <a:spLocks noGrp="1"/>
          </p:cNvSpPr>
          <p:nvPr>
            <p:ph/>
          </p:nvPr>
        </p:nvSpPr>
        <p:spPr>
          <a:xfrm>
            <a:off x="456840" y="1599840"/>
            <a:ext cx="8077320" cy="5257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rondhouding</a:t>
            </a:r>
            <a:r>
              <a:rPr b="0" lang="en-US" sz="3200" spc="-1" strike="noStrike">
                <a:solidFill>
                  <a:srgbClr val="ffffff"/>
                </a:solidFill>
                <a:latin typeface="Arial"/>
              </a:rPr>
              <a:t> </a:t>
            </a:r>
            <a:r>
              <a:rPr b="0" lang="en-US" sz="3200" spc="-1" strike="noStrike">
                <a:solidFill>
                  <a:srgbClr val="ff0000"/>
                </a:solidFill>
                <a:latin typeface="Arial"/>
              </a:rPr>
              <a:t>Attitud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1" lang="nl-NL" sz="2400" spc="-1" strike="noStrike">
                <a:solidFill>
                  <a:srgbClr val="ffffff"/>
                </a:solidFill>
                <a:latin typeface="Arial"/>
              </a:rPr>
              <a:t>hoe je over iets of iemand denk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wat ook je gedrag bepaalt)</a:t>
            </a:r>
            <a:endParaRPr b="0" lang="en-US" sz="2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eroepshoud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ffffff"/>
              </a:solidFill>
              <a:latin typeface="Arial"/>
            </a:endParaRPr>
          </a:p>
        </p:txBody>
      </p:sp>
      <p:sp>
        <p:nvSpPr>
          <p:cNvPr id="13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61D9-9DC2-4CEC-ACA1-E347DDB7B460}"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3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AA4B-FE92-4D0F-B5C0-9688E6932452}"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houding</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ier waarop je je gedraagt in situa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v. andere mensen of gebeurteniss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t is je attitud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 bestaat ui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weet (kenn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voelt (emoti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zult doen (handel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9B3C1-58D8-4979-918F-0CB7EA8AE8F4}"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3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E9727-9450-4501-8DE3-637219725ACC}"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beroepshouding</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uit de grondhoud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EN BEROEPSHOUD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wikkelen</a:t>
            </a:r>
            <a:r>
              <a:rPr b="0" lang="en-US" sz="2800" spc="-1" strike="noStrike">
                <a:solidFill>
                  <a:srgbClr val="ff0000"/>
                </a:solidFill>
                <a:latin typeface="Arial"/>
              </a:rPr>
              <a:t>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F39B-E42A-49F7-9DEA-4178FFCF417D}"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4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AAEC8-5FF2-4F4E-94D4-13A7ADF46078}"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specten van grondhouding</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iste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angstelling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ath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tie bewa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t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theid</a:t>
            </a:r>
            <a:endParaRPr b="0" lang="en-US" sz="3200" spc="-1" strike="noStrike">
              <a:solidFill>
                <a:srgbClr val="ffffff"/>
              </a:solidFill>
              <a:latin typeface="Arial"/>
            </a:endParaRPr>
          </a:p>
        </p:txBody>
      </p:sp>
      <p:sp>
        <p:nvSpPr>
          <p:cNvPr id="14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DF86-CA4C-4874-988A-246A8B095B8A}"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4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iswerk;</a:t>
            </a:r>
            <a:br>
              <a:rPr sz="4400"/>
            </a:br>
            <a:endParaRPr b="0" lang="en-US" sz="4400" spc="-1" strike="noStrike">
              <a:solidFill>
                <a:srgbClr val="e3e3ff"/>
              </a:solidFill>
              <a:latin typeface="Arial"/>
            </a:endParaRPr>
          </a:p>
        </p:txBody>
      </p:sp>
      <p:sp>
        <p:nvSpPr>
          <p:cNvPr id="150" name=""/>
          <p:cNvSpPr txBox="1"/>
          <p:nvPr/>
        </p:nvSpPr>
        <p:spPr>
          <a:xfrm>
            <a:off x="457200" y="1600200"/>
            <a:ext cx="8229600" cy="44956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ek op internet kwalificatie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dossier tandartsassistent</a:t>
            </a: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Tijdelijke aanduiding voor dianumm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0912-5799-405B-8C7B-1D76D977BAFA}"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Tijdelijke aanduiding voor datum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F794-C003-4C6A-AD26-7D8331E0ABBA}"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53"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8B9E-364C-445A-9C8C-F23AAFC00B33}"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t heeft de assistent nodig??</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s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tief</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wge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lijkwaardig behandele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p:txBody>
      </p:sp>
      <p:sp>
        <p:nvSpPr>
          <p:cNvPr id="157"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antwoordelijkheid</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ei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nti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rouwbaar zij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ktisch</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BC608-5299-4ED4-8781-B2F4A711144E}" type="datetime">
              <a:rPr b="0" lang="nl-NL" sz="1200" spc="-1" strike="noStrike">
                <a:solidFill>
                  <a:srgbClr val="ffffff"/>
                </a:solidFill>
                <a:latin typeface="Arial"/>
              </a:rPr>
              <a:t>31-07-26</a:t>
            </a:fld>
            <a:endParaRPr b="0" lang="en-US" sz="1200" spc="-1" strike="noStrike">
              <a:solidFill>
                <a:srgbClr val="ffffff"/>
              </a:solidFill>
              <a:latin typeface="Arial"/>
            </a:endParaRPr>
          </a:p>
        </p:txBody>
      </p:sp>
      <p:sp>
        <p:nvSpPr>
          <p:cNvPr id="159"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9:50:18Z</dcterms:created>
  <dc:creator>Nienke</dc:creator>
  <dc:description/>
  <dc:language>en-US</dc:language>
  <cp:lastModifiedBy>Nienke Hoogeveen</cp:lastModifiedBy>
  <dcterms:modified xsi:type="dcterms:W3CDTF">2018-10-29T07:42:02Z</dcterms:modified>
  <cp:revision>8</cp:revision>
  <dc:subject/>
  <dc:title>Beroepshouding</dc:title>
</cp:coreProperties>
</file>