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AA63-A3A8-4862-991A-F5E3702B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3E7-4C5B-4A44-8EFB-F3C028CD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58E-2382-4531-8191-08827CD8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F456-6F55-46A5-B6BE-C7B4DA41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2FF0-40E6-4E92-AFBA-7E944A35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AA71-86EF-44F8-96B8-CF6B60B5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9CC0-2D9F-49D7-BF2D-DA881451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0FEF-BE9D-40A7-B947-64CFE217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C773-04F3-4369-BE2A-545382D6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8C6D-553B-4DB1-A3BC-21A43FAC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CA5A-8D91-4F65-8B70-2DCE62C0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3239-D25A-4CD8-B57F-DD981497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62EA-6D20-4163-803F-345CB4A2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82B8-A5E4-4DC2-BFE9-758E70F0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D5F1-F06F-4A82-A17B-8C4B380E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313D-9508-4EE3-BBCD-FF7FF9EA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1979-8696-460E-A174-80F54277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F240-9048-477B-9377-3BA49DDA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CD4A-AC86-45CC-8671-250DF03F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E861-418A-4AB2-A5D9-4A1B3B76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0C32-0661-452B-8392-81EAA01C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D814-5FAE-44AC-BFCB-340A0F9C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D429-CE8B-49E7-ADF3-0F7BDCD0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95FC-59EF-4BCB-A526-85D30052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3DA4-D6E0-430D-9984-710BB3078E3F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4849-EB76-4C47-AE99-BDF33109BB46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BB59-A15F-410A-80DA-377FADBBFB0D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75C4-3058-476B-8055-ACAF6AC933F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7702-823B-4F46-8332-0DD4156FFA48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F849-0921-4451-B5CC-5456AE6EA7C2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9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9A0D-1784-47C0-8423-BD2276A48FC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5138-F6A6-4E97-AFCC-0C23F359E326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4E4D-54C4-4A49-9732-1ED5FAF64CB9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A221-E69D-44CA-B542-C09E3B438753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7D13-A6F9-47C2-8736-E7DE59230E35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1F2E-91D4-4202-A239-F5B90BF5625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geve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112C-8F34-4EBD-8F67-304C57568887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A23F-6132-46E5-B030-A9AE0D15191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D244-67CC-47FB-A838-DDB819A1AB42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A0D2-D432-4CC5-8C34-BFCA3066872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5B59-FE2F-42F5-9F21-7CB99AF5F550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736F-D4A3-45CA-88C2-F96AC920031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men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B13E-2910-4757-900C-D9F54EF49914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AA05-F90A-4765-8658-66CDFE920AC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ertel wat het je doet ( gevo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 vraag door, vraag na,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BC68-2008-406B-891A-C54A02CBE705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ED8F-77D3-4A59-8AE1-CB6889E523B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paal of je het wilt verande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0C8C-CE3E-4138-9FBF-790D87E58CB5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4A37-443E-470B-97C0-698C2949C0F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9-06-27T09:19:02Z</dcterms:modified>
  <cp:revision>13</cp:revision>
  <dc:subject/>
  <dc:title>Feedback</dc:title>
</cp:coreProperties>
</file>