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823D-3CB7-421F-B3C1-DE2C09F16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5B26-D572-4295-84B4-FD66C77E7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CC34-173F-4330-859C-462FD69E6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0335-1015-4118-843A-BEDA7A2AC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40285-2942-47AD-AD90-8E0B271ED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25A4D-FEC6-48E3-8277-E3DB2A0CA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CFC04-FA2C-49BF-BCD7-A72DDF503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72F59-9CD9-45D8-8D8E-B65E39D26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F04CE-800B-454D-AA06-A87B4EBB6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63734-B00C-4DDD-AB97-8B4189C38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DA223-5A97-4ACD-B00B-33F13F84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83E6-7A64-4FB4-8BD7-1A1A1CDA3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E7F97-5D8E-4153-A98A-A4C4C662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7A191-7FE9-42AA-A914-C39B8D97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816CC-E5C9-4A60-8F70-511E9EAF2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C5FEC-78C1-4133-B0F0-4E37A4E9D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626FA-D28F-4E49-A467-6CA884949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3C36-6088-47A7-817B-FD1D38B17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7A80-2BB4-4D59-B952-14C01B342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A0BB-2E0D-4CC1-BBC2-37E0A1796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2DCD-070F-4CD5-A932-B4CCB1AF5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135B-EA94-4E49-A0D6-59A36005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D91B-5270-4ED6-BE4D-CAB77739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6EC5-A59E-4EB1-B035-08EB8F72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575f6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418320" y="420120"/>
                <a:ext cx="4264920" cy="40356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1255320" y="1261080"/>
                <a:ext cx="2594520" cy="235728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16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4851360" y="506880"/>
                <a:ext cx="3634200" cy="340668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Oval 18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5563440" y="1216080"/>
                <a:ext cx="2207160" cy="19890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39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2611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6846C-587F-4883-8D76-02CD5A84BD6D}" type="datetime">
              <a:rPr b="1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3D9CC-74D3-466B-8E62-DDC427A655EF}" type="slidenum">
              <a:rPr b="1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575f6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3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4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5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"/>
                <p:cNvSpPr/>
                <p:nvPr/>
              </p:nvSpPr>
              <p:spPr>
                <a:xfrm>
                  <a:off x="418320" y="420120"/>
                  <a:ext cx="4264920" cy="40356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Oval 7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Oval 8"/>
                <p:cNvSpPr/>
                <p:nvPr/>
              </p:nvSpPr>
              <p:spPr>
                <a:xfrm>
                  <a:off x="1255320" y="1261080"/>
                  <a:ext cx="2594520" cy="235728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Oval 9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10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1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Oval 12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Oval 13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Oval 14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Oval 15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16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7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18"/>
                <p:cNvSpPr/>
                <p:nvPr/>
              </p:nvSpPr>
              <p:spPr>
                <a:xfrm>
                  <a:off x="4851360" y="506880"/>
                  <a:ext cx="3634200" cy="340668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19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Oval 20"/>
                <p:cNvSpPr/>
                <p:nvPr/>
              </p:nvSpPr>
              <p:spPr>
                <a:xfrm>
                  <a:off x="5563440" y="1216080"/>
                  <a:ext cx="2207160" cy="19890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Oval 21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Line 22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fe863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fe863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Line 24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fe8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39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2611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4E60D-353D-4B8D-B6FF-29A2C8C00F0C}" type="datetime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77818-5B9A-4182-956B-BDB2DB680F84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317A4-A5DE-455B-8D33-557EA932B320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FA51A-07C4-4275-956F-38CAE8AEF712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1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Feedback H9 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Is informatie van iemand over de effecten van het gedrag van een andere persoon op hem of ha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waarne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geen oorde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Terugkoppelen van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ijdelijke aanduiding voor datum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B5EDC-0B51-4660-96E1-F654A0114444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ijdelijke aanduiding voor dianumm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A8BAC-FC54-4D86-9269-4597C600D8C3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4" descr="C:\Users\kag.hoogeveen\OneDrive - Noorderpoort\Pictures\Pictures\images.png"/>
          <p:cNvPicPr/>
          <p:nvPr/>
        </p:nvPicPr>
        <p:blipFill>
          <a:blip r:embed="rId1"/>
          <a:stretch/>
        </p:blipFill>
        <p:spPr>
          <a:xfrm>
            <a:off x="3348000" y="1341360"/>
            <a:ext cx="40323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370DE-6127-43A4-A904-25135F6BC72F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24B5-E9B9-4AC8-BE4E-00CC0A1018E4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schil feedback en kritie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Kritiek is be- of veroordel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Feedback is beschrijven van waarneming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Kritiek wijst schuldige a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Feedback  geeft geen oorde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Kritiek eist gedragsverand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Feedback geeft keuzemogelijkhe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E60E2-52E0-4D94-BBC3-B9B466725718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5F9B0-7021-4702-AB2D-60E548A068C1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Regels voor geven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een ik-boodscha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je waarnem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het effect dat het op jou hee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Wees specifiek in tijd, plaa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lak na het voorv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31CA1-85AB-49FF-A6B8-9CCBAB82F508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64423-ED01-4041-8014-C362F1B42890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volg regels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alleen veranderbaar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de ander ruimte voor react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Iemand hoeft het niet met je eens te zij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Niet te veel ineens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7E8E0-0F9E-4ED8-9EF3-35E692EDA0F3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60A3D-4FCD-44A9-9959-921AFCE6D7B5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Doel van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duidelijkt relaties tussen person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je inzicht 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oe je met mensen omga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oe jij op mensen overkom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729DB-6CCC-486A-8C21-2E91D222F00A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F17BA-709E-4350-9EE2-3D736119EE60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volg doel van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groot je zelfkenn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Ondersteunt en bevordert positief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Corrigeert negatief of ongewenst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raagt bij aan effectieve communicat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duidelijkt relaties tussen mens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7BFDC-72B6-4349-9AE8-7E1799BAC11B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D3ABB-B47A-41A0-BAA6-E8394F61D1BC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Ontvangen van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1.luis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2 vertel wat het je doet ( gevoe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3 vraag door, vraag na, vat sam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Waardeer/beoordeel wat is gezeg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67CC3-6782-4B01-A32E-78EC3A84CDFD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2D181-4D24-431C-88C4-67CEC5179207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volg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enk er over na!!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paal of je het wilt verander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Pas je gedrag aan of ni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a niet in de verdedig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16541-EE50-4DAC-8CAD-9C192E4D82E8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4591F-C66B-4774-A42E-81624B245E38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enk na over een conflict(je) dat je had met je ouders/vrienden/st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Hoe verliep het confli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Noteer hoe je het volgens de feedback regels beter had kunnen oploss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tel dit aan de klas/groep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Opdracht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09:26:29Z</dcterms:created>
  <dc:creator>custom</dc:creator>
  <dc:description/>
  <dc:language>en-US</dc:language>
  <cp:lastModifiedBy>Nienke Hoogeveen</cp:lastModifiedBy>
  <dcterms:modified xsi:type="dcterms:W3CDTF">2019-06-27T09:19:02Z</dcterms:modified>
  <cp:revision>13</cp:revision>
  <dc:subject/>
  <dc:title>Feedback</dc:title>
</cp:coreProperties>
</file>