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DC3E-374E-4F4D-8010-8DC267BA8F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210D-FE87-4628-9C3D-980DB8D4A15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43DE-CDC2-4B7E-A53F-7C5CED7F35E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F47-6460-4C70-BF2D-3AD5B4CC7C0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8697-CA79-4BE1-A8FC-C6493F7C7D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80E9-721C-4DA6-A8D9-85A4A859EFC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0D9B-F091-46B2-91F7-A3DCFDD079C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3DC1-E5A6-4CBE-85CC-C4CCDC7B140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03FE-20DD-4774-A1D7-0988F060ED9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6599-464E-4BAC-B160-65D48B1E530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8470-ADE5-4076-8970-EEEA2173315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7702-1C00-40E0-BB81-07BF0E5F429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0475-BDB3-4479-8154-229DE31F739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A4E2-5FE9-44A9-B99E-977083217C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A219-77B6-4D0B-92DC-2A7ABD33665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9F0A-76E7-4FDD-8294-66A241E9915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407D-EE21-4131-B4DD-C22F2A7ECBA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263-B529-4A77-9EF2-BAF3195F39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B4A6-F507-4A10-8171-97ABE231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E84A-52B8-4705-B417-7FCE0459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A52F-0B07-4325-8C87-403FAE10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4D6B-E5E0-42A2-9BB4-1177CAD9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5792-E58F-42E0-810B-B2A7E584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19CA-DCF1-4691-8CF3-6C613646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DF12-324C-4B79-BC83-5BB2AD89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81ED-58BF-4719-9FF6-0B67EDF1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46C9-F965-4C05-9A25-C1DB6DF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2275-1C18-4D91-A29C-CEE1E39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CEBC-D3B3-450A-98CE-5371B116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6001-DA8C-4C6C-B6FB-F08A48C8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D77C-F43C-497C-BC03-B2649EA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0A8A-B229-492D-8F0E-81FC7307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A644-D52B-4ADF-B636-CAEC80E7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F1E7-BDEB-47A3-A627-09476C88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315D-783A-41BA-A59E-3EF27D71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7532-4481-4B6E-93DD-67963A4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4547-6D51-4A58-98BE-61CFC4FD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F22A-E9D9-4553-A412-0CF92825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CC29-4323-41EE-8AD4-FDB2ADC7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8673-04A5-45DD-92F7-3DD4DD64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10B7-5F22-42EF-AB35-C9DA1BD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BEBA-EA38-4929-9CFC-105C242A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14E0-C6BE-457C-B518-9725AD8FB0C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89A-D94A-41AD-8C22-963E7196610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4C8A-9070-4A3C-8B52-D133E8492F1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1043-CE14-4164-AE52-DAAAA7E57D7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44FB-A60B-4799-AB94-861B86FD47E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E8EB-5922-40B2-8C0F-566ADBC5A2E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, kan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CCB-C115-4C6E-B4EC-3162EA047168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3096-EC3A-4217-859D-A33B5F791D7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2DAD-13C3-465B-AC2F-86704B135204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F7B4-442F-4263-8972-40D466F4E8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FFA8-226F-4452-8DDC-02FF3569C783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A80F-6D3E-4402-8AF3-E99224AC96B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73A4-1D96-4DA3-A33F-121E261E4A5C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981A-B780-403B-BC95-15912A64D1C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ED08-21EE-4A54-9392-2C96366C770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B596-5AE3-4059-B54E-6206F5EE247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077B-7B5C-4417-9BBE-D225B79C115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F003-EA38-4393-9D2C-A50E813ED93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BDBD-FB93-4B49-9AF4-8634C6FD253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ED02-3A99-4FF2-ABB0-4644C8A514C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6D3D-A750-4071-925D-230F0B5E953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291A-2FA8-4C74-B140-E15329204C2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96A9-71C8-4011-A67C-72A33442D43F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7E16-9D7A-428E-8F62-13978AC0B8F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8ABE-3FBB-461A-8600-169C564A2588}" type="datetime5">
              <a:rPr b="0" lang="nl-NL" sz="1200" spc="-1" strike="noStrike">
                <a:solidFill>
                  <a:srgbClr val="ffffff"/>
                </a:solidFill>
                <a:latin typeface="Garamond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0422-CA82-41FC-9806-F55C747C4502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DE21-49C3-41E7-97F9-3F9CE22C83F7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A75-7C1B-47ED-B713-061205DF432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6141-4617-435E-B40C-5A17D74989C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914F-5902-4AB7-98D8-9A8D331B530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geeft je eigen invu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044-229E-4ABF-82B8-109D1E6D20C0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2A01-E2EA-4FA1-9F0F-4615907F02B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6B2D-EDDD-498B-9B8B-1DF02EDDB0BE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6017-F549-484F-A600-769F29C6813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6A6-5435-44F3-93EE-40C0A5DBA05A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F413-001F-45F8-AD6C-600A96B1383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6DE6-DA18-453A-BDEE-EC4C27265656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7092-BFE6-42F9-8072-39E7A8F82EC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506-16F4-4476-93CC-0E920DF1B6A2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A37C-F1DB-4F32-8E46-96E01E4D9B0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D9DF-FDE1-436D-8A59-7C6B789A2641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20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ED9-DA0B-4623-A629-4F2F10EDE33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76B9-0AFD-4665-A811-7550418BDF3B}" type="datetime5">
              <a:rPr b="0" lang="nl-NL" sz="1200" spc="-1" strike="noStrike">
                <a:solidFill>
                  <a:srgbClr val="ffffff"/>
                </a:solidFill>
                <a:latin typeface="Arial"/>
              </a:rPr>
              <a:t>28 jul 20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6A7D-8DBD-4A33-B2E6-575F188FE18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9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20-09-15T10:37:46Z</dcterms:modified>
  <cp:revision>31</cp:revision>
  <dc:subject/>
  <dc:title>Communicat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7E6EAFB7E375B4FA8D2FF7FD64788B7</vt:lpwstr>
  </property>
</Properties>
</file>