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8502-BBC2-4554-9616-9AB49A4ECA7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93B7-3BD8-4B24-B62C-0578C5907EE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780A-12FE-4C07-B4F4-86753D30AEF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4F46-5249-4EEE-A10C-83BCF221ADE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765D-DF16-4E01-B854-5F1405FB911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EFD5-0F9C-428E-B08A-09144866442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558A-431B-4BF8-B6FE-5B63833B158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BF09-F322-47CD-ADFE-A09BAC1E7F1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44FD-C076-443C-9068-07847EC2985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E300-B98E-4421-93A5-AB3E34B0ED3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1FAF-2DCB-4B51-B49E-4008C81DAA0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8A88-9336-4D1A-8164-6CA32158DDF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58B0-AB11-43FB-BFE3-F7B718CF608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EEB5-6E83-45AF-B2D5-9AAA80C8714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7C3E-7C83-4176-8009-20E14B85A71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802E-BA69-4C47-BF60-C04ACE0AED5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68B4-3FEA-4458-A8DE-BCE0E6C700A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BEC5-93AE-4169-A1A3-27587156C11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43632-4FD0-4071-B482-4A74DC15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F6025-4A97-4E39-8BC4-BAC294FA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3D416-4F11-434F-8313-C8035BC9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09E98-799E-4B9F-AD07-8FE4BBB9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6321-FE50-4494-B2FF-740DF3A47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5A4D-7184-417A-9D81-22E4F502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938F-23F9-47D6-B985-973C9F7D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85E3-5C5F-47EB-B2DE-0D96C8F3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06D0-A8C1-46E6-9DA3-86192CA5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C71A-632A-496E-9232-743FA139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3768-9DF4-49C9-BBD3-C83D7A1A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9DBB4-B973-462A-8507-941130B7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2818-6403-4C53-BF4B-4C4737B3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C777-16B4-446D-A54B-09A16725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ED7C-66B0-4974-BD3B-AA513CB0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691D-5A19-47BD-8A22-19C87ED0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A255-0858-4896-858F-1F3DE3DA7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28CB1-2E96-470C-BAC7-741DB43D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84F1B-F0F3-4C36-8129-47E257D1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D97FB-6E2A-4CCB-B81B-D6BBFD9C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03C57-2B99-40EE-A3D9-725455BD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307B2-607A-4C72-835A-A78AAF73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2608A-DB17-43D7-A17C-4AFD3085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A37DB-B31F-498D-99D7-F34D4066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0A14-017C-4B41-A6F0-896ADACBF090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0305-4FD4-4BEE-9106-99C900F9CE3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1D60-571D-49BE-8714-F17C3FC4CB36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FDF6-D9B0-4FFA-ADF3-FCA4D08E12E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 het werk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de klas en pr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FBAB-0F37-4ABB-9C0F-2FF5B5D3DD09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93DE-617A-44BD-B98C-26B22A66F30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communicatiepro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764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51280" y="206064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, kana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27640" y="2060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403280" y="522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924360" y="522936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, kana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372360" y="522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476360" y="3213000"/>
            <a:ext cx="180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372360" y="3213000"/>
            <a:ext cx="165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2050920" y="4508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2050920" y="256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2987640" y="2349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5508720" y="2349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877080" y="2565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6948360" y="4508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5580000" y="5516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Line 18"/>
          <p:cNvSpPr/>
          <p:nvPr/>
        </p:nvSpPr>
        <p:spPr>
          <a:xfrm flipH="1">
            <a:off x="3347640" y="5516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technieken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baal met woo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le communicatie ; lichaamsta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90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B307-7C68-467C-8252-E87934EB6A6F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7365-88CA-4272-8C7F-2BF07E41938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5599080" y="3809880"/>
            <a:ext cx="2054160" cy="2054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6370-5FEB-415F-B822-6AFD35B12628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3463-6DC1-4CA8-8785-CB948390EF4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oorzaakt do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Zend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al (gebrui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volled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ongruen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……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man_communicatie_7411474"/>
          <p:cNvPicPr/>
          <p:nvPr/>
        </p:nvPicPr>
        <p:blipFill>
          <a:blip r:embed="rId1"/>
          <a:stretch/>
        </p:blipFill>
        <p:spPr>
          <a:xfrm>
            <a:off x="5638680" y="326232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18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4B32-3D1B-4BD6-A122-D6B4BAC2FBD0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2255-1EFC-448C-83AD-D9B06842ED5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oorzaakt door Onvang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e ru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ferentieka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kennis/n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…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1CBA-2E53-4B1C-BFEF-DC164B617B8D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D0C5-B68D-4BF9-98FD-D640F4161FF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toren in de situ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e tussen de gespreksperson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houd van de boodsch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60E7-F12D-456D-B33F-7F2AD7AE7603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AED2-0426-433E-976F-ED3F039E0A5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sen aan 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langste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en ruimte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ptatie en resp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et je eigen opvatting overd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lte laten vallen ma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8E26-FD73-40F9-AA63-DC5AA9109C7F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82DF-0A31-481D-BF46-8DD600A4974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istervaardighei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ogcont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voor iemand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ect voor de ander/accept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ikken ( hummen.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duidelijking/doorv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envatten/gevoelens beno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Actief Luis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62040" y="2095560"/>
            <a:ext cx="72136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arom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emand kan zijn verhaal kwijt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serieus geno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geaccepteerd, gewaardeer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an soms zelf zijn probleem al oploss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5" descr="serieus"/>
          <p:cNvPicPr/>
          <p:nvPr/>
        </p:nvPicPr>
        <p:blipFill>
          <a:blip r:embed="rId1"/>
          <a:stretch/>
        </p:blipFill>
        <p:spPr>
          <a:xfrm>
            <a:off x="6629400" y="228600"/>
            <a:ext cx="2362320" cy="1714680"/>
          </a:xfrm>
          <a:prstGeom prst="rect">
            <a:avLst/>
          </a:prstGeom>
          <a:ln w="0">
            <a:noFill/>
          </a:ln>
        </p:spPr>
      </p:pic>
      <p:sp>
        <p:nvSpPr>
          <p:cNvPr id="212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20F5-3562-4BBD-9E9F-58AF953A2BE3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7BCB-D487-480C-8380-88087787BBA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0FAD-7B41-4434-A0D5-B197869DA5AC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DD7A-49BB-47D1-A1F2-0DAD0D2F1DA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arne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e je met je zintui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bjectie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baseerd op fei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eerbaar/meetba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bjectief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persoonlijke waarne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kleurd door je me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1F4E-25B0-4BC0-9F3E-D07B21C60DDC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0373-2C1F-405C-BE1D-84C295F6DF2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arneme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t neem jij waar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3" name="Picture 4" descr="perception_vase"/>
          <p:cNvPicPr/>
          <p:nvPr/>
        </p:nvPicPr>
        <p:blipFill>
          <a:blip r:embed="rId1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vrouw oud of jong"/>
          <p:cNvPicPr/>
          <p:nvPr/>
        </p:nvPicPr>
        <p:blipFill>
          <a:blip r:embed="rId2"/>
          <a:stretch/>
        </p:blipFill>
        <p:spPr>
          <a:xfrm>
            <a:off x="5257800" y="2209680"/>
            <a:ext cx="2908440" cy="2971800"/>
          </a:xfrm>
          <a:prstGeom prst="rect">
            <a:avLst/>
          </a:prstGeom>
          <a:ln w="0">
            <a:noFill/>
          </a:ln>
        </p:spPr>
      </p:pic>
      <p:sp>
        <p:nvSpPr>
          <p:cNvPr id="22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VOORBEE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4" descr="j0195384"/>
          <p:cNvPicPr/>
          <p:nvPr/>
        </p:nvPicPr>
        <p:blipFill>
          <a:blip r:embed="rId1"/>
          <a:stretch/>
        </p:blipFill>
        <p:spPr>
          <a:xfrm>
            <a:off x="1577880" y="2946240"/>
            <a:ext cx="1797120" cy="1833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216724"/>
          <p:cNvPicPr/>
          <p:nvPr/>
        </p:nvPicPr>
        <p:blipFill>
          <a:blip r:embed="rId2"/>
          <a:stretch/>
        </p:blipFill>
        <p:spPr>
          <a:xfrm>
            <a:off x="5942160" y="1781280"/>
            <a:ext cx="1450800" cy="182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0240719"/>
          <p:cNvPicPr/>
          <p:nvPr/>
        </p:nvPicPr>
        <p:blipFill>
          <a:blip r:embed="rId3"/>
          <a:stretch/>
        </p:blipFill>
        <p:spPr>
          <a:xfrm>
            <a:off x="6084720" y="4119480"/>
            <a:ext cx="1165320" cy="1825560"/>
          </a:xfrm>
          <a:prstGeom prst="rect">
            <a:avLst/>
          </a:prstGeom>
          <a:ln w="0">
            <a:noFill/>
          </a:ln>
        </p:spPr>
      </p:pic>
      <p:sp>
        <p:nvSpPr>
          <p:cNvPr id="113" name="Tijdelijke aanduiding voor datum 5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9573-8030-4B06-81A3-52C1B0BDB89E}" type="datetime5">
              <a:rPr b="0" lang="nl-NL" sz="1200" spc="-1" strike="noStrike">
                <a:solidFill>
                  <a:srgbClr val="ffffff"/>
                </a:solidFill>
                <a:latin typeface="Garamond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ijdelijke aanduiding voor dianumm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789B-2BB8-4F8F-891B-EA6EEC1433E9}" type="slidenum">
              <a:rPr b="0" lang="nl-N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ijdelijke aanduiding voor voettekst 7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Garamond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1" descr="ANd9GcRalqXkh3gG36tvhspbCKSHgA9vpx3kb8I_t40NANpzU2sp-LqL1caBF9w"/>
          <p:cNvPicPr/>
          <p:nvPr/>
        </p:nvPicPr>
        <p:blipFill>
          <a:blip r:embed="rId4"/>
          <a:stretch/>
        </p:blipFill>
        <p:spPr>
          <a:xfrm>
            <a:off x="457200" y="609480"/>
            <a:ext cx="2057400" cy="1481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5F26-DB38-4009-A357-1F3E50AFDA86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8C8F-D60D-49B7-8461-198C1971F8F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SERV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ust en doelgericht waar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 objectief mogelij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orgeven van verkregen gegevens: rappor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1FA7-0599-4270-A4B3-1AB45EB9C840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BC9C-E76F-4A06-9000-6B00C91C3D6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pre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ekenis geven aan de inform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vertalen van de boodscha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geeft je eigen invu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12A6-3CC9-4FBA-BA29-7B7C189C87C7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E890-A391-43B1-981E-C1442F92D81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ijdelijke aanduiding voor voettekst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br>
              <a:rPr sz="4000"/>
            </a:br>
            <a:br>
              <a:rPr sz="14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t is communicati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e overbre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n de ene persoon naar de and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9" descr="ANd9GcTiVR6MMbnSl1Cgn2FyqxFXMewp0MKJTbgICm-5Gr4Udx1dRpJj_QN3yw"/>
          <p:cNvPicPr/>
          <p:nvPr/>
        </p:nvPicPr>
        <p:blipFill>
          <a:blip r:embed="rId1"/>
          <a:stretch/>
        </p:blipFill>
        <p:spPr>
          <a:xfrm>
            <a:off x="5029200" y="2286000"/>
            <a:ext cx="1828800" cy="1071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5619-DAB1-4686-A948-AA3EF8B05DA1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AA0E-28E7-493C-9F4A-14BACD1A4C0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deli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riftelij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gita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isteren/sprek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zen/schrijv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Een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Kran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Twee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In gespre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Persoonlij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elefo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omputer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(actie-reacti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A6A7-D6BC-471B-8A8D-BFBF50239221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364A-9DD2-4CEA-968F-61AE6E39203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F8BA-0079-4E0B-90EE-D2C0DD1D607B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7157-5C83-4C73-91BC-5A079E5191C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baal en non verba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aal: met woor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al: zonder woord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chaamstaal: 9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faalangst"/>
          <p:cNvPicPr/>
          <p:nvPr/>
        </p:nvPicPr>
        <p:blipFill>
          <a:blip r:embed="rId1"/>
          <a:stretch/>
        </p:blipFill>
        <p:spPr>
          <a:xfrm>
            <a:off x="2743200" y="3505320"/>
            <a:ext cx="3619440" cy="3184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7CB5-592D-46C0-BFD2-8EA37E6FD2B3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524F-E75D-4DC4-894E-BB3FFA5488D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on verbale communicati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zichtsuitdrukki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uding die je aanneem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stand t.o.v. een a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leding/verzor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emgebruik (intonatie, volume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ba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pen en gesloten hou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oe zit je rechterbuurvrouw/man er in de les bij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t kan je hieraan opmerken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tel degene wat jou opvalt aan haar/zijn houdin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B524-B53F-4055-82BF-4A83F0FD3F7A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5430-1589-4EF2-9FE7-70C07654E31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17CE-1221-4524-8C0F-93C027CCA495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E08A-6565-4A1D-A67F-CDF38BA2286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ongruen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bale en non verbale communicatie stemmen niet overee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e kan een voorbeeld benoem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8:28:44Z</dcterms:created>
  <dc:creator>NH/ JB</dc:creator>
  <dc:description/>
  <dc:language>en-US</dc:language>
  <cp:lastModifiedBy>Nienke Hoogeveen</cp:lastModifiedBy>
  <dcterms:modified xsi:type="dcterms:W3CDTF">2020-09-15T10:37:46Z</dcterms:modified>
  <cp:revision>31</cp:revision>
  <dc:subject/>
  <dc:title>Communicat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7E6EAFB7E375B4FA8D2FF7FD64788B7</vt:lpwstr>
  </property>
</Properties>
</file>