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73F4-F64B-495D-B755-9E1EEA75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A0DB-FCC7-474A-AF7F-6DAD9ACE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BDFC-11F8-4146-82E7-828C4E58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C4E-3B4F-431B-B1FE-93809F77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6ED9-7957-489E-AB48-80580B6A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31C1-B0B2-427D-8A50-8B74B88F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9588-1793-4A07-B177-1C2B96AB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5BAC-2E25-4116-B790-4976A90A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3563-2060-4E17-83AA-C62DDCD1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FD06-A935-46E9-B5B7-44C5AFF3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0211-BF32-48B9-8470-A51AA941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59F4-7133-4CC4-AEF4-317BB1BB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5D3F-A7B9-4B86-BFEC-EE7E3D40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789A-8EAC-4B51-A4EA-008FCF05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2419-64C9-4B6E-8168-AD7AFFDD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86E6-EB61-405B-A132-A5652A66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7D6C-B8B2-4068-9F49-EB619C78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FA03-22D6-43CC-90A0-2F2AD2B2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E620-6E5E-4DBF-AD07-AD13C3EF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A522-1D97-4C21-AF5E-047118EA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A053-C343-4ACF-9DCD-233374C5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331E-8871-4DB8-BC41-6770B8F0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5169-5BE2-47F3-99DF-75F8A76B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3B02-1AC5-49E2-9A81-06DBDDFF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4870-EDF9-4C86-B551-20392DE50131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04B5-F629-43C2-AA6A-AFC9E9CB5C82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B089-98AE-4AFB-8B9C-A00EDBCA8260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966E-A9F1-4A18-9DAA-86B454438EB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E45C-1009-4671-9494-B7713EAA375E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C7F8-FEAC-4101-A88F-5DF09C46403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9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DDE7-EEA3-4E45-85BB-99EC0FC9EEE8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BA4A-35E7-4221-ADC1-D9D398E691B5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5D50-E752-4B50-8CED-94F0DD3DDE17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0E1C-22C0-4CDE-95DA-63E60B32A066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C30F-714D-4510-B785-F40D5F38AB72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7C76-7E9B-46A1-ADAE-A1245409811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geve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7DA6-0E75-415A-9823-60530D0211B2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E4EA-67A6-4DD0-9328-2950F19A52D5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7F07-D3B3-420B-9068-7068AFBFA08B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B608-5058-421D-8180-FA2900EFA87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4157-56D2-4206-8184-84CBC09F82C5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C751-0AB9-431F-835F-848EB36AC1E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men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FA09-D2FE-4546-9AAD-082EBADE3AF2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F334-023E-4AA0-A737-FB2C93FBEF38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ertel wat het je doet ( gevo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 vraag door, vraag na,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45C2-E0C3-47AB-9779-7B2E1FE14FC1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E34D-1E79-4E22-98D2-142CAED76DDA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paal of je het wilt verande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6884-2156-461E-9ACC-C956556321C3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6BC1-E10D-4D1C-8FD8-2A10439C3C5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9-06-27T09:19:02Z</dcterms:modified>
  <cp:revision>13</cp:revision>
  <dc:subject/>
  <dc:title>Feedback</dc:title>
</cp:coreProperties>
</file>