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1232-D010-416A-85B2-D5AD281A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E88D-C395-4FC1-B0B5-1397E53F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1DF6-CA88-4227-83C4-B452FA09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7465-A27A-484B-8CBA-FF085E7C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A849-D347-496D-ACF6-79E5EF45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B4E0-CE8F-45DA-8956-1716E816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866C-F0ED-42E7-B5BF-7EF28F4C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A2C3-6E80-41D0-86AD-1BD3E7C8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F928-0B5C-4E68-8909-19D5759F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0BA9-7429-4C85-8DAC-765E7B2B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D72C-97A2-4D01-AF90-62600DAA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664D-9049-4F77-A71A-B72F1836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3E37-4F70-4926-9F7A-D9E01A12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D6CC-4E71-46FB-A23B-1FE38631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0249-7789-473A-BB05-026349FB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9BA0-F222-4210-9B03-916084F0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D2CC-D0EA-4689-BA57-D6A8BAED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12C9-3AD6-4FC4-9CA4-2D426D37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0E42-4E5C-4F07-BDE4-38DB221B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4B84-0ADD-4B79-883D-C5FD47A9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C32-5D5B-473A-BDA4-E697DEEF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9E4C-9F27-47ED-BF94-A1215B06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277-283C-4149-9B6E-8500EFB4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CCE6-8554-4049-A594-317C5CC2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059D-5D84-459B-A64E-6CC881F1A277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A722-112A-44A8-9716-4F443CEEC96C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3F2D-F412-4A01-8E7B-1C892E6E6A25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E8EC-D670-495F-96B6-D800C10AE19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D61D-FEAF-428F-B5C7-E7125E268A4D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E5C5-4D13-4411-B9B8-E3B0A44EF926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9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7E20-BB40-4916-A5B9-169D73A867FE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7D61-6AB2-47DE-BEB2-30275A98D021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5FAF-E551-46C2-A956-5E49C7262878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A45F-35B3-46F0-ACC3-3EBE06B0624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584F-1027-4986-B2B3-E50B3F9C1BB3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CC09-A562-4DF5-ADC4-C3C293F73065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geve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DFCA-448B-4B27-BB82-55A01FE54ABF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52B4-0FFC-4B82-948F-21F7FB47C3FC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DC95-00D9-43D2-86DB-1C00261C26F2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4A70-D189-40E3-866E-C7D7A252BCFC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8665-D13F-428D-8A4D-1FCB5A6E8062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1E36-95DF-44B9-852C-17FBF567BF7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men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E1F1-81A9-4761-A322-5E7A932BAA98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8C7B-3F26-4911-AD65-C77AF919551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ertel wat het je doet ( gevo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 vraag door, vraag na,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F86E-7043-496E-BD52-3940CAD4429E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E34C-9058-473C-90BC-F3820B125958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paal of je het wilt verande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B262-0C76-43F9-8B99-6CF4225631C3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A4BA-1DEB-47E9-A7D6-30320FDF8F0C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9-06-27T09:19:02Z</dcterms:modified>
  <cp:revision>13</cp:revision>
  <dc:subject/>
  <dc:title>Feedback</dc:title>
</cp:coreProperties>
</file>