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AC2-A26A-49DC-91E7-05AE4CFC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416-5840-4876-A395-81A2A962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CBD-F06E-4585-8EAC-0F01693A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254-6C5F-4B35-9939-D842727C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2F2F-49DD-477F-9662-2ABFA10A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800C-A694-4B83-8EE5-5E744118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F405-0B21-48A0-B84D-D3E5536B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7869-09E9-4D2E-B43D-99600A05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6AFF-E180-49EF-9C29-A58A0388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733E-9BD8-4887-9DA1-34EDE0EF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65D6-EDE5-446D-976F-AB947890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53D-9486-4A9E-ADE2-75CFA678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5D35-6730-4DFA-83C4-C4F89667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F677-6311-47A3-9D8D-06665E3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0B7C-E200-4548-9FB6-86530E34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7AA3-CF8B-4630-B642-C6FA23D1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ACE7-BBE6-4790-ABDC-F6EA4530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047-2BA5-4281-AF54-1A17A6E6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1E2-34D4-4263-8772-E4F5210D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2F1-6A90-4379-A37B-A4A5E549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31D-1257-427A-A06D-2BEF8A17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19A-BA1E-4405-B23E-95BB1BA8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5F2-091A-46E1-976E-A29AF80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DC9-FC3F-4C1E-BFB7-83957487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9CDC-5A45-4FD7-99C4-A393E9BB9910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F8F4-23DB-43D8-A398-377BC187A771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36FD-FCFF-41EA-AABA-470F4A59A817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3913-E905-415F-A409-14E23D691E3F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A24F-CED9-45AC-9473-8CC699AEB3E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EB22-8FDB-460A-AF5E-EB0EB07FEED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9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A390-9484-4D5D-8CEE-01D0EA3DAF1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BE75-ADD9-4DF0-A735-F17651B8B05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B72A-3E91-43DA-89C2-7839BE7972A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F309-926C-41A7-9DB2-6DD2EBFD936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3FA1-D4C1-4B5B-83D5-95F5F7E0019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F1F-08F9-4B59-BD27-C0A1EA7752B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geve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E3E2-1878-4F2A-BFD0-E062F770E60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70C6-028B-4EFE-9BAE-851ABAFB391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0C79-969E-4A56-B7B3-511DD34EE53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3532-1C2A-4358-97C0-1BD715FDF2B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F801-CFFA-4BF6-A6A1-FAF3EF88786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FFE1-3250-4F05-98AB-A8A0A95EC8E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men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DAB5-76C9-4F62-8C52-100F1254D58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35FF-F06C-4D3F-BFCD-F5C10918321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ertel wat het je doet ( gevo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 vraag door, vraag na,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3107-74EE-45AA-AC68-132D09A0331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0B48-6C4B-48DE-BE91-E83E1944DF0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paal of je het wilt verand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F149-A9AE-44B3-AEE3-9D0CF2CCCBB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C87-739F-4BAE-84A6-EA01916A4DF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9-06-27T09:19:02Z</dcterms:modified>
  <cp:revision>13</cp:revision>
  <dc:subject/>
  <dc:title>Feedback</dc:title>
</cp:coreProperties>
</file>