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9659-0109-47DA-8E96-B62E7701B3C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A423-8C96-4C25-BBF1-EE87EBE2E48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B056-6BCD-4DBD-B153-AD04263701C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9A82-12E5-43FB-A7F1-EB17570BE7A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A4B3-CECA-4D42-A956-73D8AA4917A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82F0-8435-42DC-A947-0D1240229CF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2774-BD16-4B84-B036-1623ABA1A0B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6338-9E12-41E5-82AD-5D1D34E18B7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CC51-0E40-4447-BEC6-1CA1DF652C0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5EF93-3147-4254-B414-42C77253693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0ED3-6DB3-48D6-AEA9-79C2D52F32B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B6B3-DD9B-4FC8-9D25-4495EBB5FA5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6935-EF1E-46EC-82F9-A299F7047D0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EE12-CC17-4F6A-812B-98047E110E2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698B-FA42-47D3-BC43-4DE4B086BD2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81ED-8A06-49E6-AE73-46C9E0AFFDC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1964-6AF3-447F-9B0D-6EB8FA9D982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E02F-C902-4D3D-892E-C3DCF7B580D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BC89A-D7CE-44E5-BA36-3273DF7A6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5ABE9-5714-4FDF-8B7B-C2B07813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DBE6F-82EA-4EF4-B414-42BD62EE5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684D9-9CF1-45B4-A9C8-72D2CA43E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3D91-5E45-4347-9704-8B824EB41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9DB6-6273-47C6-ABC1-C1314CEB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B811-56AE-4931-8E3D-4F98DFF9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FBACC-740F-4A8A-98DD-958BA146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238E-BFB7-4E8F-B423-34001D8A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CA627-1A0E-45AE-A8BB-B201498C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64A4-335E-45C3-929F-03A20938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2FA0C-3615-4273-BE4E-909EA402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F96DA-4B72-4147-8815-AAADB1F5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56D1E-78E7-4C46-8895-46D8FCFF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8156-9477-463B-8A91-5203B48A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3B1E-8276-4AD7-94B5-52C797B0A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9C13A-5359-434E-9844-B7FE369A7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32509-FF60-4492-94BC-E02E9B57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CEFF8-AA45-42DC-A9CB-F2BB339D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B106B-AB51-43A3-9F18-5F707DD6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ED08C-A21F-463A-966E-76947C7C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34C58-1305-4E7E-B054-21FF8D65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B951F-5695-45FF-B22E-EF36FD7F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CB214-BBB0-4431-8245-96F63C83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0DB9-10FD-4583-9DB5-50932BC0106F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FC03-8470-48B1-8CAF-1BE9C2B3614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1E38-E703-4F14-B566-05E9625509A3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DC11-F9D0-491F-8879-F77D16CEEFC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ommunicati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 het werk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de klas en priv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2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520D-0853-4CCE-B747-8436209C9D0D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07F4-74D1-4F0C-9B6D-019C3845192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communicatiepro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547640" y="2060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nder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3851280" y="206064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oodschap, kana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227640" y="206064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ntvanger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1403280" y="5229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ntvanger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924360" y="522936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oodschap, kana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6372360" y="5229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nder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476360" y="3213000"/>
            <a:ext cx="1800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reag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interpret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waarnem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6372360" y="3213000"/>
            <a:ext cx="1657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waarnem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interpret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reag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Line 11"/>
          <p:cNvSpPr/>
          <p:nvPr/>
        </p:nvSpPr>
        <p:spPr>
          <a:xfrm flipV="1">
            <a:off x="2050920" y="450828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Line 12"/>
          <p:cNvSpPr/>
          <p:nvPr/>
        </p:nvSpPr>
        <p:spPr>
          <a:xfrm flipV="1">
            <a:off x="2050920" y="256536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Line 13"/>
          <p:cNvSpPr/>
          <p:nvPr/>
        </p:nvSpPr>
        <p:spPr>
          <a:xfrm>
            <a:off x="2987640" y="234936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Line 14"/>
          <p:cNvSpPr/>
          <p:nvPr/>
        </p:nvSpPr>
        <p:spPr>
          <a:xfrm>
            <a:off x="5508720" y="2349360"/>
            <a:ext cx="57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Line 15"/>
          <p:cNvSpPr/>
          <p:nvPr/>
        </p:nvSpPr>
        <p:spPr>
          <a:xfrm>
            <a:off x="6877080" y="2565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Line 16"/>
          <p:cNvSpPr/>
          <p:nvPr/>
        </p:nvSpPr>
        <p:spPr>
          <a:xfrm>
            <a:off x="6948360" y="450864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Line 17"/>
          <p:cNvSpPr/>
          <p:nvPr/>
        </p:nvSpPr>
        <p:spPr>
          <a:xfrm flipH="1">
            <a:off x="5580000" y="551664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Line 18"/>
          <p:cNvSpPr/>
          <p:nvPr/>
        </p:nvSpPr>
        <p:spPr>
          <a:xfrm flipH="1">
            <a:off x="3347640" y="551664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20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unicatietechnieken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baal met woord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1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 verbale communicatie ; lichaamsta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90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%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CF8A-1B76-4C3B-BD3C-38AB54C24277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F9C4-5A0E-4F94-A2E3-17A2FD6BD39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ijdelijke aanduiding voor voettekst 6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20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5599080" y="3809880"/>
            <a:ext cx="2054160" cy="20545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356A-53DE-4F63-9F13-54CE488B44DA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8785-CE72-4AF2-9D30-989FDA6FCD5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oorzaakt doo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Zende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al (gebruik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volledi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congruen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……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man_communicatie_7411474"/>
          <p:cNvPicPr/>
          <p:nvPr/>
        </p:nvPicPr>
        <p:blipFill>
          <a:blip r:embed="rId1"/>
          <a:stretch/>
        </p:blipFill>
        <p:spPr>
          <a:xfrm>
            <a:off x="5638680" y="3262320"/>
            <a:ext cx="2819520" cy="2114640"/>
          </a:xfrm>
          <a:prstGeom prst="rect">
            <a:avLst/>
          </a:prstGeom>
          <a:ln w="0">
            <a:noFill/>
          </a:ln>
        </p:spPr>
      </p:pic>
      <p:sp>
        <p:nvSpPr>
          <p:cNvPr id="18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5D0E-3C28-45FC-A8A2-7DD1B554608E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692D-8FA4-4A63-BD91-A5CCF139C00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Veroorzaakt door Onvang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ne rui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ferentieka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 kennis/n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……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20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2A1D-BE1A-4951-A922-DC6099B7B061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FD3A-2B5C-4E50-B998-B08D33391ED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3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ctoren in de situ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latie tussen de gespreksperson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houd van de boodscha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20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E96B-1F22-47AD-B0DC-20C7324275D5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EB57-AB15-404D-9317-FE43F5596C5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isen aan communicati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houd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langstell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jd en ruimte 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ptatie en respe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iet je eigen opvatting overdra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ilte laten vallen mag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063D-95D3-46C0-9023-9E02D36EA34C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346A-9C5E-46F4-80DF-49B6C630BAE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uistervaardighei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houd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ogcont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jd voor iemand 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pect voor de ander/accept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nikken ( hummen.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duidelijking/doorvra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menvatten/gevoelens beno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Actief Luist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62040" y="2095560"/>
            <a:ext cx="72136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aarom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Iemand kan zijn verhaal kwijt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oelt zich serieus geno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oelt zich geaccepteerd, gewaardeerd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Kan soms zelf zijn probleem al oploss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5" descr="serieus"/>
          <p:cNvPicPr/>
          <p:nvPr/>
        </p:nvPicPr>
        <p:blipFill>
          <a:blip r:embed="rId1"/>
          <a:stretch/>
        </p:blipFill>
        <p:spPr>
          <a:xfrm>
            <a:off x="6629400" y="228600"/>
            <a:ext cx="2362320" cy="1714680"/>
          </a:xfrm>
          <a:prstGeom prst="rect">
            <a:avLst/>
          </a:prstGeom>
          <a:ln w="0">
            <a:noFill/>
          </a:ln>
        </p:spPr>
      </p:pic>
      <p:sp>
        <p:nvSpPr>
          <p:cNvPr id="212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81DB-6A53-4694-BFCF-0304B4BAE11B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632C-83A1-4684-9C5B-B776C069085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390B-02D9-48EF-BD75-7651E9105829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5A8F-9C1B-48D3-888A-0829D189952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aarnem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e je met je zintui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bjectie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baseerd op fei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oleerbaar/meetba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bjectief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 persoonlijke waarnem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kleurd door je me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EA89-FE6F-41CD-A99A-83FA4259397D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FB63-C59A-4799-BA4B-2135E1FCD4E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aarnemen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at neem jij waar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23" name="Picture 4" descr="perception_vase"/>
          <p:cNvPicPr/>
          <p:nvPr/>
        </p:nvPicPr>
        <p:blipFill>
          <a:blip r:embed="rId1"/>
          <a:stretch/>
        </p:blipFill>
        <p:spPr>
          <a:xfrm>
            <a:off x="1047600" y="24336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vrouw oud of jong"/>
          <p:cNvPicPr/>
          <p:nvPr/>
        </p:nvPicPr>
        <p:blipFill>
          <a:blip r:embed="rId2"/>
          <a:stretch/>
        </p:blipFill>
        <p:spPr>
          <a:xfrm>
            <a:off x="5257800" y="2209680"/>
            <a:ext cx="2908440" cy="2971800"/>
          </a:xfrm>
          <a:prstGeom prst="rect">
            <a:avLst/>
          </a:prstGeom>
          <a:ln w="0">
            <a:noFill/>
          </a:ln>
        </p:spPr>
      </p:pic>
      <p:sp>
        <p:nvSpPr>
          <p:cNvPr id="22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VOORBEEL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Picture 4" descr="j0195384"/>
          <p:cNvPicPr/>
          <p:nvPr/>
        </p:nvPicPr>
        <p:blipFill>
          <a:blip r:embed="rId1"/>
          <a:stretch/>
        </p:blipFill>
        <p:spPr>
          <a:xfrm>
            <a:off x="1577880" y="2946240"/>
            <a:ext cx="1797120" cy="1833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j0216724"/>
          <p:cNvPicPr/>
          <p:nvPr/>
        </p:nvPicPr>
        <p:blipFill>
          <a:blip r:embed="rId2"/>
          <a:stretch/>
        </p:blipFill>
        <p:spPr>
          <a:xfrm>
            <a:off x="5942160" y="1781280"/>
            <a:ext cx="1450800" cy="1823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j0240719"/>
          <p:cNvPicPr/>
          <p:nvPr/>
        </p:nvPicPr>
        <p:blipFill>
          <a:blip r:embed="rId3"/>
          <a:stretch/>
        </p:blipFill>
        <p:spPr>
          <a:xfrm>
            <a:off x="6084720" y="4119480"/>
            <a:ext cx="1165320" cy="1825560"/>
          </a:xfrm>
          <a:prstGeom prst="rect">
            <a:avLst/>
          </a:prstGeom>
          <a:ln w="0">
            <a:noFill/>
          </a:ln>
        </p:spPr>
      </p:pic>
      <p:sp>
        <p:nvSpPr>
          <p:cNvPr id="113" name="Tijdelijke aanduiding voor datum 5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FFFF-9D4D-44C5-AE28-CAC82044099C}" type="datetime5">
              <a:rPr b="0" lang="nl-NL" sz="1200" spc="-1" strike="noStrike">
                <a:solidFill>
                  <a:srgbClr val="ffffff"/>
                </a:solidFill>
                <a:latin typeface="Garamond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Tijdelijke aanduiding voor dianumm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B097-270F-44BA-82C5-838F3FD649D6}" type="slidenum">
              <a:rPr b="0" lang="nl-NL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ijdelijke aanduiding voor voettekst 7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Garamond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11" descr="ANd9GcRalqXkh3gG36tvhspbCKSHgA9vpx3kb8I_t40NANpzU2sp-LqL1caBF9w"/>
          <p:cNvPicPr/>
          <p:nvPr/>
        </p:nvPicPr>
        <p:blipFill>
          <a:blip r:embed="rId4"/>
          <a:stretch/>
        </p:blipFill>
        <p:spPr>
          <a:xfrm>
            <a:off x="457200" y="609480"/>
            <a:ext cx="2057400" cy="14814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CE58-8E4E-4BF6-8C53-BA0D79762F7F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EA96-8647-4B4B-8AD9-632A676A522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BSERV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wust en doelgericht waar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o objectief mogelij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orgeven van verkregen gegevens: rapporte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0245-0CD0-427B-A5AD-0692D44DEE7F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76FF-276D-481B-A7AD-8F3D7C51ED3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rpret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tekenis geven aan de inform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t vertalen van de boodschap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 geeft je eigen invull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C960-20BE-4E9A-B61C-A54672415274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EC85-4CD1-41A0-879C-97A9BA9A7FE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Tijdelijke aanduiding voor voettekst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ommunicatie</a:t>
            </a:r>
            <a:br>
              <a:rPr sz="4000"/>
            </a:br>
            <a:br>
              <a:rPr sz="14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t is communicati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formatie overbre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n de ene persoon naar de ande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9" descr="ANd9GcTiVR6MMbnSl1Cgn2FyqxFXMewp0MKJTbgICm-5Gr4Udx1dRpJj_QN3yw"/>
          <p:cNvPicPr/>
          <p:nvPr/>
        </p:nvPicPr>
        <p:blipFill>
          <a:blip r:embed="rId1"/>
          <a:stretch/>
        </p:blipFill>
        <p:spPr>
          <a:xfrm>
            <a:off x="5029200" y="2286000"/>
            <a:ext cx="1828800" cy="10717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8C5E-CF46-4FE4-8835-138A34BD66F2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B8E8-8C69-464C-BF86-2B4191C917D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unicati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ndeling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hriftelij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gitaa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d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uisteren/sprek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zen/schrijve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Eenzijdige communica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Med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Kran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T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rad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Tweezijdige communica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In gesprek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Persoonlij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Telefo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Computer 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(actie-reacti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35D6-5102-4E09-B99E-62565308E9B8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E1CE-7780-40AC-AC0F-74ECC764FFE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C0B9-D9FC-4B5D-98EE-9630B8707408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0713-83FD-4973-BAFB-785E7E1096F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ijdelijke aanduiding voor voettekst 6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rbaal en non verba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erbaal: met woord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 verbaal: zonder woorde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ichaamstaal: 90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4" descr="faalangst"/>
          <p:cNvPicPr/>
          <p:nvPr/>
        </p:nvPicPr>
        <p:blipFill>
          <a:blip r:embed="rId1"/>
          <a:stretch/>
        </p:blipFill>
        <p:spPr>
          <a:xfrm>
            <a:off x="2743200" y="3505320"/>
            <a:ext cx="3619440" cy="31845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6599-AEA4-46AE-890E-22D61ADCDABD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5F55-0D76-4267-A43D-9C61D02699B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Non verbale communicatie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zichtsuitdrukki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uding die je aanneem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fstand t.o.v. een an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leding/verzorg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emgebruik (intonatie, volume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ba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Open en gesloten houd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oe zit je rechterbuurvrouw/man er in de les bij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at kan je hieraan opmerken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tel degene wat jou opvalt aan haar/zijn houding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F265-EB0B-42B6-A52A-85E49902C3CF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20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C68A-530D-4192-9354-EA300C7B2A6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2DBD-9F28-4491-B393-99BAE43BEFB2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FAEE-10EB-4785-BD21-D86B3AFFEF1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congruenti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bale en non verbale communicatie stemmen niet overeen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e kan een voorbeeld benoeme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8:28:44Z</dcterms:created>
  <dc:creator>NH/ JB</dc:creator>
  <dc:description/>
  <dc:language>en-US</dc:language>
  <cp:lastModifiedBy>Nienke Hoogeveen</cp:lastModifiedBy>
  <dcterms:modified xsi:type="dcterms:W3CDTF">2020-09-15T10:37:46Z</dcterms:modified>
  <cp:revision>31</cp:revision>
  <dc:subject/>
  <dc:title>Communicati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B7E6EAFB7E375B4FA8D2FF7FD64788B7</vt:lpwstr>
  </property>
</Properties>
</file>