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CC1F-2FFA-491D-98F8-3789632A5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718A-D1EF-454F-86EE-48096C25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7845-C677-42E9-86B1-36F239D3E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6471-FF3A-454F-ADDD-813534986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0D1C-0314-4E1C-93F9-5C3E845E8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15F5-699F-4BF3-9E31-57C2C332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F630-3EC2-441B-B734-426A5BBF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D721-7D00-41D5-A081-04D0BECC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25EB-96CA-4B01-99ED-C88470C9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90B2-6B7B-4C21-A5CA-146BC45D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6DD4-2CA5-4A31-8495-18C6F103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5CD1-979F-4F64-8642-3C15A8A7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66A7-3372-4E0E-B744-9ABAE1D0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2FF0-6BDD-40B0-ACFE-A8C3DC56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5FB0-BA03-4115-B856-E2DA6BD8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4B34-CD97-4E3A-BFCA-5E8B4937D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715A-27B1-4B25-8B31-2F178DBE0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F9D1-A1B2-4EE1-9B2D-E6560CCD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C167-C95C-43E2-B50C-2C529046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8DEB-F2C0-4CFB-870E-49B0CC19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95B5-7C22-4599-A34B-FA10C76D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2640-A467-492E-A1A9-DC1B2774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ED3D-85E1-4540-AB81-70D615D7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BD5A-80CF-4663-90B0-FD531646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F3F8-9D3E-4F50-BAF9-DAB60FFD4FE8}" type="datetime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8EE6-E445-48A6-9C72-533C77CC5AC0}" type="slidenum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fe8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9465-DF44-4240-A06F-DFBCA7DF60C2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A037-3F90-451B-85A0-F8790E99D1D6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94DD-9B04-440B-9263-27B9F9CDEC51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163C-BFE6-4E09-94DF-DC79768AD31D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1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Feedback H9 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s informatie van iemand over de effecten van het gedrag van een andere persoon op hem of ha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waarne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Terugkoppelen van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ijdelijke aanduiding voor datum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502A-B606-44AB-9F23-D4A3A67827FD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B897-718D-4021-8BEA-83C61558D90D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4" descr="C:\Users\kag.hoogeveen\OneDrive - Noorderpoort\Pictures\Pictures\images.png"/>
          <p:cNvPicPr/>
          <p:nvPr/>
        </p:nvPicPr>
        <p:blipFill>
          <a:blip r:embed="rId1"/>
          <a:stretch/>
        </p:blipFill>
        <p:spPr>
          <a:xfrm>
            <a:off x="3348000" y="1341360"/>
            <a:ext cx="40323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FB7F-5546-4075-AA5A-EBF9A86D007B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40BA-B950-4B53-AC8C-487565F3CDAD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schil feedback en kritie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is be- of veroordel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is beschrijven van waarnemin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wijst schuldige a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 geeft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eist gedragsverand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geeft keuzemogelijkhe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59DF-4350-40A1-AAAC-08D6DE2C943A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DAF7-9704-4EB7-A216-507F9D23081E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Regels voor geve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een ik-boodsch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je waarnem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het effect dat het op jou he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ees specifiek in tijd, plaa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lak na het voo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A641-83EC-4C3E-8E8D-8990B1908A74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9153-0A5C-4C88-9EB7-156C2E4C3915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regels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alleen veranderbaar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de ander ruimte voor reac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emand hoeft het niet met je eens te zij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iet te veel ineens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1488-C5C5-4600-815B-826FA5C85F20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9ECE-FE50-4657-8226-DDD8E200A393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duidelijkt relaties tussen person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je inzicht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e met mensen omga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ij op mensen overkom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58F8-A466-40A3-A343-4C6FE92D1D7F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E573-4B4D-44B6-8566-6211D47626BD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groot je zelfkenn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Ondersteunt en bevordert positief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orrigeert negatief of ongewenst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raagt bij aan effectieve communica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duidelijkt relaties tussen mens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F538-FFC7-425D-B724-881CDC95C028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2C11-0B3B-484A-9702-75E0748380E5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ntvangen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1.lui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2 vertel wat het je doet ( gevo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3 vraag door, vraag na, vat sa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aardeer/beoordeel wat is gezeg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A9F1-1DA6-4164-8302-43ADDE8F93B0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C421-8B6A-4C26-B2BC-44E18B08C4D3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er over na!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paal of je het wilt verande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Pas je gedrag aan of ni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a niet in de verdedi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4721-F5AC-4279-8526-5D2BEDBB6B6A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2B73-EE9B-41A1-A018-705F370F76D4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na over een conflict(je) dat je had met je ouders/vrienden/st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Hoe verliep het confli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oteer hoe je het volgens de feedback regels beter had kunnen oploss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tel dit aan de klas/groep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9:26:29Z</dcterms:created>
  <dc:creator>custom</dc:creator>
  <dc:description/>
  <dc:language>en-US</dc:language>
  <cp:lastModifiedBy>Nienke Hoogeveen</cp:lastModifiedBy>
  <dcterms:modified xsi:type="dcterms:W3CDTF">2019-06-27T09:19:02Z</dcterms:modified>
  <cp:revision>13</cp:revision>
  <dc:subject/>
  <dc:title>Feedback</dc:title>
</cp:coreProperties>
</file>