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7A5-B58B-41E5-9D7D-98D0AD6E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0EE-4520-474C-B7C4-4CF094CD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ACD2-71F8-4F7A-9972-939D516F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7B1-82FC-404B-8AF2-245F43E0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9F1A-2FBA-4891-9AE8-E0AEA159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E472-6AC7-4296-8978-98A79FF8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C508-7D4E-4362-B1B7-AFB1EA9E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9C52-72C7-4879-9FAA-95EAD773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E283-D083-42DC-B44B-2867DDAF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1440-930E-4D98-BE9F-35B71F1E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5054-8F0C-4414-B414-C1D1E086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C684-EBD5-4173-843E-D1D7E77D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4686-A40B-482B-87AB-58D7D133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6669-62B7-4469-B504-6C616566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1D5E-41DA-42B5-8128-DCCFF1FB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7064-51CA-46AE-B775-958598C6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0B20-3FCF-43EB-97B4-6D58334A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B95D-EBCD-486D-8337-937E696D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B543-2B1F-4FAF-843B-1C215613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EF37-656A-4686-9B80-A1ACFDC8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CD09-95D1-4EF5-B1CF-5A271B76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B63-ED68-48E3-BAF3-CCC733C0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272-500A-4493-818D-1A5EC4E1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2A1-0821-4423-AB23-34839999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0982-676C-4757-9D18-1B18FD7975C2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FD75-4760-40ED-B64D-41DF672E4EC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0A77-5EAE-4D32-BCF5-AE14B7D58B3F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21B3-65AA-41CC-8396-E046F2BA59B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2E8E-680C-4D01-8779-BD10D4B7441C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A8FD-8BCD-4A21-8910-92BF438C3D3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3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F050-6E7A-4393-B436-51F4FAAAA900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A5DC-24B5-4B48-82CF-E830AFF38A9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7604-3496-493E-A2DE-0FAE4BDB55B1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523E-B3E9-406D-87B3-8888091ADB4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1F5A-FAF6-4658-AAD4-A2E338EC038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4D2D-CD0C-431B-8D73-0035850EBB4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E06C-632F-415E-BAC4-201AC646F640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4D07-B98B-4337-85BC-61D612402AE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A35A-BA30-4D36-8372-DA851CE73AA7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F619-0C06-4EDD-8A75-821B82856CE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705D-C7AC-44BF-8ADB-787C045BB9AC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7A05-5E7C-4637-AC1F-CC241E873AC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19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96D7-1014-46AD-A53B-6428E966CFA2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5CA0-A00A-4EA1-AC75-8CBB6E10635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A5E7-0A77-4BDD-8E31-193D6D8DE1B2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666C-83BA-4D2C-A99D-EFDE5014FF7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6EE8-4196-402D-B958-8D9F3AAF542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88D2-EACD-4773-B520-148FE6A7E3B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9-06-27T11:14:54Z</dcterms:modified>
  <cp:revision>34</cp:revision>
  <dc:subject/>
  <dc:title>Gezondheid en gezond gedrag</dc:title>
</cp:coreProperties>
</file>