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A47-98C1-4B41-8508-BA21C666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5E5-B6AB-461C-BCDB-5F5DD26F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BCB-77CB-42D6-B0E2-56E20DB1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491-21C5-4BB3-92B9-54907C98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2DA6-D386-40E1-B390-3D74D510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EAEF-5A6E-4409-A09E-7FEA4C0D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6603-6794-494A-AE67-F61D6F8F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D0AF-25A4-4F89-984B-8025966F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D6BF-5B1E-4278-AFDB-F721C64A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A5CD-9623-49A2-ADEF-480D492F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5F41-A893-4CAC-9445-0476A77C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600-522F-4DCF-B3F2-D776E0B1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05EF-77A7-418B-965E-DD1A9818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826A-3383-4C81-A0AA-1FE37AB7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5E90-707F-4567-993E-46052F74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7E27-A9D1-4E3B-B3F9-3BF957AF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368C-6575-43AA-A81C-465BD400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08C-A459-4471-9E4E-32C49DF2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1F3-2C0B-4BBD-8A24-7202238D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7E0-ABEC-48D1-A2D3-AC88C14D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49B-677E-43C7-8957-B918D830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5CA-CC8D-44A0-9180-11A07AC5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8EA-DE37-42C3-B97B-2D441E66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813-0D77-48D2-A509-962FDD7B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5376-38A1-48F0-8BB4-7D809F36EEF2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9F76-5CAA-4137-83E8-17793807F3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3707-054B-42C7-87A4-1E69E163A549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676F-9999-4CDF-A61C-2CC3A4DD9E2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BBE1-A68E-4F18-B682-9CFF03C9DA5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A0B7-BA3B-44E1-BD9B-3A1C189C40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3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A552-43AA-42DA-8E2D-1C675C96C96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8C2D-328D-4211-A8D6-ECF2A12346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203C-B541-49D4-B13A-A5123A36B8F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F5F-076F-4572-BFE5-35D7152B61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2F76-27E7-4FBA-B370-93E80051397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9B69-1600-4762-A348-28E43EAAFF1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2D5A-DECA-4BD1-BA66-A0AF6477DA39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E26E-45FD-4F72-A3BC-45DFCD16DBC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B33C-9868-49FB-9710-781CBAB53DA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2825-788A-4FB8-8156-006612065D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9F10-F3DB-47FE-8939-EE47150FAE2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57EF-4DA2-4E78-838B-19311DA4F30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19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8742-012C-4909-B45B-692C7A4740A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2930-B9CF-49C3-AF99-5A66B1F3F2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1E8B-0C1C-446D-A299-8B4D75E033D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D471-B9EE-46FB-97F9-72E7BBBCEB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4EDC-A8D9-4BB4-B1AE-25804F88FA7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D016-BE42-4C8B-8075-566C584E625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9-06-27T11:14:54Z</dcterms:modified>
  <cp:revision>34</cp:revision>
  <dc:subject/>
  <dc:title>Gezondheid en gezond gedrag</dc:title>
</cp:coreProperties>
</file>