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715-DD9B-4197-9CC7-5CA13B0D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EC9-B0DF-4B69-83DC-48977AD3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73C-A42E-4F35-AD49-D86C5877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D71A-91B2-4BD3-B943-7BD91E4F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7CDA-0885-4994-AC71-77CFF08D6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AF93-C81E-4C76-9F57-0BED048F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0807-FF38-4F4E-969F-0843D7D0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8AE7-A250-496A-BA6E-E7B2C34B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8233-EF8A-4244-B636-A30554B7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65F2-0850-4BFF-8D8F-10D84F77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58B5-43B4-4011-AE6A-6C8A7508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E20-52E9-4BE5-82A4-9CE133D3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588C-0EC4-4509-A2C6-FC4FD8BA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CE0F-26A4-48F0-AD00-74A8CF54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F7E1-D3B3-4B91-BCE3-81D4F86A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32FE-7057-430E-8A14-4081E529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9E67-7A69-491D-B802-AD321DC4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A250-EB17-491C-BE2E-35D7BA68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506-D565-42AE-9A47-C007273D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8C46-2FF0-4E15-859D-E4B63EF4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2F5F-A70E-448A-9DF3-97139424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9DD9-03D5-4C3F-91A7-C972861C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B3E-1512-40A9-8E30-8C2FE1BF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503-54AA-4581-9E75-31E5691E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CF06-8D56-4E68-85C8-8A332B408D75}" type="datetime">
              <a:rPr b="0" lang="nl-NL" sz="1000" spc="-1" strike="noStrike">
                <a:solidFill>
                  <a:srgbClr val="000000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23F5-D43C-489D-8993-48AE88719C1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C759-E29D-401F-87DF-DBE2BDFC88AD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70B3-D259-4586-AD95-093CAEF2DD4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 en gezond 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at betekent </a:t>
            </a:r>
            <a:r>
              <a:rPr b="0" i="1" lang="en-US" sz="3200" spc="-1" strike="noStrike">
                <a:solidFill>
                  <a:srgbClr val="00ffff"/>
                </a:solidFill>
                <a:latin typeface="Verdana"/>
              </a:rPr>
              <a:t>GEZOND en GEZONDHEID</a:t>
            </a: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ereld Gezondheids (Health)Organisat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B18B-F7F2-47F6-AD82-F3FDB1764EB4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3A3C-4131-4E33-BB31-BFF6E261F64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s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vorderen d.m.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o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ition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boots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140360" y="2151360"/>
            <a:ext cx="45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zond eten, voldoende bewegen, dat doe jij natuurlijk allema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nk je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nt veel mensen overschatten hun eigen gezondheidsgedrag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6" descr="ANd9GcT9yBvSps3WtzxC2M26Vfnxu5a11TPaN3DNgCTFJRiOPenK6UPYCpzl2Rc"/>
          <p:cNvPicPr/>
          <p:nvPr/>
        </p:nvPicPr>
        <p:blipFill>
          <a:blip r:embed="rId4"/>
          <a:stretch/>
        </p:blipFill>
        <p:spPr>
          <a:xfrm>
            <a:off x="5435640" y="2997360"/>
            <a:ext cx="1181160" cy="1152360"/>
          </a:xfrm>
          <a:prstGeom prst="rect">
            <a:avLst/>
          </a:prstGeom>
          <a:ln w="0">
            <a:noFill/>
          </a:ln>
        </p:spPr>
      </p:pic>
      <p:sp>
        <p:nvSpPr>
          <p:cNvPr id="213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110F-9E93-4967-8B57-3D9BCB4ACA94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5869-7BDA-4AEE-9883-A54D90E2F61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5c5ff"/>
                </a:solidFill>
                <a:latin typeface="Arial"/>
              </a:rPr>
              <a:t>World Health Organisatio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WHO: Gezondheid is niet alleen de afwezigheid van ziekte, maar een toestand van volkomen lichamelijk, geestelijk en maatschappelijk wel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37F7-29C1-4689-BF0C-F44D74F94BA6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A542-0B9D-41B9-9BBC-A717F85FE25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zondheid: ingewikkeld begrip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zondheid(sbeleving) is afhankelijk va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ltu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voeding / waarden en nor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jd waarin je le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onlijke ervar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 heb je ervoor over (hoe gezond wil je leven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daarm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relat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bjectie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CA92-F226-4EB0-ABFC-7F918E8C38EC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8000-6FE1-4DDA-A3B3-A6E0F7A95E1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c5c5ff"/>
                </a:solidFill>
                <a:latin typeface="Arial"/>
              </a:rPr>
              <a:t>Nieuwe definitie gezond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zondheid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is het vermogen om je aan te passen en eigen regie te voeren in het licht van fysieke, mentale en sociale uitdagingen van het lev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ilmpje Nationale denktank 2013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org voor gezondheid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774A-88FA-41A1-9C84-C7C117146752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FBB4-D2CD-474E-A1D5-8626CD8F7CB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Arial"/>
              </a:rPr>
              <a:t>Gezondheid als drie-een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estelijk/psychis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gezondhe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chamelijk/fysie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al/maatschappelij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3203640" y="198900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716360" y="1989000"/>
            <a:ext cx="172728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276720" y="3789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483B-BBE8-4DD7-B7FD-71E03CC16A0E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A54A-54B1-43E4-8190-9975B051082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vorder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7A0A-AD85-4898-85A6-230A11251B91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1552-A2EE-44EF-88E6-A9E13FAFF8D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bord-patat-hamburger"/>
          <p:cNvPicPr/>
          <p:nvPr/>
        </p:nvPicPr>
        <p:blipFill>
          <a:blip r:embed="rId1"/>
          <a:stretch/>
        </p:blipFill>
        <p:spPr>
          <a:xfrm>
            <a:off x="1258920" y="62064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kernenergie_doel"/>
          <p:cNvPicPr/>
          <p:nvPr/>
        </p:nvPicPr>
        <p:blipFill>
          <a:blip r:embed="rId2"/>
          <a:stretch/>
        </p:blipFill>
        <p:spPr>
          <a:xfrm>
            <a:off x="3203640" y="2997360"/>
            <a:ext cx="4267080" cy="3181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sigaretten"/>
          <p:cNvPicPr/>
          <p:nvPr/>
        </p:nvPicPr>
        <p:blipFill>
          <a:blip r:embed="rId3"/>
          <a:stretch/>
        </p:blipFill>
        <p:spPr>
          <a:xfrm rot="963600">
            <a:off x="6038640" y="506520"/>
            <a:ext cx="2066760" cy="1726920"/>
          </a:xfrm>
          <a:prstGeom prst="rect">
            <a:avLst/>
          </a:prstGeom>
          <a:ln w="0">
            <a:noFill/>
          </a:ln>
        </p:spPr>
      </p:pic>
      <p:sp>
        <p:nvSpPr>
          <p:cNvPr id="19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1B82-C84C-4DCE-A9D7-AD1F1ABF1B18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089A-EA1F-4A66-A596-DDB47D56CAC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dreig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9C70-DB87-4AF2-8932-26878D5FCA3F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0D6F-77AA-4ECF-8067-2B998CCB337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–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Gezondheidsbedreigend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efstijl/gewoo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va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ei industrie – milieu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itcultuur/ I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brek aan lichaamsbeweg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E7AC-5447-43EE-9E04-43966A065FB2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791B-863E-46FC-A8E3-D73E134B1AF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0:51Z</dcterms:created>
  <dc:creator>Hoogeveen,K.A.G.</dc:creator>
  <dc:description/>
  <dc:language>en-US</dc:language>
  <cp:lastModifiedBy>Nienke Hoogeveen</cp:lastModifiedBy>
  <dcterms:modified xsi:type="dcterms:W3CDTF">2019-06-27T11:14:54Z</dcterms:modified>
  <cp:revision>34</cp:revision>
  <dc:subject/>
  <dc:title>Gezondheid en gezond gedrag</dc:title>
</cp:coreProperties>
</file>