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D34-188E-43C3-B1D6-BAB7C409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3B68-3B0D-43AB-AD01-0C182A09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731-2615-4DF9-BE6B-D44CEE50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2006-A844-4911-9F20-C330DFF1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9C41-9C41-4A41-9FCE-6711EC13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B8F7-428E-4EFD-AE5B-D631902A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1714-2399-4215-904A-631962CF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7BD8-53BE-48BD-A009-90270A50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2D75-D091-454E-9976-367B4F48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6F55-B2D4-46DF-8E9F-92D169CD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396E-D923-4AEB-8C2C-B9531441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64D-D4B3-4995-B884-10A9071C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8F75-0AC6-469B-854D-58449530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70AD-5FB2-4385-9933-D6583732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66F7-2F56-4E50-A2AF-D2A3C4EF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1579-2D91-45A3-86E1-F2E062AC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DC7A-58F9-43A9-89FA-7F7C9F51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16EF-505E-4977-9A55-7528C870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E31A-4245-478C-9906-40EB0573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5DA2-824D-48E6-B8FD-EA1BC8C9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268-5B44-4624-BE76-EB2CC75F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2F7-A72F-401C-8DBA-57BF88A1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B6B-0202-422D-8443-37034451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E29E-1CDB-48C2-95CB-F119AD65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AF36-8AE4-46F6-AB9A-B150140AA0C7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E024-41C3-4CA0-8C63-7B24923753D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1BC1-4820-43B2-9E98-A99DC79EBA40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028B-57F9-470E-815B-5168F27E140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8628-E73C-4609-BB9C-C3EAE395313F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6CA3-673A-404C-BBF5-1C7585D4FA2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3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90FE-84A4-47EB-BFAB-9CCB06E88A15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791A-6014-458F-8BC3-B6B1CE9C72B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C352-506E-499C-A5F0-64399B693C3D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02F0-1302-4CB2-8CC6-9D430EC4351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4F3E-BC00-4639-B8A2-7A1A9B80F421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6539-C71F-4CF5-B692-EF299DB345C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83E6-C1B1-4BE5-8AA2-762CD91C19F2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48EC-F5D6-4E2B-BD47-F015E55C04F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856E-5F43-488E-A5A7-E97BA8D8FE15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EC11-836C-4E63-B72C-9B467B70C7F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3C7E-C0F4-40DF-AEF2-F5FD2FB5531A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83BE-B0DA-40E6-9D71-17A4960A894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19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A187-B187-46B9-B30F-652384C072EE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838D-03DD-4D7B-A07C-BD61D78057E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15C9-78B7-40B0-A2F7-0D9439FB2B04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BFE5-3C84-4A0D-B8E4-19D06C82312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3EF7-3EAF-42B1-8637-F0E5DEEDE1CC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FF0C-863A-40ED-B36B-4CD31DB8C02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9-06-27T11:14:54Z</dcterms:modified>
  <cp:revision>34</cp:revision>
  <dc:subject/>
  <dc:title>Gezondheid en gezond gedrag</dc:title>
</cp:coreProperties>
</file>