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D86F-DA1B-42A9-B407-92AF2B92C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61E2-F925-4FE3-92D1-9B2C1DE6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F8DF-6261-4F0F-80D0-480C9606B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BDD4-FFE9-4B41-B31E-E14C73DB7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D9D6-0B43-494C-AA52-6BE452ED9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EA34-BAE9-49A1-A8B8-F88A791B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89D5-E7A6-454E-9477-308B4A7D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2C3D1-BC45-4DA6-BE25-F1CC0931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A40A-58F9-4CFE-BF0A-A20D7B40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96E5-77AE-4211-91EC-440FE471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2C51-E420-4F2B-86AE-F0866CAA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9682-0623-44B2-BD2E-8CD09BAF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382B-6617-4A59-B411-45F3CABE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B0E64-1C92-4A86-AA54-E55ECB37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2CEE-AC78-4E85-BD55-9936D4A5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1C2B-C223-460A-83B9-CA1D1DCE9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1623-7AB2-4CF5-B72F-2E21C0F4A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8B9D-A175-4308-AC2E-D6D9A4A4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848B-6F3D-4461-8B07-D1283977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39DE-76E9-4E22-91AD-20989A48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DA19-ED59-4A5A-91EB-C8F2AEB1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7FA1-83CE-4B9F-B610-59823BF9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52EB-F768-4E2D-9415-CCFE06A0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D572-A71E-435E-A1EF-EFFFE94C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0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50000">
                  <a:srgbClr val="2e2e8a"/>
                </a:gs>
                <a:gs pos="100000">
                  <a:srgbClr val="0000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c5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AE51-F702-469C-A98B-ACB0334ECCE9}" type="datetime">
              <a:rPr b="0" lang="nl-NL" sz="1000" spc="-1" strike="noStrike">
                <a:solidFill>
                  <a:srgbClr val="000000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6B7A-56E9-4776-8016-415D3A00996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0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50000">
                  <a:srgbClr val="2e2e8a"/>
                </a:gs>
                <a:gs pos="100000">
                  <a:srgbClr val="0000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c5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A094-0FAA-49E7-8C53-E1E431B717F2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1E16-5011-4CC5-9E6D-A6812A7953D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ezondheid en gezond gedrag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Wat betekent </a:t>
            </a:r>
            <a:r>
              <a:rPr b="0" i="1" lang="en-US" sz="3200" spc="-1" strike="noStrike">
                <a:solidFill>
                  <a:srgbClr val="00ffff"/>
                </a:solidFill>
                <a:latin typeface="Verdana"/>
              </a:rPr>
              <a:t>GEZOND en GEZONDHEID</a:t>
            </a: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 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Wereld Gezondheids (Health)Organisatie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BE16-FDAA-4632-A00C-F4AE5FFC5739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0698-A0B7-4D9A-8A86-F0C3C3AC05A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ezondheidsgedrag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vorderen d.m.v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lon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ditioner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aboots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140360" y="2151360"/>
            <a:ext cx="4535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ezond eten, voldoende bewegen, dat doe jij natuurlijk allemaal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nk je..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ant veel mensen overschatten hun eigen gezondheidsgedrag!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Picture 6" descr="ANd9GcT9yBvSps3WtzxC2M26Vfnxu5a11TPaN3DNgCTFJRiOPenK6UPYCpzl2Rc"/>
          <p:cNvPicPr/>
          <p:nvPr/>
        </p:nvPicPr>
        <p:blipFill>
          <a:blip r:embed="rId4"/>
          <a:stretch/>
        </p:blipFill>
        <p:spPr>
          <a:xfrm>
            <a:off x="5435640" y="2997360"/>
            <a:ext cx="1181160" cy="1152360"/>
          </a:xfrm>
          <a:prstGeom prst="rect">
            <a:avLst/>
          </a:prstGeom>
          <a:ln w="0">
            <a:noFill/>
          </a:ln>
        </p:spPr>
      </p:pic>
      <p:sp>
        <p:nvSpPr>
          <p:cNvPr id="213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0C94-E045-483C-A93F-2F9333F058EF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0C20-B391-4BF2-AF39-2821B9A52E8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8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5c5ff"/>
                </a:solidFill>
                <a:latin typeface="Arial"/>
              </a:rPr>
              <a:t>World Health Organisatio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WHO: Gezondheid is niet alleen de afwezigheid van ziekte, maar een toestand van volkomen lichamelijk, geestelijk en maatschappelijk wel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16DE-D0BA-4345-AE1D-F6E788D8491F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580A-68D6-4DD8-9D87-DEE664BDD69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zondheid: ingewikkeld begrip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zondheid(sbeleving) is afhankelijk van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ultuu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pvoeding / waarden en norm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ijd waarin je leef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soonlijke ervaring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at heb je ervoor over (hoe gezond wil je leven?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 daarme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relatief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subjectie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174D-E581-42C4-87EC-08E74F8DE3A5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ECB9-BCB8-466C-95F2-68B33AC1D23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c5c5ff"/>
                </a:solidFill>
                <a:latin typeface="Arial"/>
              </a:rPr>
              <a:t>Nieuwe definitie gezondheid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zondheid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is het vermogen om je aan te passen en eigen regie te voeren in het licht van fysieke, mentale en sociale uitdagingen van het leve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Filmpje Nationale denktank 2013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zorg voor gezondheid”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058C-0C33-4BDE-8FBD-98A6C94BD206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11EF-60D1-4709-BCE5-0EF3E966B9C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Arial"/>
              </a:rPr>
              <a:t>Gezondheid als drie-eenheid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eestelijk/psychisc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gezondhei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ichamelijk/fysiek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ociaal/maatschappelijk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Line 18"/>
          <p:cNvSpPr/>
          <p:nvPr/>
        </p:nvSpPr>
        <p:spPr>
          <a:xfrm flipH="1">
            <a:off x="3203640" y="1989000"/>
            <a:ext cx="1512720" cy="180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Line 19"/>
          <p:cNvSpPr/>
          <p:nvPr/>
        </p:nvSpPr>
        <p:spPr>
          <a:xfrm>
            <a:off x="4716360" y="1989000"/>
            <a:ext cx="1727280" cy="180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276720" y="3789360"/>
            <a:ext cx="3240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A963-0231-4A3A-925B-9F9620FF5E02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8B68-E96A-4468-926C-86D7DA24F71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Gezondheidsbevorderende 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0B4B-444D-4D06-997A-623CC925CC32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869C-7E17-4418-8EE4-DFC118D32E1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bord-patat-hamburger"/>
          <p:cNvPicPr/>
          <p:nvPr/>
        </p:nvPicPr>
        <p:blipFill>
          <a:blip r:embed="rId1"/>
          <a:stretch/>
        </p:blipFill>
        <p:spPr>
          <a:xfrm>
            <a:off x="1258920" y="620640"/>
            <a:ext cx="2089080" cy="1584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kernenergie_doel"/>
          <p:cNvPicPr/>
          <p:nvPr/>
        </p:nvPicPr>
        <p:blipFill>
          <a:blip r:embed="rId2"/>
          <a:stretch/>
        </p:blipFill>
        <p:spPr>
          <a:xfrm>
            <a:off x="3203640" y="2997360"/>
            <a:ext cx="4267080" cy="3181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sigaretten"/>
          <p:cNvPicPr/>
          <p:nvPr/>
        </p:nvPicPr>
        <p:blipFill>
          <a:blip r:embed="rId3"/>
          <a:stretch/>
        </p:blipFill>
        <p:spPr>
          <a:xfrm rot="963600">
            <a:off x="6038640" y="506520"/>
            <a:ext cx="2066760" cy="1726920"/>
          </a:xfrm>
          <a:prstGeom prst="rect">
            <a:avLst/>
          </a:prstGeom>
          <a:ln w="0">
            <a:noFill/>
          </a:ln>
        </p:spPr>
      </p:pic>
      <p:sp>
        <p:nvSpPr>
          <p:cNvPr id="196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438A-CDD4-4FBC-9D38-C4482C57F82E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F0A6-D61B-4B2B-AD37-56E249F27E9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Gezondheidsbedreigende 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2492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7934-C700-4B5B-9B14-BCBA536BD6EF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8ED3-6D5B-40D5-9F3D-39CC2003388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Verdana"/>
              </a:rPr>
              <a:t>– 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Gezondheidsbedreigend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efstijl/gewoon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lva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res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oei industrie – milieuvervuil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itcultuur/ I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brek aan lichaamsbeweg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4840-9304-49ED-B192-3C1FA028A5CF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FD60-0FF4-4B1E-9296-B0F97EF9832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8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2:50:51Z</dcterms:created>
  <dc:creator>Hoogeveen,K.A.G.</dc:creator>
  <dc:description/>
  <dc:language>en-US</dc:language>
  <cp:lastModifiedBy>Nienke Hoogeveen</cp:lastModifiedBy>
  <dcterms:modified xsi:type="dcterms:W3CDTF">2019-06-27T11:14:54Z</dcterms:modified>
  <cp:revision>34</cp:revision>
  <dc:subject/>
  <dc:title>Gezondheid en gezond gedrag</dc:title>
</cp:coreProperties>
</file>