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182-14E5-449A-9A80-599E1088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F06-DA4F-4475-BED4-41B097FE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5452-3475-4502-AF7A-511F786D0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1D0-FCA0-4F80-A854-ADC29723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D68D9-AA7C-4F7F-9D09-663BDF03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5B4F-7C5A-4AF5-8680-D89FFA1D8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3D60-B785-45E9-B3CE-71A35047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AB30-E278-466C-A39E-254CB570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5571-83E9-470A-B43D-C766F9E4A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E125-3D57-4AC6-8B7B-62619135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5DFB-171B-46F8-939A-85B3F8DD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3CA1-F2EA-461D-9C80-C2E07910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B4D2-5728-46FC-994D-DC21D612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9F121-78EF-44F7-ADA9-A2B20AB9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09E9-A547-423D-8AD9-41F303A5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D5B4-5A7F-434E-AEA3-60A68F505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BDDFC-D9B1-4491-B597-19177FAAB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B52-7616-47C2-9907-5E107D67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E11-5EDD-4031-AE95-34146259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EB63-772B-4E3A-9B7E-BE6365D5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A5EC-D12D-404C-8B08-F3C9D6BE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33BF-0894-43E5-993B-C0910ACD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BF8-1A92-410E-9DDC-76C1F347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5AD5-815F-4AE0-9C9B-1F3F7FE1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4C41-7346-4FEF-891B-F989A429CD31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F9D2-7E95-409E-8BC9-A9287983AE4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D07-E21D-4560-AB4E-1F4A746AA8F6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044C-4745-48A4-8C4D-E40D5BC9E40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89C-53DB-498B-AA16-44713AF5F2C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90D3-D420-4F59-88DC-494C4EFAB4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2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3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1DF3-C484-4FEF-9307-8D20D5DDDA7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EFD-99B1-475D-9531-68D3CCCDFF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2261-671E-471B-9C02-19296AA6C15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76FA-1FA1-4B95-A0F8-2EF6E5C06AA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B343-DEC6-4CA3-8664-47573107825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2868-E00F-4726-B58D-BFBF808838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6E3-E8D2-448B-A475-80CD5B26830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83D7-7F25-4B68-A867-C2EB46BD10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2971-6DC5-49BB-9615-3E1CC0D50FA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95F6-0108-4310-B95D-686A726D874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FF7E-E652-4F6E-91FC-169B4DC74B85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59A5-2A37-4934-B268-AD3C30DE37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19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66B4-9B44-4D64-905A-00907FFA2BA8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5EF6-9476-4981-9B99-71713ADF2A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61BC-3CD0-4516-8D71-C338066F783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BCB6-2ABE-49B5-AA12-CE7F6F169B6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257A-9879-4BD3-A4B7-5779604DFC0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9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BDBD-E460-488E-A056-D648AE54A39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9-06-27T11:14:54Z</dcterms:modified>
  <cp:revision>34</cp:revision>
  <dc:subject/>
  <dc:title>Gezondheid en gezond gedrag</dc:title>
</cp:coreProperties>
</file>