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9E9B-12AA-420D-91B4-86B5771F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172C-5678-44C4-A232-85199275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DBD5-B87E-462F-B16A-7ABC743E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FEA9-C4AD-418A-B29E-CCB4EFAE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4BF5-71D3-4FB3-B17D-0882A782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4AB3-D2AF-4B4F-A71A-28571632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721A-A063-4619-8D0F-F201B885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8A44-8494-4134-A97D-9E8FBE2A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1AB4-968C-4F50-8B11-9BE00662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7ED7-07A4-4163-A5E5-32BC25CB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EA59-6768-4103-8356-C2A38A1A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F443-848A-4C7F-9F5D-12E7584C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C160-17CC-4216-BCF3-75B771A0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449A-9FC2-4844-9EEF-9A3E254F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159E-683F-4C66-BCCC-1DC79557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FCEC-8EFC-445A-9742-32AA0F9C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E25D-AFC3-4526-9095-F51EF9AB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DA50-0272-49E2-B219-83C70A07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B9AA-E924-4FB3-B277-1863F944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A38B-7FC8-424A-85B3-B66B6EDC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9F23-95C6-44AC-9244-8287B66F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A6C2-5F82-473D-B2EE-AD4B376B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0031-4E62-411A-A566-CFE52F66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3D80-DD19-4D0A-8F87-AD4196DD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B9EB-E8F2-4D02-AF63-4F462295F851}" type="datetime">
              <a:rPr b="0" lang="nl-NL" sz="1000" spc="-1" strike="noStrike">
                <a:solidFill>
                  <a:srgbClr val="000000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D054-7B72-4AB2-BACF-AA3CAEE1E45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9843-2566-47DD-9D8D-F0DBEB223C11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8668-4334-4C0A-8563-CFC21C6A339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 en gezond 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at betekent </a:t>
            </a:r>
            <a:r>
              <a:rPr b="0" i="1" lang="en-US" sz="3200" spc="-1" strike="noStrike">
                <a:solidFill>
                  <a:srgbClr val="00ffff"/>
                </a:solidFill>
                <a:latin typeface="Verdana"/>
              </a:rPr>
              <a:t>GEZOND en GEZONDHEID</a:t>
            </a: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ereld Gezondheids (Health)Organisati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4DBE-938E-4A7A-AFD1-F859430A5282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05CA-87A0-448D-97BA-43B182D1B66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s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vorderen d.m.v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lo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ition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boots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140360" y="2151360"/>
            <a:ext cx="453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zond eten, voldoende bewegen, dat doe jij natuurlijk allemaal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nk je..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ant veel mensen overschatten hun eigen gezondheidsgedrag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6" descr="ANd9GcT9yBvSps3WtzxC2M26Vfnxu5a11TPaN3DNgCTFJRiOPenK6UPYCpzl2Rc"/>
          <p:cNvPicPr/>
          <p:nvPr/>
        </p:nvPicPr>
        <p:blipFill>
          <a:blip r:embed="rId4"/>
          <a:stretch/>
        </p:blipFill>
        <p:spPr>
          <a:xfrm>
            <a:off x="5435640" y="2997360"/>
            <a:ext cx="1181160" cy="1152360"/>
          </a:xfrm>
          <a:prstGeom prst="rect">
            <a:avLst/>
          </a:prstGeom>
          <a:ln w="0">
            <a:noFill/>
          </a:ln>
        </p:spPr>
      </p:pic>
      <p:sp>
        <p:nvSpPr>
          <p:cNvPr id="213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F7FA-EABC-449B-B3EB-FDE272B1E96D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AF39-AB5E-42BD-92A8-28F073131C4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5c5ff"/>
                </a:solidFill>
                <a:latin typeface="Arial"/>
              </a:rPr>
              <a:t>World Health Organisatio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WHO: Gezondheid is niet alleen de afwezigheid van ziekte, maar een toestand van volkomen lichamelijk, geestelijk en maatschappelijk wel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C5F5-FCF0-4261-AB79-8EF645B42D06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A7AD-D59F-46E3-BC34-EA97F105C85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zondheid: ingewikkeld begrip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zondheid(sbeleving) is afhankelijk va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ltu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voeding / waarden en nor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jd waarin je lee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soonlijke ervarin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 heb je ervoor over (hoe gezond wil je leven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daarme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relatief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ubjectie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92FD-669F-465C-8566-4BCDD09077EA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6A7B-F123-46D6-96E5-2D13E270214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c5c5ff"/>
                </a:solidFill>
                <a:latin typeface="Arial"/>
              </a:rPr>
              <a:t>Nieuwe definitie gezond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zondheid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is het vermogen om je aan te passen en eigen regie te voeren in het licht van fysieke, mentale en sociale uitdagingen van het lev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Filmpje Nationale denktank 2013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org voor gezondheid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F0E2-BB7F-4203-8DEB-B6F29463AA5E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F661-A5F8-494A-ACCD-619C17C7044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Arial"/>
              </a:rPr>
              <a:t>Gezondheid als drie-een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estelijk/psychis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gezondhe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chamelijk/fysie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ciaal/maatschappelij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3203640" y="198900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4716360" y="1989000"/>
            <a:ext cx="172728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276720" y="3789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A9EA-2FBC-4408-8A68-29713B3D57A4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A319-6739-4C40-84E0-3AC72640568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vorder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E4CD-6C85-4F33-8010-3ABC5102C18A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39AA-016A-4489-A1A9-76ACA1266BA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bord-patat-hamburger"/>
          <p:cNvPicPr/>
          <p:nvPr/>
        </p:nvPicPr>
        <p:blipFill>
          <a:blip r:embed="rId1"/>
          <a:stretch/>
        </p:blipFill>
        <p:spPr>
          <a:xfrm>
            <a:off x="1258920" y="620640"/>
            <a:ext cx="2089080" cy="1584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kernenergie_doel"/>
          <p:cNvPicPr/>
          <p:nvPr/>
        </p:nvPicPr>
        <p:blipFill>
          <a:blip r:embed="rId2"/>
          <a:stretch/>
        </p:blipFill>
        <p:spPr>
          <a:xfrm>
            <a:off x="3203640" y="2997360"/>
            <a:ext cx="4267080" cy="3181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sigaretten"/>
          <p:cNvPicPr/>
          <p:nvPr/>
        </p:nvPicPr>
        <p:blipFill>
          <a:blip r:embed="rId3"/>
          <a:stretch/>
        </p:blipFill>
        <p:spPr>
          <a:xfrm rot="963600">
            <a:off x="6038640" y="506520"/>
            <a:ext cx="2066760" cy="1726920"/>
          </a:xfrm>
          <a:prstGeom prst="rect">
            <a:avLst/>
          </a:prstGeom>
          <a:ln w="0">
            <a:noFill/>
          </a:ln>
        </p:spPr>
      </p:pic>
      <p:sp>
        <p:nvSpPr>
          <p:cNvPr id="19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B034-5851-4B6D-BAB5-1AFD5BDC432A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C68D-E53E-4D20-BC7B-F108E4EFC99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dreig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492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CAA6-47EA-48BD-8A84-9162E506225A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0641-FF92-4A26-9726-7DE3CBA686E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–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Gezondheidsbedreigend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efstijl/gewoo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va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oei industrie – milieu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itcultuur/ I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brek aan lichaamsbeweg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5423-C9E1-4669-98BC-26788D8AB2EC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FD6D-4DDC-4458-96AB-BE4609D6C36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2:50:51Z</dcterms:created>
  <dc:creator>Hoogeveen,K.A.G.</dc:creator>
  <dc:description/>
  <dc:language>en-US</dc:language>
  <cp:lastModifiedBy>Nienke Hoogeveen</cp:lastModifiedBy>
  <dcterms:modified xsi:type="dcterms:W3CDTF">2019-06-27T11:14:54Z</dcterms:modified>
  <cp:revision>34</cp:revision>
  <dc:subject/>
  <dc:title>Gezondheid en gezond gedrag</dc:title>
</cp:coreProperties>
</file>