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5C7-9761-4416-93E7-B2525849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C46-357E-42CA-A1A2-02FA2042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1C6-560C-41E5-8B2F-64596EF1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5E5-9EA0-4E75-A898-C7882483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5B72-46EF-4CCE-8276-7AFB9160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BF5B-E117-4E5E-9F15-FADE94DB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67D1-64D0-4E45-AEF9-F42538A0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751B-C9BC-4475-B1F3-F52AC70D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C636-1AAB-4936-BC5C-1E9A4A12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5636-3B3E-4937-A470-D2B4445B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BDB8-CF0E-4F0E-9D8B-BEC9F01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DDE-1AEF-4F75-83E3-4893C952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013F-1DAA-4EA1-95D4-A3CA4FBC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6826-DF4F-4146-844A-B3B2BCB6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0D99-ED2E-4BA3-82C9-CCA3C825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565F-0D3E-4C04-BAA0-FD95A067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2BE8-3E63-4D81-AC09-8EC2F1A8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832-06D0-4A21-9976-BC5E338C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150-440C-40EA-A977-14EC2691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698-0805-4016-8D09-294C601F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2EC-83B1-4DBE-B352-316E648B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117-7EEA-45AE-A850-04DB8CB9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EE0-3522-451F-B51D-441BBF9A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86B-B664-4201-A173-E1DFEC7C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7A54-5EA5-46F7-8D50-72C5669365BA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6AF7-7661-4F09-A978-4B3FC7877A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7024-BD69-454A-A8B6-F6EF2569DDC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F8ED-13C2-447F-B1D8-343BC76122D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F1B4-3148-4B8E-A998-8251BBFEB530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FC90-97CC-4478-B7F9-190B6849946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3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1C6F-017E-4C8F-8519-A624D9D406E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541C-6E12-4595-B2F5-2F49BB05BE1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7EC2-90F6-4AEF-9D39-223F748DF6F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9520-2827-4D82-8C23-DA24605FEAA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FB1F-3139-4A69-A2CE-D92E098F80C7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A90A-1534-44BC-81F7-A6A6C2EC55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90C8-33B1-419D-8BC1-D983A7CB5DB9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960A-A006-4CBE-B597-9B9562E9C7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B637-F2C8-47C0-B1A2-D31F2F3A8DA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7C86-A045-4B12-A84A-A4167E53DD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BA5F-558A-42C2-B947-9F7A14666F37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2607-7368-490D-A2DD-B93C73F671B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19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998A-CB0A-495E-BD8C-9B2405E511A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83F2-CC42-4ADF-B0ED-C3BD347F51E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1E17-F91A-4290-944C-DF61A338A5E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2AED-540B-4DF6-A746-058E026B52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2CE3-63BA-4C7C-AB68-EFB5F109CF1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1D40-B730-477E-A092-D402A48690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9-06-27T11:14:54Z</dcterms:modified>
  <cp:revision>34</cp:revision>
  <dc:subject/>
  <dc:title>Gezondheid en gezond gedrag</dc:title>
</cp:coreProperties>
</file>