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431A-6EF7-4996-AFBB-68CC5977CAC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8377-F820-4672-9277-65D8BF8DFDD0}" type="slidenum">
              <a:rPr b="0" lang="nl-NL"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51C43-5875-4E75-B30C-CE77C4A05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DAC95-05C0-4603-8603-2F843770E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17365-80A2-427E-BEFB-CD1A54BBF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F489E-2C6C-4B8C-9DFF-FE831D1EB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C2A3A-3831-4408-8D4D-38ADE65CB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58D71-2326-48D4-9DA5-05CAFA633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C07FA-E189-4836-8D7F-4DC99754D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646F7-08C7-4A74-8D1B-2C680A168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A9AFF-972F-44DE-A793-8643B1248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2B2E8-2DF0-44AD-8A73-6BFCE2973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E0C99-9DC1-455F-9027-AC294171C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EE809-D032-418C-933A-BBA6BE7BD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2B0E7-7543-4DE4-BF65-B9CDA2E7B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476CD-8A1D-489D-9CE8-5BD5E74CF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DE1CA-6D94-4626-A332-951D4A2F5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BC617-5282-4B41-B5D1-E47E3B828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B8477-16C2-4542-83A1-2C8B4D9DE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4056D-FAAC-492E-84FE-698DC254F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8FA6-8E17-424E-A737-276E88982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56146-91EC-4F7E-89C1-72358268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525D-51F4-4EC1-9356-73CD7F5C1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8ED48-CE83-4A3F-8E2B-627A3F420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5F3F5-D1DB-41F8-AF4E-38655CD1F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9E7D-C078-433B-9920-88B06E00D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DFFF-9B0D-45B0-835C-792D13C98076}"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EC61-4E01-489C-AB55-A281E7DA1EE0}"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mt.nl/" TargetMode="External"/><Relationship Id="rId2" Type="http://schemas.openxmlformats.org/officeDocument/2006/relationships/hyperlink" Target="http://www.allesoverhetgebit.n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Opleiding tandartsassisten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Noorderpoor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Kerntaak 1 (Adm. Deel)</a:t>
            </a:r>
            <a:endParaRPr b="0" lang="en-US" sz="3200" spc="-1" strike="noStrike">
              <a:solidFill>
                <a:srgbClr val="ffffff"/>
              </a:solidFill>
              <a:latin typeface="Verdana"/>
            </a:endParaRPr>
          </a:p>
        </p:txBody>
      </p:sp>
      <p:sp>
        <p:nvSpPr>
          <p:cNvPr id="164" name="PlaceHolder 2"/>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Tandheelkundige Administrati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administratie bestaat ui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ati</a:t>
            </a:r>
            <a:r>
              <a:rPr b="0" lang="nl-NL" sz="2800" spc="-1" strike="noStrike">
                <a:solidFill>
                  <a:srgbClr val="ffffff"/>
                </a:solidFill>
                <a:latin typeface="Arial"/>
                <a:ea typeface="Arial"/>
              </a:rPr>
              <a:t>ëntenadministratie </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dossiervorming</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planning afsprak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techniekbonn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correspondentie</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Financi</a:t>
            </a:r>
            <a:r>
              <a:rPr b="0" lang="nl-NL" sz="2800" spc="-1" strike="noStrike">
                <a:solidFill>
                  <a:srgbClr val="ffffff"/>
                </a:solidFill>
                <a:latin typeface="Arial"/>
                <a:ea typeface="Arial"/>
              </a:rPr>
              <a:t>ële administratie</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direct nota’s</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factoring</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via zorgverzekeraar</a:t>
            </a:r>
            <a:endParaRPr b="0" lang="en-US" sz="2800" spc="-1" strike="noStrike">
              <a:solidFill>
                <a:srgbClr val="ffffff"/>
              </a:solidFill>
              <a:latin typeface="Verdana"/>
            </a:endParaRPr>
          </a:p>
          <a:p>
            <a:pPr lvl="4" marL="162756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Arial"/>
              </a:rPr>
              <a:t>	</a:t>
            </a:r>
            <a:endParaRPr b="0" lang="en-US" sz="16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Immediaat prothese en vervangende prothese</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a:solidFill>
                  <a:srgbClr val="ffffff"/>
                </a:solidFill>
                <a:latin typeface="Verdana"/>
              </a:rPr>
              <a:t>eigen bijdrage 25%</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Reparatie en Rebasen</a:t>
            </a: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igen bijdrage van 10% van de kosten in voor reparaties en rebasing van gebitsprotheses.        Het gaat daarbij maximaal om €45,-.</a:t>
            </a: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Klikgebit &amp; Implantaten na machtiging</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implantaat gedragen protheses voor de onderkaak gaat een eigen bijdrage gelden van 10% van de kosten;</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een implantaat gedragen prothese op de bovenkaak gaat een eigen bijdrage gelden van 8% van de kosten</a:t>
            </a:r>
            <a:endParaRPr b="0" lang="en-US" sz="2400" spc="-1" strike="noStrike">
              <a:solidFill>
                <a:srgbClr val="ffffff"/>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Prothese en frame</a:t>
            </a:r>
            <a:br>
              <a:rPr sz="4000"/>
            </a:b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nneer machtiging nodig bij vervangende prothes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ij vervanging prothese binnen vijf ja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P: volledige prothese OK en/of BK</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P: partiële prothese &amp; frame vallen niet onder de basisverzeker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nsulten en diagnostiek</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reventieve mondzorg</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nesthesie, restauraties en extracties</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ortelkanaalbehandelingen</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arodontale en Prothetische behandelingen</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Uitzonderingen hiervan zijn het bijslijpen en/of behandelen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an een melkelement (code M05),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rthodontie en kroon- en brugwerk.</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handelingen buiten reguliere openingstijden worden vergoed als de </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klacht niet tot de volgende werkdag kan wachten.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4" name="PlaceHolder 2"/>
          <p:cNvSpPr>
            <a:spLocks noGrp="1"/>
          </p:cNvSpPr>
          <p:nvPr>
            <p:ph type="title"/>
          </p:nvPr>
        </p:nvSpPr>
        <p:spPr>
          <a:xfrm>
            <a:off x="457200" y="430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8531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Kroon- en brugwerk</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ergoeding Orthodontie, kroon-en brugwerk afhankelijk polis en zorgverzekeraar</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anvragen OPG en 3</a:t>
            </a:r>
            <a:r>
              <a:rPr b="0" lang="nl-NL" sz="2400" spc="-1" strike="noStrike" baseline="30000">
                <a:solidFill>
                  <a:srgbClr val="ffffff"/>
                </a:solidFill>
                <a:latin typeface="Verdana"/>
              </a:rPr>
              <a:t>e</a:t>
            </a:r>
            <a:r>
              <a:rPr b="0" lang="nl-NL" sz="2400" spc="-1" strike="noStrike">
                <a:solidFill>
                  <a:srgbClr val="ffffff"/>
                </a:solidFill>
                <a:latin typeface="Verdana"/>
              </a:rPr>
              <a:t> fluoride binnen 1 kalenderjaar</a:t>
            </a:r>
            <a:endParaRPr b="0" lang="en-US" sz="24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Wie voor zijn 18e jaar een volledig frontelement verliest of bij wie een frontelement niet is aangelegd, kan die tot zijn 23e jaar laten vervangen met vergoeding vanuit de basisverzekering. (Was: 18 jaar).</a:t>
            </a:r>
            <a:endParaRPr b="0" lang="en-US" sz="24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fontScale="8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anspraak op eigen bijdrage van € 385,00</a:t>
            </a:r>
            <a:endParaRPr b="0" lang="en-US" sz="2800" spc="-1" strike="noStrike">
              <a:solidFill>
                <a:srgbClr val="ffffff"/>
              </a:solidFill>
              <a:latin typeface="Verdana"/>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eldt niet voor kinderen tot 18 jaar</a:t>
            </a:r>
            <a:endParaRPr b="0" lang="en-US" sz="2400" spc="-1" strike="noStrike">
              <a:solidFill>
                <a:srgbClr val="ffffff"/>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fweging tandarts verwijdering M3</a:t>
            </a:r>
            <a:endParaRPr b="0" lang="en-US" sz="28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oorverwijzen of zelf uitvoeren ?</a:t>
            </a:r>
            <a:endParaRPr b="0" lang="en-US" sz="24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hirurgische tandheelkundige hulp door een kaakchirurg en het daarbij horende röntgenonderzoek</a:t>
            </a:r>
            <a:endParaRPr b="0" lang="en-US" sz="2400" spc="-1" strike="noStrike">
              <a:solidFill>
                <a:srgbClr val="ffffff"/>
              </a:solidFill>
              <a:latin typeface="Verdana"/>
            </a:endParaRPr>
          </a:p>
          <a:p>
            <a:pPr lvl="2" marL="1017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Nuttige websites: </a:t>
            </a:r>
            <a:r>
              <a:rPr b="0" lang="nl-NL" sz="2800" spc="-1" strike="noStrike" u="sng">
                <a:solidFill>
                  <a:srgbClr val="ffffcc"/>
                </a:solidFill>
                <a:uFillTx/>
                <a:latin typeface="Verdana"/>
                <a:hlinkClick r:id="rId1"/>
              </a:rPr>
              <a:t>www.knmt.nl</a:t>
            </a:r>
            <a:endParaRPr b="0" lang="en-US" sz="2800" spc="-1" strike="noStrike">
              <a:solidFill>
                <a:srgbClr val="ffffff"/>
              </a:solidFill>
              <a:latin typeface="Verdana"/>
            </a:endParaRPr>
          </a:p>
          <a:p>
            <a:pPr lvl="4" marL="183096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u="sng">
                <a:solidFill>
                  <a:srgbClr val="ffffcc"/>
                </a:solidFill>
                <a:uFillTx/>
                <a:latin typeface="Verdana"/>
                <a:hlinkClick r:id="rId2"/>
              </a:rPr>
              <a:t>www.allesoverhetgebit.nl</a:t>
            </a: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rwijzing Kaakchirurgie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astgesteld door de Nza i.o.m. vakorg.</a:t>
            </a:r>
            <a:endParaRPr b="0" lang="en-US" sz="2800" spc="-1" strike="noStrike">
              <a:solidFill>
                <a:srgbClr val="ffffff"/>
              </a:solidFill>
              <a:latin typeface="Verdana"/>
            </a:endParaRPr>
          </a:p>
          <a:p>
            <a:pPr lvl="4" marL="2036520" indent="-22608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Nederlandse zorgautoriteit</a:t>
            </a:r>
            <a:endParaRPr b="0" lang="en-US" sz="2400" spc="-1" strike="noStrike">
              <a:solidFill>
                <a:srgbClr val="ffffff"/>
              </a:solidFill>
              <a:latin typeface="Verdana"/>
            </a:endParaRPr>
          </a:p>
          <a:p>
            <a:pPr lvl="4" marL="203652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anaf € 500,00 laten tekenen (advies Famed)</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erplicht vanaf € 250,00</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Tarieven toegankelijk voor pati</a:t>
            </a:r>
            <a:r>
              <a:rPr b="0" lang="nl-NL" sz="2800" spc="-1" strike="noStrike">
                <a:solidFill>
                  <a:srgbClr val="ffffff"/>
                </a:solidFill>
                <a:latin typeface="Arial"/>
                <a:ea typeface="Arial"/>
              </a:rPr>
              <a:t>ënt</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Verrichtingen transparant voor patiënt </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Uitspraak over kosten c.q. vergoeding?!</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rieven Tandheelkunde 2018</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7:37:10Z</dcterms:created>
  <dc:creator>Maria</dc:creator>
  <dc:description/>
  <dc:language>en-US</dc:language>
  <cp:lastModifiedBy>Maria de Vries</cp:lastModifiedBy>
  <dcterms:modified xsi:type="dcterms:W3CDTF">2018-09-05T06:38:25Z</dcterms:modified>
  <cp:revision>26</cp:revision>
  <dc:subject/>
  <dc:title>Protheses en frames</dc:title>
</cp:coreProperties>
</file>