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F7CB-DDBA-41B7-B6C9-E0F0A28DB59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2E66-FCB9-4B71-9473-DCF4B6E8D338}" type="slidenum">
              <a:rPr b="0" lang="nl-NL"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AE7AB-79A6-4B64-8152-8CE41C51C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5ED53-5EE4-4E60-9AAC-DF0E9515F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DC764-490F-4615-967B-F41D3143A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E34EF-A2F2-432E-9114-23F12558E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2922C-43F3-434F-968D-D97FD4D2D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8BB4F-679B-4963-84D5-CC176F7B6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1012F-4B77-47C4-94E3-FE88C0E52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05612-3825-492E-8D90-5CA854BDF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17E09-0F07-4232-9E81-2F3564C57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B2CCB-F5B9-40B2-B251-BB20F924C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6BE90-4882-4525-AB0E-3388BBE38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F04A4-3054-4A41-B6B2-1931EA1F3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2B703-FA6C-4E68-8F14-72B8C9BE3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7E46A-6B81-4114-98EB-C68279EE2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EB685-8CC7-4D3C-8E20-1B97CA43F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CC7F90-DE9A-4A27-A96B-424173278A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F7B8F4-78FC-4A63-A454-EECE6719A5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FB9FE-19C1-4D9D-B08D-4DBDA9961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4968C-B514-4347-94D8-CC8A5BC4C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E37D7-4138-4965-B9CB-8D1B90747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10873-3617-41A5-966C-B82316F00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E2498-BD42-4271-B701-FDAC73F23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6A11C-2BA5-41F7-BD0E-DB609DB74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E096F-E043-4461-8DE4-8187DDFAB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A564-C95D-4D25-9C4E-C555252503E4}"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8F3C-DF1C-40D3-AAB9-A560C149ED41}"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mt.nl/" TargetMode="External"/><Relationship Id="rId2" Type="http://schemas.openxmlformats.org/officeDocument/2006/relationships/hyperlink" Target="http://www.allesoverhetgebit.nl/"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Opleiding tandartsassistent</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Noorderpoort</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Kerntaak 1 (Adm. Deel)</a:t>
            </a:r>
            <a:endParaRPr b="0" lang="en-US" sz="3200" spc="-1" strike="noStrike">
              <a:solidFill>
                <a:srgbClr val="ffffff"/>
              </a:solidFill>
              <a:latin typeface="Verdana"/>
            </a:endParaRPr>
          </a:p>
        </p:txBody>
      </p:sp>
      <p:sp>
        <p:nvSpPr>
          <p:cNvPr id="164" name="PlaceHolder 2"/>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ccecff"/>
                </a:solidFill>
                <a:latin typeface="Arial"/>
              </a:rPr>
              <a:t>Tandheelkundige Administratie</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administratie bestaat uit:</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Pati</a:t>
            </a:r>
            <a:r>
              <a:rPr b="0" lang="nl-NL" sz="2800" spc="-1" strike="noStrike">
                <a:solidFill>
                  <a:srgbClr val="ffffff"/>
                </a:solidFill>
                <a:latin typeface="Arial"/>
                <a:ea typeface="Arial"/>
              </a:rPr>
              <a:t>ëntenadministratie </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dossiervorming</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planning afspraken</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techniekbonnen</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correspondentie</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Financi</a:t>
            </a:r>
            <a:r>
              <a:rPr b="0" lang="nl-NL" sz="2800" spc="-1" strike="noStrike">
                <a:solidFill>
                  <a:srgbClr val="ffffff"/>
                </a:solidFill>
                <a:latin typeface="Arial"/>
                <a:ea typeface="Arial"/>
              </a:rPr>
              <a:t>ële administratie</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direct nota’s</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factoring</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via zorgverzekeraar</a:t>
            </a:r>
            <a:endParaRPr b="0" lang="en-US" sz="2800" spc="-1" strike="noStrike">
              <a:solidFill>
                <a:srgbClr val="ffffff"/>
              </a:solidFill>
              <a:latin typeface="Verdana"/>
            </a:endParaRPr>
          </a:p>
          <a:p>
            <a:pPr lvl="4" marL="162756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ea typeface="Arial"/>
              </a:rPr>
              <a:t>	</a:t>
            </a:r>
            <a:endParaRPr b="0" lang="en-US" sz="1600" spc="-1" strike="noStrike">
              <a:solidFill>
                <a:srgbClr val="ffffff"/>
              </a:solidFill>
              <a:latin typeface="Verdana"/>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t valt er onder de basisverzekering ?</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Immediaat prothese en vervangende prothese</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800" spc="-1" strike="noStrike">
                <a:solidFill>
                  <a:srgbClr val="ffffff"/>
                </a:solidFill>
                <a:latin typeface="Verdana"/>
              </a:rPr>
              <a:t>eigen bijdrage 25%</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Reparatie en Rebasen</a:t>
            </a:r>
            <a:endParaRPr b="0" lang="en-US" sz="28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eigen bijdrage van 10% van de kosten in voor reparaties en rebasing van gebitsprotheses.        Het gaat daarbij maximaal om €45,-.</a:t>
            </a:r>
            <a:endParaRPr b="0" lang="en-US" sz="24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zorg in NL?</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t valt er onder de basisverzekering ?</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Klikgebit &amp; Implantaten na machtiging</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oor implantaat gedragen protheses voor de onderkaak gaat een eigen bijdrage gelden van 10% van de kosten;</a:t>
            </a:r>
            <a:endParaRPr b="0" lang="en-US" sz="24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oor een implantaat gedragen prothese op de bovenkaak gaat een eigen bijdrage gelden van 8% van de kosten</a:t>
            </a:r>
            <a:endParaRPr b="0" lang="en-US" sz="2400" spc="-1" strike="noStrike">
              <a:solidFill>
                <a:srgbClr val="ffffff"/>
              </a:solidFill>
              <a:latin typeface="Verdan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zorg in NL?</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ecff"/>
                </a:solidFill>
                <a:latin typeface="Arial"/>
              </a:rPr>
              <a:t>Prothese en frame</a:t>
            </a:r>
            <a:br>
              <a:rPr sz="4000"/>
            </a:br>
            <a:endParaRPr b="0" lang="en-US" sz="40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nneer machtiging nodig bij vervangende prothes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ij vervanging prothese binnen vijf jaa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P: volledige prothese OK en/of BK</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PP: partiële prothese &amp; frame vallen niet onder de basisverzekering</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onsulten en diagnostiek</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Preventieve mondzorg</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nesthesie, restauraties en extracties</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Wortelkanaalbehandelingen</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Parodontale en Prothetische behandelingen</a:t>
            </a:r>
            <a:endParaRPr b="0" lang="en-US" sz="2400" spc="-1" strike="noStrike">
              <a:solidFill>
                <a:srgbClr val="ffffff"/>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3394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Uitzonderingen hiervan zijn het bijslijpen en/of behandelen </a:t>
            </a:r>
            <a:endParaRPr b="0" lang="en-US" sz="2000" spc="-1" strike="noStrike">
              <a:solidFill>
                <a:srgbClr val="ffffff"/>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van een melkelement (code M05), </a:t>
            </a:r>
            <a:endParaRPr b="0" lang="en-US" sz="2000" spc="-1" strike="noStrike">
              <a:solidFill>
                <a:srgbClr val="ffffff"/>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orthodontie en kroon- en brugwerk.</a:t>
            </a:r>
            <a:endParaRPr b="0" lang="en-US" sz="2000" spc="-1" strike="noStrike">
              <a:solidFill>
                <a:srgbClr val="ffffff"/>
              </a:solidFill>
              <a:latin typeface="Verdana"/>
            </a:endParaRPr>
          </a:p>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Behandelingen buiten reguliere openingstijden worden vergoed als de </a:t>
            </a:r>
            <a:endParaRPr b="0" lang="en-US" sz="2000" spc="-1" strike="noStrike">
              <a:solidFill>
                <a:srgbClr val="ffffff"/>
              </a:solidFill>
              <a:latin typeface="Verdana"/>
            </a:endParaRPr>
          </a:p>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klacht niet tot de volgende werkdag kan wachten. </a:t>
            </a:r>
            <a:endParaRPr b="0" lang="en-US" sz="20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4" name="PlaceHolder 2"/>
          <p:cNvSpPr>
            <a:spLocks noGrp="1"/>
          </p:cNvSpPr>
          <p:nvPr>
            <p:ph type="title"/>
          </p:nvPr>
        </p:nvSpPr>
        <p:spPr>
          <a:xfrm>
            <a:off x="457200" y="430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HK. Zorg voor jeugd tot 18 jaar</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85316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Kroon- en brugwerk</a:t>
            </a:r>
            <a:endParaRPr b="0" lang="en-US" sz="24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ergoeding Orthodontie, kroon-en brugwerk afhankelijk polis en zorgverzekeraar</a:t>
            </a:r>
            <a:endParaRPr b="0" lang="en-US" sz="24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anvragen OPG en 3</a:t>
            </a:r>
            <a:r>
              <a:rPr b="0" lang="nl-NL" sz="2400" spc="-1" strike="noStrike" baseline="30000">
                <a:solidFill>
                  <a:srgbClr val="ffffff"/>
                </a:solidFill>
                <a:latin typeface="Verdana"/>
              </a:rPr>
              <a:t>e</a:t>
            </a:r>
            <a:r>
              <a:rPr b="0" lang="nl-NL" sz="2400" spc="-1" strike="noStrike">
                <a:solidFill>
                  <a:srgbClr val="ffffff"/>
                </a:solidFill>
                <a:latin typeface="Verdana"/>
              </a:rPr>
              <a:t> fluoride binnen 1 kalenderjaar</a:t>
            </a:r>
            <a:endParaRPr b="0" lang="en-US" sz="2400" spc="-1" strike="noStrike">
              <a:solidFill>
                <a:srgbClr val="ffffff"/>
              </a:solidFill>
              <a:latin typeface="Verdana"/>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   </a:t>
            </a:r>
            <a:r>
              <a:rPr b="0" lang="nl-NL" sz="2400" spc="-1" strike="noStrike">
                <a:solidFill>
                  <a:srgbClr val="ffffff"/>
                </a:solidFill>
                <a:latin typeface="Verdana"/>
              </a:rPr>
              <a:t>Wie voor zijn 18e jaar een volledig frontelement verliest of bij wie een frontelement niet is aangelegd, kan die tot zijn 23e jaar laten vervangen met vergoeding vanuit de basisverzekering. (Was: 18 jaar).</a:t>
            </a:r>
            <a:endParaRPr b="0" lang="en-US" sz="24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HK. Zorg voor jeugd tot 18 jaar</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4530600"/>
          </a:xfrm>
          <a:prstGeom prst="rect">
            <a:avLst/>
          </a:prstGeom>
          <a:noFill/>
          <a:ln w="0">
            <a:noFill/>
          </a:ln>
        </p:spPr>
        <p:txBody>
          <a:bodyPr anchor="t">
            <a:normAutofit fontScale="89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Aanspraak op eigen bijdrage van € 385,00</a:t>
            </a:r>
            <a:endParaRPr b="0" lang="en-US" sz="2800" spc="-1" strike="noStrike">
              <a:solidFill>
                <a:srgbClr val="ffffff"/>
              </a:solidFill>
              <a:latin typeface="Verdana"/>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Geldt niet voor kinderen tot 18 jaar</a:t>
            </a:r>
            <a:endParaRPr b="0" lang="en-US" sz="2400" spc="-1" strike="noStrike">
              <a:solidFill>
                <a:srgbClr val="ffffff"/>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Afweging tandarts verwijdering M3</a:t>
            </a:r>
            <a:endParaRPr b="0" lang="en-US" sz="2800" spc="-1" strike="noStrike">
              <a:solidFill>
                <a:srgbClr val="ffffff"/>
              </a:solidFill>
              <a:latin typeface="Verdana"/>
            </a:endParaRPr>
          </a:p>
          <a:p>
            <a:pPr lvl="2" marL="1017000" indent="-2034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Doorverwijzen of zelf uitvoeren ?</a:t>
            </a:r>
            <a:endParaRPr b="0" lang="en-US" sz="2400" spc="-1" strike="noStrike">
              <a:solidFill>
                <a:srgbClr val="ffffff"/>
              </a:solidFill>
              <a:latin typeface="Verdana"/>
            </a:endParaRPr>
          </a:p>
          <a:p>
            <a:pPr lvl="2" marL="1017000" indent="-2034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hirurgische tandheelkundige hulp door een kaakchirurg en het daarbij horende röntgenonderzoek</a:t>
            </a:r>
            <a:endParaRPr b="0" lang="en-US" sz="2400" spc="-1" strike="noStrike">
              <a:solidFill>
                <a:srgbClr val="ffffff"/>
              </a:solidFill>
              <a:latin typeface="Verdana"/>
            </a:endParaRPr>
          </a:p>
          <a:p>
            <a:pPr lvl="2" marL="1017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Nuttige websites: </a:t>
            </a:r>
            <a:r>
              <a:rPr b="0" lang="nl-NL" sz="2800" spc="-1" strike="noStrike" u="sng">
                <a:solidFill>
                  <a:srgbClr val="ffffcc"/>
                </a:solidFill>
                <a:uFillTx/>
                <a:latin typeface="Verdana"/>
                <a:hlinkClick r:id="rId1"/>
              </a:rPr>
              <a:t>www.knmt.nl</a:t>
            </a:r>
            <a:endParaRPr b="0" lang="en-US" sz="2800" spc="-1" strike="noStrike">
              <a:solidFill>
                <a:srgbClr val="ffffff"/>
              </a:solidFill>
              <a:latin typeface="Verdana"/>
            </a:endParaRPr>
          </a:p>
          <a:p>
            <a:pPr lvl="4" marL="1830960" indent="0">
              <a:lnSpc>
                <a:spcPct val="8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800" spc="-1" strike="noStrike" u="sng">
                <a:solidFill>
                  <a:srgbClr val="ffffcc"/>
                </a:solidFill>
                <a:uFillTx/>
                <a:latin typeface="Verdana"/>
                <a:hlinkClick r:id="rId2"/>
              </a:rPr>
              <a:t>www.allesoverhetgebit.nl</a:t>
            </a:r>
            <a:endParaRPr b="0" lang="en-US" sz="2800" spc="-1" strike="noStrike">
              <a:solidFill>
                <a:srgbClr val="ffffff"/>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Verwijzing Kaakchirurgie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astgesteld door de Nza i.o.m. vakorg.</a:t>
            </a:r>
            <a:endParaRPr b="0" lang="en-US" sz="2800" spc="-1" strike="noStrike">
              <a:solidFill>
                <a:srgbClr val="ffffff"/>
              </a:solidFill>
              <a:latin typeface="Verdana"/>
            </a:endParaRPr>
          </a:p>
          <a:p>
            <a:pPr lvl="4" marL="2036520" indent="-226080">
              <a:lnSpc>
                <a:spcPct val="90000"/>
              </a:lnSpc>
              <a:spcBef>
                <a:spcPts val="601"/>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Nederlandse zorgautoriteit</a:t>
            </a:r>
            <a:endParaRPr b="0" lang="en-US" sz="2400" spc="-1" strike="noStrike">
              <a:solidFill>
                <a:srgbClr val="ffffff"/>
              </a:solidFill>
              <a:latin typeface="Verdana"/>
            </a:endParaRPr>
          </a:p>
          <a:p>
            <a:pPr lvl="4" marL="203652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egroting vanaf € 500,00 laten tekenen (advies Famed)</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egroting verplicht vanaf € 250,00</a:t>
            </a: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Tarieven toegankelijk voor pati</a:t>
            </a:r>
            <a:r>
              <a:rPr b="0" lang="nl-NL" sz="2800" spc="-1" strike="noStrike">
                <a:solidFill>
                  <a:srgbClr val="ffffff"/>
                </a:solidFill>
                <a:latin typeface="Arial"/>
                <a:ea typeface="Arial"/>
              </a:rPr>
              <a:t>ënt</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Verrichtingen transparant voor patiënt </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Uitspraak over kosten c.q. vergoeding?!</a:t>
            </a: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rieven Tandheelkunde 2018</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7:37:10Z</dcterms:created>
  <dc:creator>Maria</dc:creator>
  <dc:description/>
  <dc:language>en-US</dc:language>
  <cp:lastModifiedBy>Maria de Vries</cp:lastModifiedBy>
  <dcterms:modified xsi:type="dcterms:W3CDTF">2018-09-05T06:38:25Z</dcterms:modified>
  <cp:revision>26</cp:revision>
  <dc:subject/>
  <dc:title>Protheses en frames</dc:title>
</cp:coreProperties>
</file>