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31EF-3F3F-4C17-9D8D-8118A3878C2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0941-73EE-48C4-A09F-4111AE53FDE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entr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rm dysle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grippen: ‘dyslexieverklaring’, ‘dyslexiepas’, ‘comorbiditeit’ en ‘dyslexiec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ol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 onze samenleving heel belangrijk: talige wereld waarin schriftelijke taal een grote rol spe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is echter niet iets dat een kind zomaar kan, maar een vaardigheid die expliciet moet worden onderwezen. </a:t>
            </a:r>
            <a:br>
              <a:rPr sz="1200"/>
            </a:br>
            <a:br>
              <a:rPr sz="1200"/>
            </a:br>
            <a:r>
              <a:rPr b="0" lang="nl-NL" sz="1200" spc="-1" strike="noStrike">
                <a:solidFill>
                  <a:srgbClr val="000000"/>
                </a:solidFill>
                <a:latin typeface="Times New Roman"/>
              </a:rPr>
              <a:t>leesvaardigheid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aanleren gezien als 1 van de primaire take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p basisschool leren de kinderen hoe ze letters kunnen samenvoegen tot woorden: uiteindelijk teksten steeds accurater en vloeiender verkla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och verlaten nog steeds kinderen het po verlaten zonder een leesniveau te hebben bereikt noodzakelijk voor het alledaagse l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Deze kinderen hebben het minimaal technisch leesniveau niet behaald.'</a:t>
            </a:r>
            <a:br>
              <a:rPr sz="1200"/>
            </a:br>
            <a:r>
              <a:rPr b="0" lang="nl-NL" sz="1200" spc="-1" strike="noStrike">
                <a:solidFill>
                  <a:srgbClr val="000000"/>
                </a:solidFill>
                <a:latin typeface="Times New Roman"/>
              </a:rPr>
              <a:t>- AVI-niveau 9 = minimaal technisch leesni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eestal in groep 6 beh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et eind van groep 8 wordt als minimale standaard gez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lle kinderen die het minimale leesniveau aan het eind van de basisschool niet halen, hebben een leesachtersta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Maar zijn deze kinderen dan allemaal dyslectisch en wat is dyslexie nu eigenlij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DD94-D519-4B44-9881-DF2770B7534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52A8-A9BC-4107-BEA7-4A943CBA131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5DC4-E1CD-4E86-AC19-564A600AFB0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normeerde toetsen: achterstand aant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vergelijking met 'relevante groep' (leeftijdsgenoten met vergelijkbaar niveau + vergelijkbare omstan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2528-4BC4-4BBC-A78A-F832C08BD7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leerstoornis die nooit helemaal over zal g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 vaststellen dus aantonen dat de achterstand op lees- en/of spellinggebied blijft b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t ondanks intensieve, systematische en effectieve leesbege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didactische resistentie = achterstand blijft ondanks extra interventi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A1E8-CAFC-4838-8AAF-1D035476354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en/nauwelijks voortuitgang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hiervoor: wat is er op po ged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v. meer aandacht besteed aan technisch lezen en spellen?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zie vragenlijst in protocol v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B7CB-4B7A-4506-9F6D-09A20E5D84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ventie i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iet eerder aandacht voor problemen lezen/spellen op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f: twijfel over inhoud remediëring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als blijkt dat interventie niet wer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ndersteuning afhankelijk van aard + ernst + soor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t op: lees- en spellingproblemen hoofdzakelijk toe te schrijven aan nadelige omgevingsfactoren? ≠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bv. slecht onderwijs of langdurige afwezigheid waardoor de leerling geen onderwijs heeft ontvange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B48D-5B7B-4EDC-B733-6B48C2A512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yslexie complex, dus leerlingen verschil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ulpmiddelen + aanpassingen individuee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voor leerlinggebonden profiel: onderkennende, verklarende en indicerende diagno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FF04-48B5-4323-BBB4-74864CED0CA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mvraag: is er überhaupt dyslexie? dus criteria van achterstand + didactische resistent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F278-2D2E-43B8-A059-4DC61D1BD70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zoeken naar oorzaken, dus factoren die dyslexie veroorz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el verschillen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D06C-FCBF-40B5-B24A-AC773FDE5B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es- en spellingproces  niet geautomatise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lle aandacht nodig voor tekst lezen (decoderen) + woord goed te schrijv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tempodruk langzamer + onnauwkeuriger (aandacht te veel verdelen) --&gt; probleem bij toetssitua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8841-D71E-4A7C-8D79-B63AD643AB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blemen: leenwoorden (fouilleren), laagfrequente woorden/ letterkoppelingen (though, aujourd’hui, Knüpfteppich) en complex geschreven begrippen (assimilatie, bv. inpakken vs. impo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D145-8009-48A4-AF17-5F48EF2E1F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yslexie gaat vooral gepaard met:</a:t>
            </a:r>
            <a:br>
              <a:rPr sz="1000"/>
            </a:br>
            <a:r>
              <a:rPr b="0" lang="nl-NL" sz="1000" spc="-1" strike="noStrike">
                <a:solidFill>
                  <a:srgbClr val="000000"/>
                </a:solidFill>
                <a:latin typeface="Times New Roman"/>
              </a:rPr>
              <a:t>- tekorten in de fonologische verwerking en het werkgeheugen</a:t>
            </a:r>
            <a:br>
              <a:rPr sz="1000"/>
            </a:br>
            <a:r>
              <a:rPr b="0" lang="nl-NL" sz="1000" spc="-1" strike="noStrike">
                <a:solidFill>
                  <a:srgbClr val="000000"/>
                </a:solidFill>
                <a:latin typeface="Times New Roman"/>
              </a:rPr>
              <a:t>- lagere benoemsnelheid (rapid naming)</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Tekorten in de fonologische verwerking en het werkgeheugen, moeite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oorzien klankstructu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fonemisch bewustzijn: woord bestaat uit losse klanken (hakken + plakk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verbaal werkgeheu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inder goed klankbeeld opgeslagen in geheugen (LT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age benoemsnelheid (rapid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oeite met ophalen van talige inform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RAN = snelheid fonologische codes, letters, samenvoeg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NB: gaat om toegankelijkheid, niet om beschikbaarheid: het zit er wel, maar ophalen duurt lang</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0B98-1A2E-4D7D-A91E-CBBFDB73DE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oorbeeld van een mogelijke rapid naming taak. Aan de leerling wordt gevraagd om de getallen van boven naar beneden of van links naar rechts zo snel mogelijk te benoemen. Het gaat hier om de snelheid waarmee kennis uit het geheugen wordt opgehaald.</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8BE5-8B45-4936-BC15-FBB83318B45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ver in week 4 meer inform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essant: Dutch Dyslexia Programme, o.a. RUG (longitudinaal + multidisciplinair onderzoek naar oorzaken, gevolgen en gene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926E-9595-4541-A662-1858A0E340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rfelijkheid aanwez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aar: niet alleen erfelijkheid, nurture vs. nature (zie wk 3 + 4)</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BC4C-2118-4161-B8CF-8F7B5A1637C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ombi onderkennende + verklarende diagnose = basis indice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le aanp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schermende factoren: ondersteunende omgeving (hulp op maat thuis/op school), positief zelfbe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eert in handelingsplan: inhoud remediëring (doelstellingen, inhoud, duur, organisatie, evalu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a. betrokken: remedial teacher, vakdocent, leerling, mentor,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6E45-91DB-4022-A881-D81B03A0C63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tocol p. 23 - 27: uitgebreide beschrijving gevolgen (niet alleen taal + leren, ook sociaal-emotioneel + taak-/werkho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nl-NL" sz="1200" spc="-1" strike="noStrike">
                <a:solidFill>
                  <a:srgbClr val="000000"/>
                </a:solidFill>
                <a:latin typeface="Times New Roman"/>
              </a:rPr>
              <a:t>werkvorm: laat de studenten enkele consequenties uitzoeken. De studenten gaan bij deze consequenties na hoe zij er binnen hun vakgebied voor kunnen zorgen dat de leerling zo min mogelijk last ondervindt van deze consequentie van dyslexie. Inventariseer de ant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p vervolg in de komende colle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9EA6-6CA2-4D6A-BBA6-EFC2F88834C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DA97-6803-4B24-87E3-EBEC0D37D5D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moeden docent? eerst onderkennende diagnose: didactische resistentie + acht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verkla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handelingsgerichte diagnose (bruikbare advi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kl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professionals die zijn gekwalificeerd voor het uitvoeren van psychodiagnostisch onderz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n die beschikken over specialistische kennis op het gebied van leerstoornissen en onderwijsbelemme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eist: academische graad in de klinische (kind- en jeugd)psychologie of orthopedagog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vereist: erkende bekwaamheidsregistratie in de psychodiagnost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niet door remedial teacher of logoped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C23F-D28F-4A2A-8D2C-28B7C8F7B90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aat de studenten vertellen:</a:t>
            </a:r>
            <a:br>
              <a:rPr sz="1000"/>
            </a:br>
            <a:r>
              <a:rPr b="0" i="1" lang="nl-NL" sz="1000" spc="-1" strike="noStrike">
                <a:solidFill>
                  <a:srgbClr val="000000"/>
                </a:solidFill>
                <a:latin typeface="Times New Roman"/>
              </a:rPr>
              <a:t>- Wat is dyslexie?/ Waar denken ze aan bij dyslexie?</a:t>
            </a:r>
            <a:br>
              <a:rPr sz="1000"/>
            </a:br>
            <a:r>
              <a:rPr b="0" i="1" lang="nl-NL" sz="1000" spc="-1" strike="noStrike">
                <a:solidFill>
                  <a:srgbClr val="000000"/>
                </a:solidFill>
                <a:latin typeface="Times New Roman"/>
              </a:rPr>
              <a:t>- Welke ervaringen hebben zij met dyslexie?</a:t>
            </a:r>
            <a:br>
              <a:rPr sz="1000"/>
            </a:br>
            <a:r>
              <a:rPr b="0" i="1" lang="nl-NL" sz="1000" spc="-1" strike="noStrike">
                <a:solidFill>
                  <a:srgbClr val="000000"/>
                </a:solidFill>
                <a:latin typeface="Times New Roman"/>
              </a:rPr>
              <a:t>- Hoe denken zij over dyslex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Vervolgvraag: wat is dyslexie nu eigenlijk en zijn alle kinderen met een leesachterstand dyslectis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 niet alle leerlingen met AVI 9 (functionele geletterdhe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ar: zeker niet zo dat de leerlingen die het niveau van functionele geletterdheid (AVI 9) op de basisschool niet halen allemaal dyslectisch zij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Sterker nog: kinderen die niveau in groep 8 net wel behalen en toch dyslectisch zij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bijvoorbeeld bovengemiddelde capacitei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it ook deels verklaring verschil in tijdpad bij diagnose dyslexie: po, brugklas of later in vo/mb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VT vaak struikelblok voor deze leerl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te waarin een kind last heeft van zijn dyslexie sterk afhankelijk v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leeftij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onderwijsaanbod (hoe hoger het opleidingsniveau, hoe belangrijker het is dat de technische lees- en spellingvaardigheid geautomatiseerd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intellectuele mogelijkheden om de lees- en spellingproblemen te compenseren.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9F95-C451-492B-B4A5-BB361811667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vatten voor een integrale aanpak van dyslexie op scholen voor voortgeze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formatie,  handreikingen en werkdocumenten voor dyslexiebeleid, signalering, begeleiding + inzet van digitale hulpmidd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wet- en regelgeving en de rol van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reikingen voor docenten, middenmanagement (denk aan zorgspecialisten, IB’ ers, etc.) en direc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Missie</a:t>
            </a:r>
            <a:br>
              <a:rPr sz="1200"/>
            </a:br>
            <a:r>
              <a:rPr b="0" lang="nl-NL" sz="1200" spc="-1" strike="noStrike">
                <a:solidFill>
                  <a:srgbClr val="000000"/>
                </a:solidFill>
                <a:latin typeface="Times New Roman"/>
              </a:rPr>
              <a:t>- dyslecten vaak op onderwijsniveau dat niet aansluit bij hun capacitei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dat ook dyslectische leerlingen onderwijs volgen passend bij hun cognitieve mogelijk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elen</a:t>
            </a:r>
            <a:br>
              <a:rPr sz="1200"/>
            </a:br>
            <a:r>
              <a:rPr b="0" lang="nl-NL" sz="1200" spc="-1" strike="noStrike">
                <a:solidFill>
                  <a:srgbClr val="000000"/>
                </a:solidFill>
                <a:latin typeface="Times New Roman"/>
              </a:rPr>
              <a:t>- Niet alle leerlingen met dyslexie zijn hetzelf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el last of juist (deels) compens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de emotionele reactie op het hebben van lees- en/of spellingproblemen verschilt per leerling (neutraal, provoceren, terugtrek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ij begeleiding steeds gekeken naar leerling: ‘wat heeft </a:t>
            </a:r>
            <a:r>
              <a:rPr b="0" i="1" lang="nl-NL" sz="1200" spc="-1" strike="noStrike">
                <a:solidFill>
                  <a:srgbClr val="000000"/>
                </a:solidFill>
                <a:latin typeface="Times New Roman"/>
              </a:rPr>
              <a:t>deze leerling</a:t>
            </a:r>
            <a:r>
              <a:rPr b="0" lang="nl-NL" sz="1200" spc="-1" strike="noStrike">
                <a:solidFill>
                  <a:srgbClr val="000000"/>
                </a:solidFill>
                <a:latin typeface="Times New Roman"/>
              </a:rPr>
              <a:t> in </a:t>
            </a:r>
            <a:r>
              <a:rPr b="0" i="1" lang="nl-NL" sz="1200" spc="-1" strike="noStrike">
                <a:solidFill>
                  <a:srgbClr val="000000"/>
                </a:solidFill>
                <a:latin typeface="Times New Roman"/>
              </a:rPr>
              <a:t>deze situatie</a:t>
            </a:r>
            <a:r>
              <a:rPr b="0" lang="nl-NL" sz="1200" spc="-1" strike="noStrike">
                <a:solidFill>
                  <a:srgbClr val="000000"/>
                </a:solidFill>
                <a:latin typeface="Times New Roman"/>
              </a:rPr>
              <a:t> nodig om tot een maximaal resultaat te kom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1728-8F99-414E-946D-C0A7D5ABEED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ink naar protoc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E911-CAD5-4C81-B1B2-DEF9144539E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Begeleiding gedurende de hele schoolloopbaan</a:t>
            </a:r>
            <a:br>
              <a:rPr sz="1200"/>
            </a:br>
            <a:r>
              <a:rPr b="0" lang="nl-NL" sz="1200" spc="-1" strike="noStrike">
                <a:solidFill>
                  <a:srgbClr val="000000"/>
                </a:solidFill>
                <a:latin typeface="Times New Roman"/>
              </a:rPr>
              <a:t>- praktijk: in brugklas benodigde hulp + aanvullende begelei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arna vaak afname begeleiding + beperkt tot af en toe mondeling overhoren + tijdsverlen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ze vorm vaak niet voldoende: starten in brugklas en </a:t>
            </a:r>
            <a:r>
              <a:rPr b="0" lang="nl-NL" sz="1200" spc="-1" strike="noStrike" u="sng">
                <a:solidFill>
                  <a:srgbClr val="000000"/>
                </a:solidFill>
                <a:uFillTx/>
                <a:latin typeface="Times New Roman"/>
              </a:rPr>
              <a:t>doorgaande lijn creëren</a:t>
            </a:r>
            <a:r>
              <a:rPr b="0" lang="nl-NL" sz="1200" spc="-1" strike="noStrike">
                <a:solidFill>
                  <a:srgbClr val="000000"/>
                </a:solidFill>
                <a:latin typeface="Times New Roman"/>
              </a:rPr>
              <a:t> naar hogere kl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leerling ook zelf betrekken bij de opzet van de begeleiding: zeker in hogere klassen prima hiertoe in s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Economisch principe</a:t>
            </a:r>
            <a:br>
              <a:rPr sz="1200"/>
            </a:br>
            <a:r>
              <a:rPr b="0" lang="nl-NL" sz="1200" spc="-1" strike="noStrike">
                <a:solidFill>
                  <a:srgbClr val="000000"/>
                </a:solidFill>
                <a:latin typeface="Times New Roman"/>
              </a:rPr>
              <a:t>- = met minimale inspanning (hoeveel is minimaal?) maximaal resul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aat' = bv. voldoende halen voor Engels of voldoende voorbereid voor gewenste vervolg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kortom: concrete resultaten die effect hebben op de schoolresultaten en het adequaat functioneren in een vervolgopleiding of be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Geïntegreerde aanpak</a:t>
            </a:r>
            <a:br>
              <a:rPr sz="1200"/>
            </a:br>
            <a:r>
              <a:rPr b="0" lang="nl-NL" sz="1200" spc="-1" strike="noStrike">
                <a:solidFill>
                  <a:srgbClr val="000000"/>
                </a:solidFill>
                <a:latin typeface="Times New Roman"/>
              </a:rPr>
              <a:t>- begeleiding zo veel mogelijk binnen de k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den: meeste winst, want grootste deel schooltijd bij verschillende vakdoc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uiteraard: onderling overleg + onderlinge afstemming crucia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EB98-2BE5-47FC-931D-6EFD52C4B72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bjectief waarneembaar lees- en/of spellinggedrag.</a:t>
            </a:r>
            <a:br>
              <a:rPr sz="1200"/>
            </a:br>
            <a:r>
              <a:rPr b="0" lang="nl-NL" sz="1200" spc="-1" strike="noStrike">
                <a:solidFill>
                  <a:srgbClr val="000000"/>
                </a:solidFill>
                <a:latin typeface="Times New Roman"/>
              </a:rPr>
              <a:t>- decodeer- en/of codeerproblemen: het omzetten van een geschreven letterreeks in de corresponderende klankcode (lezen, decoderen) en/of van een klankcode in een corresponderende geschreven letterreeks (spell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chnisch lezen en spellen onvoldoende geautomatiseerd: traag leestempo en/of onvoldoende leesaccurat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efenen helpt, maar zal het probleem nooit helemaal doen verdwij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venslang dyslectisch, 3-4% van de leerlingen heeft dyslexi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557B-6BFC-403A-87D2-3C6A5CD520E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vraag: Als je weet dat dit de mogelijke problemen zijn waar leerlingen met dyslexie tegenaan lopen, wat zijn dan volgens jou de struikelblokken binnen jouw vakgebi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861D-FDE0-4A3F-A549-ED927E562FC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Tekstbegrip</a:t>
            </a:r>
            <a:br>
              <a:rPr sz="1200"/>
            </a:br>
            <a:r>
              <a:rPr b="0" lang="nl-NL" sz="1200" spc="-1" strike="noStrike">
                <a:solidFill>
                  <a:srgbClr val="000000"/>
                </a:solidFill>
                <a:latin typeface="Times New Roman"/>
              </a:rPr>
              <a:t>- beperkt, doordat decoderen + coderen groot deel werkgeheugen in beslag ne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Problemen met spelling</a:t>
            </a:r>
            <a:br>
              <a:rPr sz="1200"/>
            </a:br>
            <a:r>
              <a:rPr b="0" lang="nl-NL" sz="1200" spc="-1" strike="noStrike">
                <a:solidFill>
                  <a:srgbClr val="000000"/>
                </a:solidFill>
                <a:latin typeface="Times New Roman"/>
              </a:rPr>
              <a:t>- 'dyslexie' = stoornis in lezen en/of spellen op woord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geen aparte term voor een spellingstoornis (evt. wel een specif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Intelligentie</a:t>
            </a:r>
            <a:br>
              <a:rPr sz="1200"/>
            </a:br>
            <a:r>
              <a:rPr b="0" lang="nl-NL" sz="1200" spc="-1" strike="noStrike">
                <a:solidFill>
                  <a:srgbClr val="000000"/>
                </a:solidFill>
                <a:latin typeface="Times New Roman"/>
              </a:rPr>
              <a:t>- IQ &lt;70: dyslexie moeilijk vast te stellen (= ± 3% van de kin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want: kans dat lage IQ mede problemen met lezen/spellen veroorza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zichtig zijn met criterium IQ: meeste IQ-tests gebaseerd op verbale dingen, dus dyslecten kunnen hier laag op sc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00</a:t>
            </a:r>
            <a:r>
              <a:rPr b="0" lang="nl-NL" sz="1200" spc="-1" strike="noStrike">
                <a:solidFill>
                  <a:srgbClr val="000000"/>
                </a:solidFill>
                <a:latin typeface="Times New Roman"/>
              </a:rPr>
              <a:t>	</a:t>
            </a:r>
            <a:r>
              <a:rPr b="0" lang="nl-NL" sz="1200" spc="-1" strike="noStrike">
                <a:solidFill>
                  <a:srgbClr val="000000"/>
                </a:solidFill>
                <a:latin typeface="Times New Roman"/>
              </a:rPr>
              <a:t>= 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85 - 115</a:t>
            </a:r>
            <a:r>
              <a:rPr b="0" lang="nl-NL" sz="1200" spc="-1" strike="noStrike">
                <a:solidFill>
                  <a:srgbClr val="000000"/>
                </a:solidFill>
                <a:latin typeface="Times New Roman"/>
              </a:rPr>
              <a:t>	</a:t>
            </a:r>
            <a:r>
              <a:rPr b="0" lang="nl-NL" sz="1200" spc="-1" strike="noStrike">
                <a:solidFill>
                  <a:srgbClr val="000000"/>
                </a:solidFill>
                <a:latin typeface="Times New Roman"/>
              </a:rPr>
              <a:t>= norm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115</a:t>
            </a:r>
            <a:r>
              <a:rPr b="0" lang="nl-NL" sz="1200" spc="-1" strike="noStrike">
                <a:solidFill>
                  <a:srgbClr val="000000"/>
                </a:solidFill>
                <a:latin typeface="Times New Roman"/>
              </a:rPr>
              <a:t>	</a:t>
            </a:r>
            <a:r>
              <a:rPr b="0" lang="nl-NL" sz="1200" spc="-1" strike="noStrike">
                <a:solidFill>
                  <a:srgbClr val="000000"/>
                </a:solidFill>
                <a:latin typeface="Times New Roman"/>
              </a:rPr>
              <a:t>= boven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130</a:t>
            </a:r>
            <a:r>
              <a:rPr b="0" lang="nl-NL" sz="1200" spc="-1" strike="noStrike">
                <a:solidFill>
                  <a:srgbClr val="000000"/>
                </a:solidFill>
                <a:latin typeface="Times New Roman"/>
              </a:rPr>
              <a:t>	</a:t>
            </a:r>
            <a:r>
              <a:rPr b="0" lang="nl-NL" sz="1200" spc="-1" strike="noStrike">
                <a:solidFill>
                  <a:srgbClr val="000000"/>
                </a:solidFill>
                <a:latin typeface="Times New Roman"/>
              </a:rPr>
              <a:t>= hoog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 85</a:t>
            </a:r>
            <a:r>
              <a:rPr b="0" lang="nl-NL" sz="1200" spc="-1" strike="noStrike">
                <a:solidFill>
                  <a:srgbClr val="000000"/>
                </a:solidFill>
                <a:latin typeface="Times New Roman"/>
              </a:rPr>
              <a:t>	</a:t>
            </a:r>
            <a:r>
              <a:rPr b="0" lang="nl-NL" sz="1200" spc="-1" strike="noStrike">
                <a:solidFill>
                  <a:srgbClr val="000000"/>
                </a:solidFill>
                <a:latin typeface="Times New Roman"/>
              </a:rPr>
              <a:t>= benedengemiddeld/zwak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0 - 50</a:t>
            </a:r>
            <a:r>
              <a:rPr b="0" lang="nl-NL" sz="1200" spc="-1" strike="noStrike">
                <a:solidFill>
                  <a:srgbClr val="000000"/>
                </a:solidFill>
                <a:latin typeface="Times New Roman"/>
              </a:rPr>
              <a:t>	</a:t>
            </a:r>
            <a:r>
              <a:rPr b="0" lang="nl-NL" sz="1200" spc="-1" strike="noStrike">
                <a:solidFill>
                  <a:srgbClr val="000000"/>
                </a:solidFill>
                <a:latin typeface="Times New Roman"/>
              </a:rPr>
              <a:t>= licht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0 - 35</a:t>
            </a:r>
            <a:r>
              <a:rPr b="0" lang="nl-NL" sz="1200" spc="-1" strike="noStrike">
                <a:solidFill>
                  <a:srgbClr val="000000"/>
                </a:solidFill>
                <a:latin typeface="Times New Roman"/>
              </a:rPr>
              <a:t>	</a:t>
            </a:r>
            <a:r>
              <a:rPr b="0" lang="nl-NL" sz="1200" spc="-1" strike="noStrike">
                <a:solidFill>
                  <a:srgbClr val="000000"/>
                </a:solidFill>
                <a:latin typeface="Times New Roman"/>
              </a:rPr>
              <a:t>= matig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FD5F2-C5E1-41B4-A963-EEA47CA2D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CE430-33FA-4187-856D-F2A30A0F3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40C6B-23AA-41A0-903D-16DFAEDB9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9BC4B-7D85-4122-8282-79CCE0629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8149A-9D77-49ED-8AAC-EA161873F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9979B-CBF5-4F67-99C7-B3E0E0EAE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1742F-6F96-4D6E-AB0D-CFBCF9FC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2CA2F-DEC6-499A-AB2E-CA201C19A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AB95-7502-4F51-9106-BEEF2462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0B14-763F-4023-BFB9-C48628279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57F4-D60B-49CF-8E6E-A4D67220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7EA02-DE10-4CE0-B193-E576F8102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D2E7-5C52-447C-A1A4-DF96B257969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asterplandyslexie.nl/nl/catalog/view/protocol_dyslexie_voortgezet_onderwijs/7/16"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ichtingdyslexienederland.n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1: Wat is dyslexie?</a:t>
            </a:r>
            <a:br>
              <a:rPr sz="4400"/>
            </a:br>
            <a:br>
              <a:rPr sz="4400"/>
            </a:br>
            <a:r>
              <a:rPr b="0" lang="nl-NL" sz="4400" spc="-1" strike="noStrike">
                <a:solidFill>
                  <a:srgbClr val="000000"/>
                </a:solidFill>
                <a:latin typeface="Arial"/>
              </a:rPr>
              <a:t>Dyslexie in het VO</a:t>
            </a: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 of vlot toepassen van het lezen en/ of spellen op woordniveau’</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achtersta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didactische resistentie</a:t>
            </a:r>
            <a:endParaRPr b="0" lang="en-US" sz="2800" spc="-1" strike="noStrike">
              <a:solidFill>
                <a:srgbClr val="000000"/>
              </a:solidFill>
              <a:latin typeface="Times New Roman"/>
            </a:endParaRPr>
          </a:p>
        </p:txBody>
      </p:sp>
      <p:pic>
        <p:nvPicPr>
          <p:cNvPr id="83" name="Picture 7" descr=""/>
          <p:cNvPicPr/>
          <p:nvPr/>
        </p:nvPicPr>
        <p:blipFill>
          <a:blip r:embed="rId1"/>
          <a:stretch/>
        </p:blipFill>
        <p:spPr>
          <a:xfrm>
            <a:off x="7318440" y="404640"/>
            <a:ext cx="1708200" cy="406440"/>
          </a:xfrm>
          <a:prstGeom prst="rect">
            <a:avLst/>
          </a:prstGeom>
          <a:ln w="0">
            <a:noFill/>
          </a:ln>
        </p:spPr>
      </p:pic>
      <p:sp>
        <p:nvSpPr>
          <p:cNvPr id="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875E-74FA-405E-A0DA-E48AC1CB01D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niveau van de leerling op lezen en spell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et onder het niveau liggen dat op basis v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en gevolgd onderwijs verwacht m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orden </a:t>
            </a:r>
            <a:endParaRPr b="0" lang="en-US" sz="3200" spc="-1" strike="noStrike">
              <a:solidFill>
                <a:srgbClr val="000000"/>
              </a:solidFill>
              <a:latin typeface="Times New Roman"/>
            </a:endParaRPr>
          </a:p>
        </p:txBody>
      </p:sp>
      <p:pic>
        <p:nvPicPr>
          <p:cNvPr id="87" name="Picture 7" descr=""/>
          <p:cNvPicPr/>
          <p:nvPr/>
        </p:nvPicPr>
        <p:blipFill>
          <a:blip r:embed="rId1"/>
          <a:stretch/>
        </p:blipFill>
        <p:spPr>
          <a:xfrm>
            <a:off x="7318440" y="404640"/>
            <a:ext cx="1708200" cy="406440"/>
          </a:xfrm>
          <a:prstGeom prst="rect">
            <a:avLst/>
          </a:prstGeom>
          <a:ln w="0">
            <a:noFill/>
          </a:ln>
        </p:spPr>
      </p:pic>
      <p:sp>
        <p:nvSpPr>
          <p:cNvPr id="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F48B-2E17-4270-A27E-A6BE72A79D4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normeerde toet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gelijking met een relevante groep</a:t>
            </a:r>
            <a:endParaRPr b="0" lang="en-US" sz="3200" spc="-1" strike="noStrike">
              <a:solidFill>
                <a:srgbClr val="000000"/>
              </a:solidFill>
              <a:latin typeface="Times New Roman"/>
            </a:endParaRPr>
          </a:p>
        </p:txBody>
      </p:sp>
      <p:pic>
        <p:nvPicPr>
          <p:cNvPr id="91" name="Picture 7" descr=""/>
          <p:cNvPicPr/>
          <p:nvPr/>
        </p:nvPicPr>
        <p:blipFill>
          <a:blip r:embed="rId1"/>
          <a:stretch/>
        </p:blipFill>
        <p:spPr>
          <a:xfrm>
            <a:off x="7318440" y="404640"/>
            <a:ext cx="1708200" cy="406440"/>
          </a:xfrm>
          <a:prstGeom prst="rect">
            <a:avLst/>
          </a:prstGeom>
          <a:ln w="0">
            <a:noFill/>
          </a:ln>
        </p:spPr>
      </p:pic>
      <p:sp>
        <p:nvSpPr>
          <p:cNvPr id="9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0ADB-4AFA-4339-93D8-553956336CF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stand op lees- en spellinggebi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ijft bestaan, ondanks intensiev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ystematische en effectieve leesbegeleiding</a:t>
            </a:r>
            <a:endParaRPr b="0" lang="en-US" sz="3200" spc="-1" strike="noStrike">
              <a:solidFill>
                <a:srgbClr val="000000"/>
              </a:solidFill>
              <a:latin typeface="Times New Roman"/>
            </a:endParaRPr>
          </a:p>
        </p:txBody>
      </p:sp>
      <p:pic>
        <p:nvPicPr>
          <p:cNvPr id="95" name="Picture 7" descr=""/>
          <p:cNvPicPr/>
          <p:nvPr/>
        </p:nvPicPr>
        <p:blipFill>
          <a:blip r:embed="rId1"/>
          <a:stretch/>
        </p:blipFill>
        <p:spPr>
          <a:xfrm>
            <a:off x="7318440" y="404640"/>
            <a:ext cx="1708200" cy="406440"/>
          </a:xfrm>
          <a:prstGeom prst="rect">
            <a:avLst/>
          </a:prstGeom>
          <a:ln w="0">
            <a:noFill/>
          </a:ln>
        </p:spPr>
      </p:pic>
      <p:sp>
        <p:nvSpPr>
          <p:cNvPr id="9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5B09-5054-448D-87C4-AE7CEB8BEE8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Vragenlijst leergeschiedenis lees- en spellingvaardigheid in protocol vo - bijlage 2)</a:t>
            </a:r>
            <a:endParaRPr b="0" lang="en-US" sz="3200" spc="-1" strike="noStrike">
              <a:solidFill>
                <a:srgbClr val="000000"/>
              </a:solidFill>
              <a:latin typeface="Times New Roman"/>
            </a:endParaRPr>
          </a:p>
        </p:txBody>
      </p:sp>
      <p:pic>
        <p:nvPicPr>
          <p:cNvPr id="99" name="Picture 7" descr=""/>
          <p:cNvPicPr/>
          <p:nvPr/>
        </p:nvPicPr>
        <p:blipFill>
          <a:blip r:embed="rId1"/>
          <a:stretch/>
        </p:blipFill>
        <p:spPr>
          <a:xfrm>
            <a:off x="7318440" y="404640"/>
            <a:ext cx="1708200" cy="406440"/>
          </a:xfrm>
          <a:prstGeom prst="rect">
            <a:avLst/>
          </a:prstGeom>
          <a:ln w="0">
            <a:noFill/>
          </a:ln>
        </p:spPr>
      </p:pic>
      <p:sp>
        <p:nvSpPr>
          <p:cNvPr id="10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F600-957F-419B-9FA4-4B51FD76817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ventie inzetten</a:t>
            </a:r>
            <a:endParaRPr b="0" lang="en-US" sz="3200" spc="-1" strike="noStrike">
              <a:solidFill>
                <a:srgbClr val="000000"/>
              </a:solidFill>
              <a:latin typeface="Times New Roman"/>
            </a:endParaRPr>
          </a:p>
        </p:txBody>
      </p:sp>
      <p:pic>
        <p:nvPicPr>
          <p:cNvPr id="103" name="Picture 7" descr=""/>
          <p:cNvPicPr/>
          <p:nvPr/>
        </p:nvPicPr>
        <p:blipFill>
          <a:blip r:embed="rId1"/>
          <a:stretch/>
        </p:blipFill>
        <p:spPr>
          <a:xfrm>
            <a:off x="7318440" y="404640"/>
            <a:ext cx="1708200" cy="406440"/>
          </a:xfrm>
          <a:prstGeom prst="rect">
            <a:avLst/>
          </a:prstGeom>
          <a:ln w="0">
            <a:noFill/>
          </a:ln>
        </p:spPr>
      </p:pic>
      <p:sp>
        <p:nvSpPr>
          <p:cNvPr id="10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5FAC-5CBC-41E0-90FC-DF19B626440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Niet alle leerlingen met dyslexie zijn hetzelfd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 Onderkenn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 Verkla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 Indice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7" descr=""/>
          <p:cNvPicPr/>
          <p:nvPr/>
        </p:nvPicPr>
        <p:blipFill>
          <a:blip r:embed="rId1"/>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EC03-4328-4B65-9CE4-C5DAAB3AA15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 Onderkennende diagnos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acht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didactische resistentie</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CDBD-B943-455D-AF05-CE4C8E5708D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ctoren die dyslexie bij een bepaalde leerling veroorz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factoren hoeven </a:t>
            </a:r>
            <a:r>
              <a:rPr b="0" lang="nl-NL" sz="3200" spc="-1" strike="noStrike" u="sng">
                <a:solidFill>
                  <a:srgbClr val="000000"/>
                </a:solidFill>
                <a:uFillTx/>
                <a:latin typeface="Times New Roman"/>
              </a:rPr>
              <a:t>niet </a:t>
            </a:r>
            <a:r>
              <a:rPr b="0" lang="nl-NL" sz="3200" spc="-1" strike="noStrike">
                <a:solidFill>
                  <a:srgbClr val="000000"/>
                </a:solidFill>
                <a:latin typeface="Times New Roman"/>
              </a:rPr>
              <a:t>bij alle leerlingen met dyslexie gelijk te zijn!</a:t>
            </a:r>
            <a:endParaRPr b="0" lang="en-US" sz="3200" spc="-1" strike="noStrike">
              <a:solidFill>
                <a:srgbClr val="000000"/>
              </a:solidFill>
              <a:latin typeface="Times New Roman"/>
            </a:endParaRPr>
          </a:p>
        </p:txBody>
      </p:sp>
      <p:pic>
        <p:nvPicPr>
          <p:cNvPr id="115" name="Picture 7" descr=""/>
          <p:cNvPicPr/>
          <p:nvPr/>
        </p:nvPicPr>
        <p:blipFill>
          <a:blip r:embed="rId1"/>
          <a:stretch/>
        </p:blipFill>
        <p:spPr>
          <a:xfrm>
            <a:off x="7318440" y="404640"/>
            <a:ext cx="1708200" cy="406440"/>
          </a:xfrm>
          <a:prstGeom prst="rect">
            <a:avLst/>
          </a:prstGeom>
          <a:ln w="0">
            <a:noFill/>
          </a:ln>
        </p:spPr>
      </p:pic>
      <p:sp>
        <p:nvSpPr>
          <p:cNvPr id="11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8284-F09F-4C71-AC09-88557C6FE36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odruk zorgt voor afname nauwkeurigheid (leesaccuratesse) </a:t>
            </a:r>
            <a:r>
              <a:rPr b="0" i="1" lang="nl-NL" sz="3200" spc="-1" strike="noStrike">
                <a:solidFill>
                  <a:srgbClr val="000000"/>
                </a:solidFill>
                <a:latin typeface="Times New Roman"/>
              </a:rPr>
              <a:t>en</a:t>
            </a:r>
            <a:r>
              <a:rPr b="0" lang="nl-NL" sz="3200" spc="-1" strike="noStrike">
                <a:solidFill>
                  <a:srgbClr val="000000"/>
                </a:solidFill>
                <a:latin typeface="Times New Roman"/>
              </a:rPr>
              <a:t> tempo</a:t>
            </a:r>
            <a:endParaRPr b="0" lang="en-US" sz="3200" spc="-1" strike="noStrike">
              <a:solidFill>
                <a:srgbClr val="000000"/>
              </a:solidFill>
              <a:latin typeface="Times New Roman"/>
            </a:endParaRPr>
          </a:p>
        </p:txBody>
      </p:sp>
      <p:pic>
        <p:nvPicPr>
          <p:cNvPr id="119" name="Picture 7" descr=""/>
          <p:cNvPicPr/>
          <p:nvPr/>
        </p:nvPicPr>
        <p:blipFill>
          <a:blip r:embed="rId1"/>
          <a:stretch/>
        </p:blipFill>
        <p:spPr>
          <a:xfrm>
            <a:off x="7318440" y="404640"/>
            <a:ext cx="1708200" cy="406440"/>
          </a:xfrm>
          <a:prstGeom prst="rect">
            <a:avLst/>
          </a:prstGeom>
          <a:ln w="0">
            <a:noFill/>
          </a:ln>
        </p:spPr>
      </p:pic>
      <p:sp>
        <p:nvSpPr>
          <p:cNvPr id="12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75E6-C2C4-4984-824C-46094C7036C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hou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finitie dyslex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lemen voor dyslectische leerling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agnose</a:t>
            </a:r>
            <a:endParaRPr b="0" lang="en-US" sz="32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D668-9CA8-4823-9A11-C68BD4897A9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stig bij: leenwoorden (fouilleren), laagfrequente woorden/letterkoppelingen: (though, aujourd'hui, Knüpfteppich), assimilatie (inpakken/impor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7318440" y="404640"/>
            <a:ext cx="1708200" cy="406440"/>
          </a:xfrm>
          <a:prstGeom prst="rect">
            <a:avLst/>
          </a:prstGeom>
          <a:ln w="0">
            <a:noFill/>
          </a:ln>
        </p:spPr>
      </p:pic>
      <p:sp>
        <p:nvSpPr>
          <p:cNvPr id="12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18EC-564C-4FEE-9CA1-949FC2941B7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taal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orten in de fonologische verwerking en het werkgeheu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gere benoemsnelheid (rapid naming)</a:t>
            </a:r>
            <a:endParaRPr b="0" lang="en-US" sz="3200" spc="-1" strike="noStrike">
              <a:solidFill>
                <a:srgbClr val="000000"/>
              </a:solidFill>
              <a:latin typeface="Times New Roman"/>
            </a:endParaRPr>
          </a:p>
        </p:txBody>
      </p:sp>
      <p:pic>
        <p:nvPicPr>
          <p:cNvPr id="127" name="Picture 7" descr=""/>
          <p:cNvPicPr/>
          <p:nvPr/>
        </p:nvPicPr>
        <p:blipFill>
          <a:blip r:embed="rId1"/>
          <a:stretch/>
        </p:blipFill>
        <p:spPr>
          <a:xfrm>
            <a:off x="7318440" y="404640"/>
            <a:ext cx="1708200" cy="406440"/>
          </a:xfrm>
          <a:prstGeom prst="rect">
            <a:avLst/>
          </a:prstGeom>
          <a:ln w="0">
            <a:noFill/>
          </a:ln>
        </p:spPr>
      </p:pic>
      <p:sp>
        <p:nvSpPr>
          <p:cNvPr id="12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AF8E-14BE-4D89-BC2E-47B6BD2EAC1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pid naming (RA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9 1 2 3 5 9 8 7 6 2 9 4 5 2</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3 4 9 0 1 2 3 4 7 6 5 0 8 1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2 4 3 0 9 8 1 4 5 0 8 1 2 3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4 0 8 9 1 3 04 7 5  4 9 5 4</a:t>
            </a:r>
            <a:endParaRPr b="0" lang="en-US" sz="5000" spc="-1" strike="noStrike">
              <a:solidFill>
                <a:srgbClr val="000000"/>
              </a:solidFill>
              <a:latin typeface="Times New Roman"/>
            </a:endParaRPr>
          </a:p>
        </p:txBody>
      </p:sp>
      <p:pic>
        <p:nvPicPr>
          <p:cNvPr id="131" name="Picture 7" descr=""/>
          <p:cNvPicPr/>
          <p:nvPr/>
        </p:nvPicPr>
        <p:blipFill>
          <a:blip r:embed="rId1"/>
          <a:stretch/>
        </p:blipFill>
        <p:spPr>
          <a:xfrm>
            <a:off x="7318440" y="404640"/>
            <a:ext cx="1708200" cy="406440"/>
          </a:xfrm>
          <a:prstGeom prst="rect">
            <a:avLst/>
          </a:prstGeom>
          <a:ln w="0">
            <a:noFill/>
          </a:ln>
        </p:spPr>
      </p:pic>
      <p:sp>
        <p:nvSpPr>
          <p:cNvPr id="13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47EB-D5C9-4BDB-8AEA-E99B3F8C080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stoornis in 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hers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ste jaren wordt hier veelvuldig onderzoek naar gedaan.</a:t>
            </a:r>
            <a:endParaRPr b="0" lang="en-US" sz="3200" spc="-1" strike="noStrike">
              <a:solidFill>
                <a:srgbClr val="000000"/>
              </a:solidFill>
              <a:latin typeface="Times New Roman"/>
            </a:endParaRPr>
          </a:p>
        </p:txBody>
      </p:sp>
      <p:pic>
        <p:nvPicPr>
          <p:cNvPr id="135" name="Picture 7" descr=""/>
          <p:cNvPicPr/>
          <p:nvPr/>
        </p:nvPicPr>
        <p:blipFill>
          <a:blip r:embed="rId1"/>
          <a:stretch/>
        </p:blipFill>
        <p:spPr>
          <a:xfrm>
            <a:off x="7318440" y="404640"/>
            <a:ext cx="1708200" cy="406440"/>
          </a:xfrm>
          <a:prstGeom prst="rect">
            <a:avLst/>
          </a:prstGeom>
          <a:ln w="0">
            <a:noFill/>
          </a:ln>
        </p:spPr>
      </p:pic>
      <p:sp>
        <p:nvSpPr>
          <p:cNvPr id="13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3C31-DAE6-4351-989F-6DB6AFE9146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en erfelijk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sprake van een erfelijke component, maar …</a:t>
            </a:r>
            <a:endParaRPr b="0" lang="en-US" sz="3200" spc="-1" strike="noStrike">
              <a:solidFill>
                <a:srgbClr val="000000"/>
              </a:solidFill>
              <a:latin typeface="Times New Roman"/>
            </a:endParaRPr>
          </a:p>
        </p:txBody>
      </p:sp>
      <p:pic>
        <p:nvPicPr>
          <p:cNvPr id="139" name="Picture 7" descr=""/>
          <p:cNvPicPr/>
          <p:nvPr/>
        </p:nvPicPr>
        <p:blipFill>
          <a:blip r:embed="rId1"/>
          <a:stretch/>
        </p:blipFill>
        <p:spPr>
          <a:xfrm>
            <a:off x="7318440" y="404640"/>
            <a:ext cx="1708200" cy="406440"/>
          </a:xfrm>
          <a:prstGeom prst="rect">
            <a:avLst/>
          </a:prstGeom>
          <a:ln w="0">
            <a:noFill/>
          </a:ln>
        </p:spPr>
      </p:pic>
      <p:sp>
        <p:nvSpPr>
          <p:cNvPr id="14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1E09-51C1-43D9-8F05-8AD8A6FE0AD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dicerende diagnose (handelingsgerichte diagnose)</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pak die wordt ingezet om de negatieve gevolgen van dyslexie zo veel mogelijk te onderva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emmeringen hangen samen met de eisen die de omgeving stelt en de beschermende factoren</a:t>
            </a:r>
            <a:endParaRPr b="0" lang="en-US" sz="3200" spc="-1" strike="noStrike">
              <a:solidFill>
                <a:srgbClr val="000000"/>
              </a:solidFill>
              <a:latin typeface="Times New Roman"/>
            </a:endParaRPr>
          </a:p>
        </p:txBody>
      </p:sp>
      <p:pic>
        <p:nvPicPr>
          <p:cNvPr id="143" name="Picture 7" descr=""/>
          <p:cNvPicPr/>
          <p:nvPr/>
        </p:nvPicPr>
        <p:blipFill>
          <a:blip r:embed="rId1"/>
          <a:stretch/>
        </p:blipFill>
        <p:spPr>
          <a:xfrm>
            <a:off x="7318440" y="404640"/>
            <a:ext cx="1708200" cy="406440"/>
          </a:xfrm>
          <a:prstGeom prst="rect">
            <a:avLst/>
          </a:prstGeom>
          <a:ln w="0">
            <a:noFill/>
          </a:ln>
        </p:spPr>
      </p:pic>
      <p:sp>
        <p:nvSpPr>
          <p:cNvPr id="14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5166-5EA5-4EFF-8D3F-64A6591A858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volgen dyslexie in het VO</a:t>
            </a:r>
            <a:endParaRPr b="0" lang="en-US" sz="4400" spc="-1" strike="noStrike">
              <a:solidFill>
                <a:srgbClr val="000000"/>
              </a:solidFill>
              <a:latin typeface="Times New Roman"/>
            </a:endParaRPr>
          </a:p>
        </p:txBody>
      </p:sp>
      <p:pic>
        <p:nvPicPr>
          <p:cNvPr id="146"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morbiditei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binatie van stoornissen, o.a. </a:t>
            </a:r>
            <a:br>
              <a:rPr sz="3200"/>
            </a:br>
            <a:r>
              <a:rPr b="0" lang="nl-NL" sz="3200" spc="-1" strike="noStrike">
                <a:solidFill>
                  <a:srgbClr val="000000"/>
                </a:solidFill>
                <a:latin typeface="Times New Roman"/>
              </a:rPr>
              <a:t>- beperkte intelligentie</a:t>
            </a:r>
            <a:br>
              <a:rPr sz="3200"/>
            </a:br>
            <a:r>
              <a:rPr b="0" lang="nl-NL" sz="3200" spc="-1" strike="noStrike">
                <a:solidFill>
                  <a:srgbClr val="000000"/>
                </a:solidFill>
                <a:latin typeface="Times New Roman"/>
              </a:rPr>
              <a:t>- ADH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utisme</a:t>
            </a:r>
            <a:br>
              <a:rPr sz="3200"/>
            </a:br>
            <a:r>
              <a:rPr b="0" lang="nl-NL" sz="3200" spc="-1" strike="noStrike">
                <a:solidFill>
                  <a:srgbClr val="000000"/>
                </a:solidFill>
                <a:latin typeface="Times New Roman"/>
              </a:rPr>
              <a:t>- zintuiglijke stoornis</a:t>
            </a:r>
            <a:endParaRPr b="0" lang="en-US" sz="3200" spc="-1" strike="noStrike">
              <a:solidFill>
                <a:srgbClr val="000000"/>
              </a:solidFill>
              <a:latin typeface="Times New Roman"/>
            </a:endParaRPr>
          </a:p>
        </p:txBody>
      </p:sp>
      <p:pic>
        <p:nvPicPr>
          <p:cNvPr id="149" name="Picture 7" descr=""/>
          <p:cNvPicPr/>
          <p:nvPr/>
        </p:nvPicPr>
        <p:blipFill>
          <a:blip r:embed="rId1"/>
          <a:stretch/>
        </p:blipFill>
        <p:spPr>
          <a:xfrm>
            <a:off x="7318440" y="404640"/>
            <a:ext cx="1708200" cy="406440"/>
          </a:xfrm>
          <a:prstGeom prst="rect">
            <a:avLst/>
          </a:prstGeom>
          <a:ln w="0">
            <a:noFill/>
          </a:ln>
        </p:spPr>
      </p:pic>
      <p:sp>
        <p:nvSpPr>
          <p:cNvPr id="15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D154-14E0-4BDE-9177-B53AA374731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vaststellen</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sychodiagnostisch onderzoek door gekwalificeerde profession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remedial teacher of logopedist is niet bevoegd om een dyslexieverklaring af te geven</a:t>
            </a:r>
            <a:endParaRPr b="0" lang="en-US" sz="3200" spc="-1" strike="noStrike">
              <a:solidFill>
                <a:srgbClr val="000000"/>
              </a:solidFill>
              <a:latin typeface="Times New Roman"/>
            </a:endParaRPr>
          </a:p>
        </p:txBody>
      </p:sp>
      <p:pic>
        <p:nvPicPr>
          <p:cNvPr id="153" name="Picture 7" descr=""/>
          <p:cNvPicPr/>
          <p:nvPr/>
        </p:nvPicPr>
        <p:blipFill>
          <a:blip r:embed="rId1"/>
          <a:stretch/>
        </p:blipFill>
        <p:spPr>
          <a:xfrm>
            <a:off x="7318440" y="404640"/>
            <a:ext cx="1708200" cy="406440"/>
          </a:xfrm>
          <a:prstGeom prst="rect">
            <a:avLst/>
          </a:prstGeom>
          <a:ln w="0">
            <a:noFill/>
          </a:ln>
        </p:spPr>
      </p:pic>
      <p:sp>
        <p:nvSpPr>
          <p:cNvPr id="15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A1F5-A686-40CC-803E-C08DAE12125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a:t>
            </a:r>
            <a:endParaRPr b="0" lang="en-US" sz="4400" spc="-1" strike="noStrike">
              <a:solidFill>
                <a:srgbClr val="000000"/>
              </a:solidFill>
              <a:latin typeface="Times New Roman"/>
            </a:endParaRPr>
          </a:p>
        </p:txBody>
      </p:sp>
      <p:pic>
        <p:nvPicPr>
          <p:cNvPr id="54"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Miss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yslectische leerlingen onderwijs laten volgen dat past bij hun niveau</a:t>
            </a: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oele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Leerlingen leren omgaan met de problemen die ze ondervinden als gevolg van hun dyslex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Functionele lees- en spellingvaardigheid optimaliseren (maximaal haalbaar voor </a:t>
            </a:r>
            <a:r>
              <a:rPr b="0" i="1" lang="nl-NL" sz="2600" spc="-1" strike="noStrike">
                <a:solidFill>
                  <a:srgbClr val="000000"/>
                </a:solidFill>
                <a:latin typeface="Times New Roman"/>
              </a:rPr>
              <a:t>deze</a:t>
            </a:r>
            <a:r>
              <a:rPr b="0" lang="nl-NL" sz="2600" spc="-1" strike="noStrike">
                <a:solidFill>
                  <a:srgbClr val="000000"/>
                </a:solidFill>
                <a:latin typeface="Times New Roman"/>
              </a:rPr>
              <a:t> leerling in </a:t>
            </a:r>
            <a:r>
              <a:rPr b="0" i="1" lang="nl-NL" sz="2600" spc="-1" strike="noStrike">
                <a:solidFill>
                  <a:srgbClr val="000000"/>
                </a:solidFill>
                <a:latin typeface="Times New Roman"/>
              </a:rPr>
              <a:t>deze </a:t>
            </a:r>
            <a:r>
              <a:rPr b="0" lang="nl-NL" sz="2600" spc="-1" strike="noStrike">
                <a:solidFill>
                  <a:srgbClr val="000000"/>
                </a:solidFill>
                <a:latin typeface="Times New Roman"/>
              </a:rPr>
              <a:t>situatie)</a:t>
            </a:r>
            <a:endParaRPr b="0" lang="en-US" sz="2600" spc="-1" strike="noStrike">
              <a:solidFill>
                <a:srgbClr val="000000"/>
              </a:solidFill>
              <a:latin typeface="Times New Roman"/>
            </a:endParaRPr>
          </a:p>
        </p:txBody>
      </p:sp>
      <p:pic>
        <p:nvPicPr>
          <p:cNvPr id="57" name="Picture 7" descr=""/>
          <p:cNvPicPr/>
          <p:nvPr/>
        </p:nvPicPr>
        <p:blipFill>
          <a:blip r:embed="rId1"/>
          <a:stretch/>
        </p:blipFill>
        <p:spPr>
          <a:xfrm>
            <a:off x="7318440" y="404640"/>
            <a:ext cx="1708200" cy="406440"/>
          </a:xfrm>
          <a:prstGeom prst="rect">
            <a:avLst/>
          </a:prstGeom>
          <a:ln w="0">
            <a:noFill/>
          </a:ln>
        </p:spPr>
      </p:pic>
      <p:sp>
        <p:nvSpPr>
          <p:cNvPr id="5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A319-56FF-41FA-B13B-5E4CDB4A725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61" name="Picture 7" descr=""/>
          <p:cNvPicPr/>
          <p:nvPr/>
        </p:nvPicPr>
        <p:blipFill>
          <a:blip r:embed="rId1"/>
          <a:stretch/>
        </p:blipFill>
        <p:spPr>
          <a:xfrm>
            <a:off x="7318440" y="404640"/>
            <a:ext cx="1708200" cy="406440"/>
          </a:xfrm>
          <a:prstGeom prst="rect">
            <a:avLst/>
          </a:prstGeom>
          <a:ln w="0">
            <a:noFill/>
          </a:ln>
        </p:spPr>
      </p:pic>
      <p:pic>
        <p:nvPicPr>
          <p:cNvPr id="62" name="Picture 2" descr="">
            <a:hlinkClick r:id="rId2"/>
          </p:cNvPr>
          <p:cNvPicPr/>
          <p:nvPr/>
        </p:nvPicPr>
        <p:blipFill>
          <a:blip r:embed="rId3"/>
          <a:stretch/>
        </p:blipFill>
        <p:spPr>
          <a:xfrm>
            <a:off x="3747960" y="2328840"/>
            <a:ext cx="1648080" cy="2324160"/>
          </a:xfrm>
          <a:prstGeom prst="rect">
            <a:avLst/>
          </a:prstGeom>
          <a:ln w="0">
            <a:noFill/>
          </a:ln>
        </p:spPr>
      </p:pic>
      <p:sp>
        <p:nvSpPr>
          <p:cNvPr id="6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039F-67C9-4C04-86F3-42A305976A7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gangspun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Begeleiding gedurende de hele schoolloopba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Economisch princip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Geïntegreerde aanpak</a:t>
            </a:r>
            <a:endParaRPr b="0" lang="en-US" sz="3200" spc="-1" strike="noStrike">
              <a:solidFill>
                <a:srgbClr val="000000"/>
              </a:solidFill>
              <a:latin typeface="Times New Roman"/>
            </a:endParaRPr>
          </a:p>
        </p:txBody>
      </p:sp>
      <p:sp>
        <p:nvSpPr>
          <p:cNvPr id="66" name="Text Box 4"/>
          <p:cNvSpPr/>
          <p:nvPr/>
        </p:nvSpPr>
        <p:spPr>
          <a:xfrm>
            <a:off x="6443640" y="227664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2128-BC1E-4D24-9D62-AAD5B084444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of vlot toepassen van het lezen en/of spellen op woordniveau’</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ccccff"/>
                </a:solidFill>
                <a:uFillTx/>
                <a:latin typeface="Times New Roman"/>
                <a:hlinkClick r:id="rId1"/>
              </a:rPr>
              <a:t>www.stichtingdyslexienederland.n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7" descr=""/>
          <p:cNvPicPr/>
          <p:nvPr/>
        </p:nvPicPr>
        <p:blipFill>
          <a:blip r:embed="rId2"/>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28DD-7EB0-4AED-89AD-33DB27BF680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Problemen dyslectische leerlinge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yslectische leerlingen in het voortgeze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derwijs hebben problemen 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zen en/ of spellen op woordniveau in het Nederlands en in de moderne vreemde talen (nieuwe klank-tekenkoppelingen, ingewikkelde spellingafspra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lezen (decoderen) van teksten bij alle vak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spellen (coderen) bij functioneel schrijven bij alle vakken </a:t>
            </a:r>
            <a:endParaRPr b="0" lang="en-US" sz="28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A096-D3F2-4754-82F2-072DB1871A4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Tekstbegrip</a:t>
            </a:r>
            <a:br>
              <a:rPr sz="3200"/>
            </a:br>
            <a:br>
              <a:rPr sz="3200"/>
            </a:br>
            <a:r>
              <a:rPr b="0" lang="nl-NL" sz="3200" spc="-1" strike="noStrike">
                <a:solidFill>
                  <a:srgbClr val="000000"/>
                </a:solidFill>
                <a:latin typeface="Times New Roman"/>
              </a:rPr>
              <a:t>2. Problemen met spelling</a:t>
            </a:r>
            <a:br>
              <a:rPr sz="3200"/>
            </a:b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Intelligenti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protocol p. 30 + 31 voor ervaringen)</a:t>
            </a:r>
            <a:endParaRPr b="0" lang="en-US" sz="3200" spc="-1" strike="noStrike">
              <a:solidFill>
                <a:srgbClr val="000000"/>
              </a:solidFill>
              <a:latin typeface="Times New Roman"/>
            </a:endParaRPr>
          </a:p>
        </p:txBody>
      </p:sp>
      <p:pic>
        <p:nvPicPr>
          <p:cNvPr id="79" name="Picture 7" descr=""/>
          <p:cNvPicPr/>
          <p:nvPr/>
        </p:nvPicPr>
        <p:blipFill>
          <a:blip r:embed="rId1"/>
          <a:stretch/>
        </p:blipFill>
        <p:spPr>
          <a:xfrm>
            <a:off x="7318440" y="404640"/>
            <a:ext cx="1708200" cy="406440"/>
          </a:xfrm>
          <a:prstGeom prst="rect">
            <a:avLst/>
          </a:prstGeom>
          <a:ln w="0">
            <a:noFill/>
          </a:ln>
        </p:spPr>
      </p:pic>
      <p:sp>
        <p:nvSpPr>
          <p:cNvPr id="8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6C3D-7290-4C25-A4E1-466BEB3B1AA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Bruining, J.</cp:lastModifiedBy>
  <cp:lastPrinted>2018-05-08T13:14:32Z</cp:lastPrinted>
  <dcterms:modified xsi:type="dcterms:W3CDTF">2018-05-08T13:15:04Z</dcterms:modified>
  <cp:revision>157</cp:revision>
  <dc:subject/>
  <dc:title>Goed leesonderwijs</dc:title>
</cp:coreProperties>
</file>