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13.png" ContentType="image/png"/>
  <Override PartName="/ppt/media/image5.gif" ContentType="image/gif"/>
  <Override PartName="/ppt/media/image4.gif" ContentType="image/gif"/>
  <Override PartName="/ppt/media/image1.jpeg" ContentType="image/jpeg"/>
  <Override PartName="/ppt/media/image3.gif" ContentType="image/gif"/>
  <Override PartName="/ppt/media/applause.wav" ContentType="audio/x-wav"/>
  <Override PartName="/ppt/media/image24.gif" ContentType="image/gif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8FE2-9B0C-48CB-872C-4D8882385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542A-3792-46BE-AC74-EA23184E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1CDE-001C-4B1E-A732-0A587DACE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D559-8520-4CA4-BAD7-7995E4429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ABB6-BF1C-4574-A9FF-5B2D679A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954B-F3DE-418A-8FB7-DC0D1596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D7D6-DFB4-4670-8923-41F46B75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978A-6CCF-4A5F-BA96-A685BB65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0CE6-752C-4DD4-AB8C-33AF185F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4C5D-A3EA-4831-8A7A-AA913871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83F8-4E85-44FF-BA1F-26578E46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7324-2C85-4180-9D6C-85D655A3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E3B7-CEC4-4525-85E4-0FB451F3AA05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ewegende-plaatjes.net/galerij/buttons/pijlen/Arrowl.gif.html" TargetMode="Externa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6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8.gif"/><Relationship Id="rId12" Type="http://schemas.openxmlformats.org/officeDocument/2006/relationships/image" Target="../media/image11.gif"/><Relationship Id="rId13" Type="http://schemas.openxmlformats.org/officeDocument/2006/relationships/image" Target="../media/image7.gif"/><Relationship Id="rId14" Type="http://schemas.openxmlformats.org/officeDocument/2006/relationships/image" Target="../media/image12.gi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15.gif"/><Relationship Id="rId6" Type="http://schemas.openxmlformats.org/officeDocument/2006/relationships/image" Target="../media/image16.gif"/><Relationship Id="rId7" Type="http://schemas.openxmlformats.org/officeDocument/2006/relationships/image" Target="../media/image17.gif"/><Relationship Id="rId8" Type="http://schemas.openxmlformats.org/officeDocument/2006/relationships/image" Target="../media/image18.gif"/><Relationship Id="rId9" Type="http://schemas.openxmlformats.org/officeDocument/2006/relationships/image" Target="../media/image19.gi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Persoonsvorm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71320" y="2500200"/>
            <a:ext cx="771516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Belangrijk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Spelling van werkwoord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Leren van andere tale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Picture 8" descr="Arrowl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2714760"/>
            <a:ext cx="2171880" cy="452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Arrowr.gif"/>
          <p:cNvPicPr/>
          <p:nvPr/>
        </p:nvPicPr>
        <p:blipFill>
          <a:blip r:embed="rId3"/>
          <a:stretch/>
        </p:blipFill>
        <p:spPr>
          <a:xfrm>
            <a:off x="928800" y="2629080"/>
            <a:ext cx="235728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4000"/>
            </a:br>
            <a:r>
              <a:rPr b="0" i="1" lang="nl-NL" sz="2800" spc="-1" strike="noStrike">
                <a:solidFill>
                  <a:srgbClr val="ffffff"/>
                </a:solidFill>
                <a:latin typeface="Calibri"/>
              </a:rPr>
              <a:t>Tussenstapj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42640" y="3142800"/>
            <a:ext cx="75438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iets wat je kunt doe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(zwemmen, vallen, hebben, zijn)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je kunt een werkwoord vervoeg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(combineren met ik/jij/wij, waardoor het werkwoord een andere vorm krijgt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Picture 2" descr="http://www.animatieplaatjes.nl/plaatjesP/pijlen.gif"/>
          <p:cNvPicPr/>
          <p:nvPr/>
        </p:nvPicPr>
        <p:blipFill>
          <a:blip r:embed="rId1"/>
          <a:stretch/>
        </p:blipFill>
        <p:spPr>
          <a:xfrm>
            <a:off x="285840" y="335772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www.animatieplaatjes.nl/plaatjesP/pijlen.gif"/>
          <p:cNvPicPr/>
          <p:nvPr/>
        </p:nvPicPr>
        <p:blipFill>
          <a:blip r:embed="rId2"/>
          <a:stretch/>
        </p:blipFill>
        <p:spPr>
          <a:xfrm>
            <a:off x="285840" y="507204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http://www.dina24.nl/Animatie%20Letters/Treintje.gif"/>
          <p:cNvPicPr/>
          <p:nvPr/>
        </p:nvPicPr>
        <p:blipFill>
          <a:blip r:embed="rId3"/>
          <a:stretch/>
        </p:blipFill>
        <p:spPr>
          <a:xfrm>
            <a:off x="1571760" y="1643040"/>
            <a:ext cx="1147680" cy="676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www.dina24.nl/Animatie%20Letters/Treintje_23.gif"/>
          <p:cNvPicPr/>
          <p:nvPr/>
        </p:nvPicPr>
        <p:blipFill>
          <a:blip r:embed="rId4"/>
          <a:stretch/>
        </p:blipFill>
        <p:spPr>
          <a:xfrm>
            <a:off x="2571840" y="1500120"/>
            <a:ext cx="571320" cy="781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www.dina24.nl/Animatie%20Letters/Treintje_9.gif"/>
          <p:cNvPicPr/>
          <p:nvPr/>
        </p:nvPicPr>
        <p:blipFill>
          <a:blip r:embed="rId5"/>
          <a:stretch/>
        </p:blipFill>
        <p:spPr>
          <a:xfrm>
            <a:off x="3071880" y="1571760"/>
            <a:ext cx="500040" cy="699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www.dina24.nl/Animatie%20Letters/Treintje_12.gif"/>
          <p:cNvPicPr/>
          <p:nvPr/>
        </p:nvPicPr>
        <p:blipFill>
          <a:blip r:embed="rId6"/>
          <a:stretch/>
        </p:blipFill>
        <p:spPr>
          <a:xfrm>
            <a:off x="3500280" y="1571760"/>
            <a:ext cx="500400" cy="699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http://www.dina24.nl/Animatie%20Letters/Treintje_14.gif"/>
          <p:cNvPicPr/>
          <p:nvPr/>
        </p:nvPicPr>
        <p:blipFill>
          <a:blip r:embed="rId7"/>
          <a:stretch/>
        </p:blipFill>
        <p:spPr>
          <a:xfrm>
            <a:off x="3929040" y="1571760"/>
            <a:ext cx="500040" cy="682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://www.dina24.nl/Animatie%20Letters/Treintje_23.gif"/>
          <p:cNvPicPr/>
          <p:nvPr/>
        </p:nvPicPr>
        <p:blipFill>
          <a:blip r:embed="rId8"/>
          <a:stretch/>
        </p:blipFill>
        <p:spPr>
          <a:xfrm>
            <a:off x="4357800" y="1500120"/>
            <a:ext cx="571320" cy="727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http://www.dina24.nl/Animatie%20Letters/Treintje_10.gif"/>
          <p:cNvPicPr/>
          <p:nvPr/>
        </p:nvPicPr>
        <p:blipFill>
          <a:blip r:embed="rId9"/>
          <a:stretch/>
        </p:blipFill>
        <p:spPr>
          <a:xfrm>
            <a:off x="4857840" y="1571760"/>
            <a:ext cx="500040" cy="682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http://www.dina24.nl/Animatie%20Letters/Treintje_10.gif"/>
          <p:cNvPicPr/>
          <p:nvPr/>
        </p:nvPicPr>
        <p:blipFill>
          <a:blip r:embed="rId10"/>
          <a:stretch/>
        </p:blipFill>
        <p:spPr>
          <a:xfrm>
            <a:off x="5286240" y="1571760"/>
            <a:ext cx="500040" cy="682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http://www.dina24.nl/Animatie%20Letters/Treintje_12.gif"/>
          <p:cNvPicPr/>
          <p:nvPr/>
        </p:nvPicPr>
        <p:blipFill>
          <a:blip r:embed="rId11"/>
          <a:stretch/>
        </p:blipFill>
        <p:spPr>
          <a:xfrm>
            <a:off x="5715000" y="1571760"/>
            <a:ext cx="500040" cy="699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http://www.dina24.nl/Animatie%20Letters/Treintje_4.gif"/>
          <p:cNvPicPr/>
          <p:nvPr/>
        </p:nvPicPr>
        <p:blipFill>
          <a:blip r:embed="rId12"/>
          <a:stretch/>
        </p:blipFill>
        <p:spPr>
          <a:xfrm>
            <a:off x="6143760" y="1571760"/>
            <a:ext cx="546120" cy="695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ttp://www.dina24.nl/Animatie%20Letters/Treintje_9.gif"/>
          <p:cNvPicPr/>
          <p:nvPr/>
        </p:nvPicPr>
        <p:blipFill>
          <a:blip r:embed="rId13"/>
          <a:stretch/>
        </p:blipFill>
        <p:spPr>
          <a:xfrm>
            <a:off x="6572160" y="1643040"/>
            <a:ext cx="470160" cy="657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http://www.dina24.nl/Animatie%20Letters/Treintje_17.gif"/>
          <p:cNvPicPr/>
          <p:nvPr/>
        </p:nvPicPr>
        <p:blipFill>
          <a:blip r:embed="rId14"/>
          <a:stretch/>
        </p:blipFill>
        <p:spPr>
          <a:xfrm>
            <a:off x="6929280" y="1571760"/>
            <a:ext cx="50040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is  </a:t>
            </a:r>
            <a:r>
              <a:rPr b="1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LTIJD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een werkwoord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geeft de actie aan in  een zi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hoort bij het onderwerp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2" descr="http://www.animatieplaatjes.nl/plaatjesP/pijlen.gif"/>
          <p:cNvPicPr/>
          <p:nvPr/>
        </p:nvPicPr>
        <p:blipFill>
          <a:blip r:embed="rId1"/>
          <a:stretch/>
        </p:blipFill>
        <p:spPr>
          <a:xfrm>
            <a:off x="642960" y="235728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http://www.animatieplaatjes.nl/plaatjesP/pijlen.gif"/>
          <p:cNvPicPr/>
          <p:nvPr/>
        </p:nvPicPr>
        <p:blipFill>
          <a:blip r:embed="rId2"/>
          <a:stretch/>
        </p:blipFill>
        <p:spPr>
          <a:xfrm>
            <a:off x="571680" y="3500280"/>
            <a:ext cx="642600" cy="642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ttp://www.animatieplaatjes.nl/plaatjesP/pijlen.gif"/>
          <p:cNvPicPr/>
          <p:nvPr/>
        </p:nvPicPr>
        <p:blipFill>
          <a:blip r:embed="rId3"/>
          <a:stretch/>
        </p:blipFill>
        <p:spPr>
          <a:xfrm>
            <a:off x="642960" y="46432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http://www.disneyplaatjes.nl/donald_duck/donald45.gif"/>
          <p:cNvPicPr/>
          <p:nvPr/>
        </p:nvPicPr>
        <p:blipFill>
          <a:blip r:embed="rId4"/>
          <a:stretch/>
        </p:blipFill>
        <p:spPr>
          <a:xfrm>
            <a:off x="6929280" y="4808520"/>
            <a:ext cx="193680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3100"/>
            </a:b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Hoe vinden we hem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28800" y="1571760"/>
            <a:ext cx="76867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Via de vraagproef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Morgen </a:t>
            </a: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gaan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we naar de nieuwe lachfilm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Gaan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we morgen naar de nieuwe lachfil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Via de tijdproef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Vorige maand </a:t>
            </a: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was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ik ziek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Vorige maand </a:t>
            </a: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ben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ik ziek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Via de getalproe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Ik </a:t>
            </a: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heb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een leuk bijbaantje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Jullie </a:t>
            </a: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hebben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een leuk bijbaantj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Picture 6" descr="http://beelden.gifmania.nl/Gif-Animaties-Geanimeerde-Letters/Beelden-Animaties-Leesteken/Gifplaatjes-Vraagteken/question-mark13.gif"/>
          <p:cNvPicPr/>
          <p:nvPr/>
        </p:nvPicPr>
        <p:blipFill>
          <a:blip r:embed="rId1"/>
          <a:stretch/>
        </p:blipFill>
        <p:spPr>
          <a:xfrm>
            <a:off x="8286840" y="214200"/>
            <a:ext cx="571320" cy="1166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http://www.animatieplaatjes.nl/plaatjesP/pijlen.gif"/>
          <p:cNvPicPr/>
          <p:nvPr/>
        </p:nvPicPr>
        <p:blipFill>
          <a:blip r:embed="rId2"/>
          <a:stretch/>
        </p:blipFill>
        <p:spPr>
          <a:xfrm>
            <a:off x="214200" y="178596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http://www.animatieplaatjes.nl/plaatjesP/pijlen.gif"/>
          <p:cNvPicPr/>
          <p:nvPr/>
        </p:nvPicPr>
        <p:blipFill>
          <a:blip r:embed="rId3"/>
          <a:stretch/>
        </p:blipFill>
        <p:spPr>
          <a:xfrm>
            <a:off x="214200" y="314316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ttp://www.animatieplaatjes.nl/plaatjesP/pijlen.gif"/>
          <p:cNvPicPr/>
          <p:nvPr/>
        </p:nvPicPr>
        <p:blipFill>
          <a:blip r:embed="rId4"/>
          <a:stretch/>
        </p:blipFill>
        <p:spPr>
          <a:xfrm>
            <a:off x="285840" y="521496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http://beelden.gifmania.nl/Gif-Animaties-Geanimeerde-Letters/Beelden-Animaties-Leesteken/Gifplaatjes-Vraagteken/question-mark103.gif"/>
          <p:cNvPicPr/>
          <p:nvPr/>
        </p:nvPicPr>
        <p:blipFill>
          <a:blip r:embed="rId5"/>
          <a:stretch/>
        </p:blipFill>
        <p:spPr>
          <a:xfrm>
            <a:off x="4000680" y="1500120"/>
            <a:ext cx="225360" cy="571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http://www.animatieplaatjes.nl/plaatjesK/klokken17.gif"/>
          <p:cNvPicPr/>
          <p:nvPr/>
        </p:nvPicPr>
        <p:blipFill>
          <a:blip r:embed="rId6"/>
          <a:stretch/>
        </p:blipFill>
        <p:spPr>
          <a:xfrm>
            <a:off x="3714840" y="29289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http://www.animatieplaatjes.nl/plaatjesC/cijfers31.gif"/>
          <p:cNvPicPr/>
          <p:nvPr/>
        </p:nvPicPr>
        <p:blipFill>
          <a:blip r:embed="rId7"/>
          <a:stretch/>
        </p:blipFill>
        <p:spPr>
          <a:xfrm>
            <a:off x="4143240" y="5214960"/>
            <a:ext cx="147600" cy="357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http://www.animatieplaatjes.nl/plaatjesC/cijfers32.gif"/>
          <p:cNvPicPr/>
          <p:nvPr/>
        </p:nvPicPr>
        <p:blipFill>
          <a:blip r:embed="rId8"/>
          <a:stretch/>
        </p:blipFill>
        <p:spPr>
          <a:xfrm>
            <a:off x="4643280" y="5214960"/>
            <a:ext cx="265320" cy="357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6" descr="http://beelden.gifmania.nl/Gif-Animaties-Geanimeerde-Letters/Beelden-Animaties-Leesteken/Gifplaatjes-Plus/plus-sign6.gif"/>
          <p:cNvPicPr/>
          <p:nvPr/>
        </p:nvPicPr>
        <p:blipFill>
          <a:blip r:embed="rId9"/>
          <a:stretch/>
        </p:blipFill>
        <p:spPr>
          <a:xfrm>
            <a:off x="4286160" y="5000760"/>
            <a:ext cx="38124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from="(#ppt_x)" to="(#ppt_x+1)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from="(#ppt_x)" to="(#ppt_x+1)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39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0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47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8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1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4000"/>
            </a:b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Oefene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000080" y="2286000"/>
            <a:ext cx="7686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De computer mag op haar kamer staa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Dat apparaat heeft veel geld gekos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Mijn vader en moeder hebben mij op mij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verjaardag erg verwen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" name="Picture 2" descr="bz00027.gif"/>
          <p:cNvPicPr/>
          <p:nvPr/>
        </p:nvPicPr>
        <p:blipFill>
          <a:blip r:embed="rId1"/>
          <a:stretch/>
        </p:blipFill>
        <p:spPr>
          <a:xfrm>
            <a:off x="214200" y="200016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bz00028.gif"/>
          <p:cNvPicPr/>
          <p:nvPr/>
        </p:nvPicPr>
        <p:blipFill>
          <a:blip r:embed="rId2"/>
          <a:stretch/>
        </p:blipFill>
        <p:spPr>
          <a:xfrm>
            <a:off x="285840" y="3786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bz00029.gif"/>
          <p:cNvPicPr/>
          <p:nvPr/>
        </p:nvPicPr>
        <p:blipFill>
          <a:blip r:embed="rId3"/>
          <a:stretch/>
        </p:blipFill>
        <p:spPr>
          <a:xfrm>
            <a:off x="357120" y="5286240"/>
            <a:ext cx="7858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56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5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2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335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6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3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341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3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4000"/>
            </a:b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Nu jij!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-214560" y="1428840"/>
            <a:ext cx="8901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De ondeugende jongetjes boden oom Pieter ee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klapsigaar aa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De vriendelijke man bedankte de ventjes hartelijk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Met een tevreden gezicht stak hij de sigaar aa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Met een harde knal knapte de sigaar even later uit elkaar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De jongens hadden zich inmiddels achter in de tui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verstop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Zulke grappen kunnen behoorlijk gevaarlijk zij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Voor straf moesten de jongens de hele middag in hu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kamer blijve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Picture 2" descr="http://www.1polly.nl/donaldduckani/gpalaced43-.gif"/>
          <p:cNvPicPr/>
          <p:nvPr/>
        </p:nvPicPr>
        <p:blipFill>
          <a:blip r:embed="rId1"/>
          <a:stretch/>
        </p:blipFill>
        <p:spPr>
          <a:xfrm>
            <a:off x="7643880" y="214200"/>
            <a:ext cx="128592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4000"/>
            </a:b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Snap je het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55717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Succes met het leren van de toet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Picture 2" descr="leuke en gratis Donald Duck animaties"/>
          <p:cNvPicPr/>
          <p:nvPr/>
        </p:nvPicPr>
        <p:blipFill>
          <a:blip r:embed="rId1"/>
          <a:stretch/>
        </p:blipFill>
        <p:spPr>
          <a:xfrm>
            <a:off x="3286080" y="2143080"/>
            <a:ext cx="2643120" cy="298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4:54:09Z</dcterms:created>
  <dc:creator>Gea</dc:creator>
  <dc:description/>
  <dc:language>en-US</dc:language>
  <cp:lastModifiedBy>linde college</cp:lastModifiedBy>
  <dcterms:modified xsi:type="dcterms:W3CDTF">2011-02-07T14:16:25Z</dcterms:modified>
  <cp:revision>18</cp:revision>
  <dc:subject/>
  <dc:title>Dia 1</dc:title>
</cp:coreProperties>
</file>