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8561-7D60-46C0-B2A0-237A0831E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118E-72C7-4624-8981-EB090F58556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40E4-761F-4E24-9087-A89AA4582E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C574-8B28-4A46-BFAC-A594D739DC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7F4B-06B2-4F28-ABD5-D0219104650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E7AA42-7A4D-4177-9690-C3C092E6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E9940C-3E01-4B5C-8B87-1A8D21B1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1BE41-BC95-497A-9B7F-8405B715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68CC4B-E0AE-4F16-A851-F38C9BA8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873DD-4E33-4EA3-9E19-ACBE2D6F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8F5F62-AEB4-45CE-A63A-EADC3F39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9E8D41-C0B8-44BC-BCCE-B7AFF80B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95F3-E0D2-42C1-A8A6-290EA8CEF08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9E1F07-2F5C-4D36-A4A5-BA793BF4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D3D96A-0392-4DE3-B40D-0EB3417C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118FD-6CCA-4C14-A13B-FF93464C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1E2BAF-2BB4-4E13-B49E-12A2B7CD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AAB2B-4A4A-4AC4-848F-78862AC3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1DA3E-C159-4AD5-AEB1-06689767F6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C2315-26B9-470B-BC73-FE18C224B44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05555-91A6-4B2C-A883-12E24DA2419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3F742-4988-49FC-AD96-D7A23FEDBEE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2A4A7-2D92-4DFC-9DE9-5B14B0A3AD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A318-258A-49B0-8FD4-199F1EAAB27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FD2E9-3B94-4302-9146-04F0BCEE04F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5E0DD-8D5C-4203-89BD-75198C63CC5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95EBF-4F24-40C2-A105-42E2FAEB15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ACA6F-A95C-44E7-812E-5701C15259C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E7D0F-D59A-43E7-824E-2D6DC727394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CA34A-5005-42EC-86EA-B5FC1025FA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101A2-4102-4798-803A-234856027B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0F19-7428-4794-8120-36F76A307D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A589-D1A7-4BF4-9516-A4AE72486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FA93-CA23-48EC-9247-7A55997958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0E28-A17C-4BC6-9686-43292CCD1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1BB3-E261-49D7-963A-79F3E3520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4F88-0F92-415B-81D2-BB0896B1B0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9574-66BC-4527-85F2-15AC4B368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87C9-2DF6-4195-A488-0CAE9D0BD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DECC-3C4A-4C74-AEEC-E74A4058B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EE33-47F9-4E81-96F6-13C5B5C00E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48D-B3B1-4BA5-AF0F-80C97251F0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E68-DB8F-477A-A1EE-9570DFF4F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1A2-F169-4E44-A68A-706EA8B0F2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BE5-5ADC-415E-8D00-D73B3F86EF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388-D013-4BEA-8DA7-89AF6CFB2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678A-5627-4BFE-8330-6AD9AFE99B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AAC-A3CA-4C90-95FF-5BECEB2C01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444-AC6D-474B-A654-EE56440BAC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1DF-953C-4471-B11B-9167240C3F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510-13CB-48D7-B899-BE1DB2B74E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A9E-D93F-4004-B556-761F9A759F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707-DDB4-46CD-BD80-83760A0BDE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792-9978-45C3-898A-D3AD5B9E2E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5E417-7D44-447D-82B5-F36212D21B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FD117-E57F-4BD6-AC81-E037F367A0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E15F2-1A77-4D0B-9F1A-FF5F96A0E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5599-73FF-4BB9-822F-D4407077AA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77730-81B8-46C9-8758-E98445BBD3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B271D-93CE-4ADA-AD28-8FA020D346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7751D-B83E-461F-8460-CC0EC1A348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5F6B6-ED39-4F87-A5CD-A8AE042D49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68549-4383-4A0E-9FBC-E25520F4B1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20B37-6604-4519-83B9-565B585D7B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02249-3295-4C59-AC39-86BF5B03D7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C24DD-916A-4ED4-BE95-F7A801B7C2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8221D-0AB8-42F1-A629-D3825960C7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28E22-0D78-4499-8225-AC65AAACF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CCAE-2070-43FB-9A09-E5CD29CD94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A07A2-45D2-45E1-84F4-58A93F584C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4E0BA-6041-47AF-9881-17E6570114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02C3D-3834-4028-A6CD-BDEB4D5631D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D1AEB-9D73-49F1-8C0F-A001F60ECD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A333D-9252-41D6-9D14-980139CCEE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57746-69E5-4AD1-ACB6-AA9CD7F13B2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D4E05-0E46-4ED2-A720-B32055BA41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208AA-875C-41E4-A072-453C59150C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8B978-72AB-40C8-B2BF-C2668D279F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3573C-FC85-4225-ABE0-22100F143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E848-2C6F-462D-8779-FAD0B6972E0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7B4E1-B143-44AB-B631-4498EA50A6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F0ADD-B86C-4581-97E8-A65A2C60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39BBF-FB81-4A03-8D66-5EDCF01E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7A367-08EE-4CC9-9246-51B49A99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DEF57-6738-4FD6-9F5A-E6C5B2E4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68405-DB04-480E-80C7-D5576BBE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922F2-A321-4864-854E-1878075B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ECF0D-6E33-4114-9986-718183B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483AF-53C6-4D02-8099-CEA27C57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F3D12-1097-44B8-88DE-E606611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EA3C-6653-4C1A-A2F3-04CAC1FEF7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A5160-744E-47F6-9A80-0AD20088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F9591-AD65-44F6-B6B7-E67D22A6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E0DE8-ABBA-47C4-AA52-8CB4DD4F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8CC5-53DD-4C8E-85CE-80663262DCF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4F7D-87F5-4F98-8B13-4A114D1E31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4CC5-6F77-44AE-8346-D25EBF57262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5A6E-F5CA-49DC-BA8C-55FC69E71F7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BEC3-7241-49E5-845B-9BD8498909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7CF4-15D6-41E3-93BC-6C168A68BE6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2A40-2892-41E0-ABCD-3261CAB4AF0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37B-E988-4881-85D3-BA8B3E7F036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8C4F-3EDF-445F-A1BE-6EDEAFFDA4B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B3C4-647B-4C2B-A127-25B70075B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recensies.infonu.nl/financieel/123155-naar-een-financieel-onbezorgd-leven-annemarie-van-gaal.html&amp;rct=j&amp;frm=1&amp;q=&amp;esrc=s&amp;sa=U&amp;ei=oH8AVeyRMoT0PNrngfAI&amp;ved=0CCIQ9QEwBg&amp;usg=AFQjCNHrSmvCimMmhPhiyIqlVo49rHnxkQ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56000" y="1341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10 Hdst 6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7774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258920" y="1844640"/>
            <a:ext cx="67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taat = het kasboek = contante ontvangsten en uitgaven van een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veel bedrijven alleen kasgeld aanwezig voor kleine 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tailhandel en horeca wel veel contante opbre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643280" y="4307040"/>
            <a:ext cx="37357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584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02920" y="16282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unctie kasboek/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 aanwezige kasg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inanciële feiten boeken op tegenrekening in het grootbo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5073480" y="4365720"/>
            <a:ext cx="3527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3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r>
              <a:rPr b="1" lang="nl-NL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kasstaat nr.: 3                                        Periode maart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547640" y="2060640"/>
          <a:ext cx="6840720" cy="3360600"/>
        </p:xfrm>
        <a:graphic>
          <a:graphicData uri="http://schemas.openxmlformats.org/drawingml/2006/table">
            <a:tbl>
              <a:tblPr/>
              <a:tblGrid>
                <a:gridCol w="538200"/>
                <a:gridCol w="700200"/>
                <a:gridCol w="2901960"/>
                <a:gridCol w="849240"/>
                <a:gridCol w="809640"/>
                <a:gridCol w="1041480"/>
              </a:tblGrid>
              <a:tr h="4316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6732720" y="5600880"/>
            <a:ext cx="2220840" cy="9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692360" y="1773360"/>
          <a:ext cx="6153120" cy="3606840"/>
        </p:xfrm>
        <a:graphic>
          <a:graphicData uri="http://schemas.openxmlformats.org/drawingml/2006/table">
            <a:tbl>
              <a:tblPr/>
              <a:tblGrid>
                <a:gridCol w="484200"/>
                <a:gridCol w="630000"/>
                <a:gridCol w="2610000"/>
                <a:gridCol w="765000"/>
                <a:gridCol w="727200"/>
                <a:gridCol w="936720"/>
              </a:tblGrid>
              <a:tr h="3045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 debiteur ontvangen (Vf 20150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é-op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 crediteur betaald (If 20150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st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ine getank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nte verk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1" name="Picture 1" descr=""/>
          <p:cNvPicPr/>
          <p:nvPr/>
        </p:nvPicPr>
        <p:blipFill>
          <a:blip r:embed="rId1"/>
          <a:stretch/>
        </p:blipFill>
        <p:spPr>
          <a:xfrm>
            <a:off x="7380360" y="5384880"/>
            <a:ext cx="13777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1280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n debiteur ontvangen (Vf 2015014)    €   6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vé-opname  €   5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30560" y="2841480"/>
          <a:ext cx="4465440" cy="669960"/>
        </p:xfrm>
        <a:graphic>
          <a:graphicData uri="http://schemas.openxmlformats.org/drawingml/2006/table">
            <a:tbl>
              <a:tblPr/>
              <a:tblGrid>
                <a:gridCol w="2449440"/>
                <a:gridCol w="1079280"/>
                <a:gridCol w="9367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euren (1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260440" y="4653000"/>
          <a:ext cx="4537080" cy="669960"/>
        </p:xfrm>
        <a:graphic>
          <a:graphicData uri="http://schemas.openxmlformats.org/drawingml/2006/table">
            <a:tbl>
              <a:tblPr/>
              <a:tblGrid>
                <a:gridCol w="2449800"/>
                <a:gridCol w="1008000"/>
                <a:gridCol w="10792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é  (0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71" descr="ANd9GcTomivo7dKSwyv8w0Z-g5VypPOW4VROsL_wtIXe-WW1GuNbKlmeHGty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97360"/>
            <a:ext cx="1604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0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1:51Z</dcterms:modified>
  <cp:revision>214</cp:revision>
  <dc:subject/>
  <dc:title>Gemeente</dc:title>
</cp:coreProperties>
</file>