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8CB54-91B4-428F-9B25-C780AEB8E2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05E27-D5D2-4199-9576-B45EC260217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0B98A-AB0E-45CB-B47D-90E038CBAF9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7C953-232C-4754-81AF-0C9DF47E3B9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26CF8-0C98-4957-87F6-4D97A7D63DF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E40F98-8AC7-4B83-A4A8-569139A4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431AD2-585A-4648-BEAB-075B4F0B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72A23A-BA3D-4F4D-8FAF-003880F9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457C1A-0EAA-4029-B47E-43438D36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B03F1E-A857-471C-89D3-B07763F1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CA4854-4B5F-4509-810D-481519B7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23C831-57B2-4877-A1AC-2F091758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C4766-3AD4-4B22-8BB5-A0B9EF0F270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F32A41-385D-4E4A-B675-1419630B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67190C-3447-42C8-A67B-65226FE1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883070-AC47-4C9E-94DF-08AE31CB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CADF9C-A4DC-434B-9D87-85A1E3041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5C9F95-347A-417C-B752-79F33CC4A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C067D-5113-46A4-B2AF-489D9DA3FB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64EA6-B35D-4D0D-88B7-84F838ACD0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B5269-8545-4282-9B34-4670991EC7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BCB2D-6EEF-4821-9EB8-FB0DB763DA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736D4-CA6E-4751-81C2-06A57F7A6F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99084-51D7-4721-8BC8-11C5C80454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8E772-BC92-4E3F-8793-71F814386E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5BEFC-75B5-4FAA-9CF6-BE6A80CAC6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2AFF7-35BA-4AC6-A594-59148652A5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6534D-D139-4B59-B4D2-45C156178D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1A5DE-E021-4478-8F4C-2D045A07FD3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D359-FC84-40F5-8080-C369085FDFC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7D8B-C5A8-4435-8046-DCEE20A9CD4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9FE7-4E27-4C0A-9113-14B40F41A8C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BF7A-062A-4C25-85A3-5A4FC3A105A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E626-9ED7-40C3-B9C9-AD2AC80631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7141B-7AE5-45B3-8A60-1CB19C018C6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4FA5-7087-4FB0-A087-1F59069DAB4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0258-AE75-4A7A-841C-AFF4096C0C2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F5AD-BE43-41A4-9BF0-3E2C2030EF4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B272-46D8-46C1-A992-75DAFC2B22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9F55-7574-47B3-992A-838FBF7AA7F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44E7-EBFE-4654-8F8D-58565823B0E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C43E-2F5A-4D00-A5D4-77615C944F6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57E6D-30C4-4D5A-A4CE-81DAC98337E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CE731-28BF-40BA-B5E2-3C53649310C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61A4E-9BDC-4226-900A-948913E80E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E8654-5FCE-4E14-91EC-40F9E6CB983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32AE9-48FC-4E46-A49D-DFD47398345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15A1A-862E-40EB-B585-212B971ED7C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738EE-60AD-4C99-B60B-A795F31AAD2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522BE-A1B5-4B51-BF66-F346212EC6C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87305-1AFE-4EE6-908A-2E3CD254B45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0C987-1A7F-4E43-BDD9-33FFE819997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2A144B-44AB-48C0-9496-7E8137D94B7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35906-548E-4B0A-9DE1-11A2D2B9AB2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CE152-95E4-40FB-9537-0BF87887AC0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65CF7-86DB-45C5-960F-0501BC657E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D3AEC-2FE3-49AD-829E-922FA681238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48591-3EEC-4807-80CC-22EFF48A738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44EFE-8961-4FD5-B743-64B4B93BC03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EDE8B-7054-41A2-8988-59118AADA6A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E6A10-CC1A-48E8-8B97-D376CD1AD58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C7EA3-ABC7-4185-B68A-9867FD366EA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72A4D-BCAD-42BB-8ADF-D287F605626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46FF9-50A6-46E7-86C6-D37ADA7D34F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B6928-2234-405A-AE3C-78D42B7C686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7EC4E-DBC5-4CC8-95F4-03BBA97C106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B6DDE-666F-452A-8DE5-BE0A24B459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9B14A-7881-4A0A-AA9B-0236F7281F2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5E056-C8D4-463F-BAA0-54AAE387E56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BD6998-CB9F-40DB-969D-764BF5794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F9B00E-0BB9-4D0A-ABDC-4D6A7A6B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8F69C6-5634-4DE6-921B-F0E8F08C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284139-EF76-4E91-9B47-5F2D2811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15DD53-1645-403D-9F43-C3D832AD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7C2D31-9C5D-4273-8249-62CBD2A8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5BA2B2-36A0-446A-9058-3CFF6257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B76085-6220-4336-AEC9-BE6C485A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6ED797-8526-4094-9C6E-A209FF53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DA656-CFD7-4A0B-8998-6C2736054B7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E83FEA-FF6F-4BE2-8055-5939B6BE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10B1A7-6CDD-48EA-B1D5-677D1B897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980E27-0F17-409A-9AB4-442E3E805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56FFD-AEE1-4A57-911B-116B0762BC0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ED57E-F7C1-4084-99C8-A3B2C6EF184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B8A2-9BCD-4F94-82CB-A488E3B56BA1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2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3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A909-7E69-4A79-9AFC-E70459843A13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6427-06B5-4F7A-BA2E-29D3A17A40E3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9AB1-9678-49A9-B112-7F694581ED6B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28FB-C88C-4083-98AA-08986C706E27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2B6F-6433-40DC-A3C1-05BB78A11733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00D5-A94B-401F-BB07-DEAD19E9F8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9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1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195640" y="1267920"/>
            <a:ext cx="41860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drijfs-administratie</a:t>
            </a:r>
            <a:br>
              <a:rPr sz="2400"/>
            </a:br>
            <a:br>
              <a:rPr sz="24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es 9 Hdst 5.1 – 5.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38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5.1: Sub-administratie crediteure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9"/>
          <p:cNvSpPr/>
          <p:nvPr/>
        </p:nvSpPr>
        <p:spPr>
          <a:xfrm>
            <a:off x="1089000" y="1773360"/>
            <a:ext cx="676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rootrekening ‘crediteuren’ = totale schuld aan crediteu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ubadministratie crediteuren = grootte van de schuld van elke afzonderlijke credi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lle crediteuren hebben in de subadministratie een saldo-kolom; deze wordt na elke boeking bijgewe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6875640" y="4025880"/>
            <a:ext cx="17348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5.2: Sub-administratie debiteure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1402920" y="177336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ub-administratie debiteuren = totaal openstaande facturen per klant die nog moet betal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Picture 4" descr=""/>
          <p:cNvPicPr/>
          <p:nvPr/>
        </p:nvPicPr>
        <p:blipFill>
          <a:blip r:embed="rId1"/>
          <a:stretch/>
        </p:blipFill>
        <p:spPr>
          <a:xfrm>
            <a:off x="5435640" y="3916440"/>
            <a:ext cx="2857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123640" y="367920"/>
            <a:ext cx="77742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5.2: Sub-administratie debiteure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1476000" y="155736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p de grootboekrekening voorraden is alleen het totaalbedrag van de voorraad zichtba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de subadministratie wordt per artikel een voorraadkaart bijgehoude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ordeel = per artikel zicht op de voorra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Picture 2" descr=""/>
          <p:cNvPicPr/>
          <p:nvPr/>
        </p:nvPicPr>
        <p:blipFill>
          <a:blip r:embed="rId1"/>
          <a:stretch/>
        </p:blipFill>
        <p:spPr>
          <a:xfrm>
            <a:off x="4397400" y="4437000"/>
            <a:ext cx="395604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uiswerk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iswerk les 9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aken de opdrachten van Hdst. 5 paragraaf 1+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an het boek: Administratie voor het MK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it wordt nabesproken in de volgende 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uc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AutoShape 2"/>
          <p:cNvSpPr/>
          <p:nvPr/>
        </p:nvSpPr>
        <p:spPr>
          <a:xfrm>
            <a:off x="117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3" descr=""/>
          <p:cNvPicPr/>
          <p:nvPr/>
        </p:nvPicPr>
        <p:blipFill>
          <a:blip r:embed="rId1"/>
          <a:stretch/>
        </p:blipFill>
        <p:spPr>
          <a:xfrm>
            <a:off x="6084720" y="4724280"/>
            <a:ext cx="258156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10:15:35Z</dcterms:created>
  <dc:creator>Amber Ancion</dc:creator>
  <dc:description/>
  <dc:language>en-US</dc:language>
  <cp:lastModifiedBy>Jo van den Broek</cp:lastModifiedBy>
  <dcterms:modified xsi:type="dcterms:W3CDTF">2015-09-07T11:26:23Z</dcterms:modified>
  <cp:revision>205</cp:revision>
  <dc:subject/>
  <dc:title>Gemeente</dc:title>
</cp:coreProperties>
</file>