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5B32B-6778-45A8-9DF8-5F223B787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07E0-777D-4962-A807-9B3D16CD54F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FEC1-D49B-44DD-B8D9-540AA8E6307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593F-EE3F-4DE1-ACE0-DB865BB4CA2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41258-7109-47DB-960D-146D635D2E9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AF0E11-D705-471A-9261-967840E7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727481-AC6A-4D1D-8DAC-76B6E850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3A363A-595A-4128-8629-599C6D08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55AA78-3FC9-44A2-836C-8D1A114C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D83903-B76E-4052-A2EC-DFE98655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01358E-BAF5-488E-9FBD-F484A363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E2FEF9-D18B-4004-AE3B-C0DB51F9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7D94A-46C3-45F9-B2F1-30AB99222E5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01E81E-5274-4BE1-98B1-4A36F797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4ED72E-3E0F-4837-83D2-7C56D981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BD0D6E-A34A-439C-A13B-FC331A0F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A091A3-5F82-4E01-ABEE-37D1D356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E6E395-725F-42C0-BF37-DBED87E7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DBAB2C-2FB1-437B-8919-1E91BE6B105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3E188F-D941-46C3-BC2D-410D7B11642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2C75A3-1089-4E39-9352-2BA228B54E9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B93CC8-8D78-4925-8CC4-D77718CAB2E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C4B0AA-AE52-4557-8CD6-60AE97222B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0F686-FD8E-4C2C-828D-EC07671CFC8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050F26-E29C-4470-964F-BEFDD9AA677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5CBC4D-232A-462C-96F6-94EA925F9D6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8B212B-2846-477A-878F-4B2BA58D51A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853FF7-00E0-4A55-8796-39E42F26069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78B448-5D78-4563-A5E6-DF579947BE7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F1EA9A-DF6A-4A1F-A2A9-25AED277C8C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AD132D-54AB-4B0A-B47A-2526886579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A27C7-20A2-45EE-9BB4-BA5B89812F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6A975-86E0-4520-A8D2-12B2C2849B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053A0-1BF2-4D85-8906-30C43EEB17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538CA-B93F-4222-87DD-25528AB345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F9A7-BE0B-44B7-A823-6FB2F4EE7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DCB31-B3BC-48C8-A642-7DF521A084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EEDD9-176E-4063-81B3-994CA414F2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5FD40-5AAC-45ED-83F3-3FDE744F61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3D67B-ED1F-49EB-9103-7BF6B8CADC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0B315-B285-45B2-BB91-BCA0B3BDFB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CDF-3533-4B2B-B210-5B274CA3A8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5191-A2C3-48DE-9330-90ECCF7CAF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4D0-6A3F-4185-8299-DD3507A4DA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8153-2907-446A-8A0F-1EBA9E77A4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AF55-740B-413C-9D4C-BF490CD291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E2EC-0C17-44BB-91B2-00EF182279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C22-8247-4499-B722-F3B7E29CCE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75F-F667-40FE-A9D1-0FEC4B8D66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FD88-9A44-42F4-A855-68CA18930C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D2DB-2A48-489C-8288-1F93DA8DB0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137E-232B-4D0A-B174-6401EEA55E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EFDA-297C-4C6B-9911-D97238E68A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FAB-0F79-4486-B4A0-1B6F179FCE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2A527-3148-45B8-8224-4DFD3CC466B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9D9B4-7616-44EA-A313-0467FC3C87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D8EC3-9AE8-4CC9-A147-F4B518BF6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0009-EE44-430D-881C-77E5157719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C6DCE-221E-4FE3-B7B4-6080D0977D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2B092-E824-4D08-A225-AFF5E74810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4A043-4653-480F-BEF7-BCD8FFEADD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F399C-6F7A-4061-A36A-24220AB818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BF3C3-F87D-45D7-B869-910FA12971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B314D-E92B-468C-BEEC-0F2518AB72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C3F77-0501-42F1-8501-85AB68AB4F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47C49-A5DD-4F6C-BCB2-DC31277DD17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8BA1B-60D2-41ED-B97F-B70D4440CDE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FCFC6-B6CD-450A-9A7B-ED6E7CE89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9B1E-41DA-4C77-9C31-BAEDFE8022A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B0DB8-3C1B-44C1-99B7-A41695972B3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C8212-835C-4AEE-B6DE-0365E25937D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1AD52-AC49-40BF-BA07-0A3D92A9143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5B145-0ADC-42B2-84FD-B582930742B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BBB6C-0646-4BB4-B2B1-06EF6FEB083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8364B-6A3C-412F-B1D7-2CEC3FB721B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DBD2B-EBDB-47F0-81CA-EA8AB971EEB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1F7F1-AD4A-481F-A584-70DEA9221C2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471B7-67D4-4C1F-88E7-AC341D774C7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1E2E7-9D5C-4F8C-B874-0636FFDDA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E2B7-4297-4A1E-9925-1F6C28E8854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725D9-9D16-46BB-A8B6-3671739138F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AB534-FF05-4426-A2B4-3816E4EC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67D1D-3611-4974-93E9-8207D849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85144-CA88-48AE-8156-E7E3D3C6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7A634-6B6F-4AD9-B667-8C91B9B6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3833F-0397-48FD-A8D3-F77925B5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88D9A-97F1-4025-9824-F4899A88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3DF74-83A6-483A-8837-89F2B570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173F5C-0DE7-4835-99F9-FA3875BD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99181-AF7D-4732-AF4A-74D48C85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AADA-3586-4070-89AA-CE4B8BD412A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7DDD1-80E4-459C-A550-D38B522A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11403-8A56-463F-95D0-514DF1CF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AE6F7-A886-401F-9A41-54DA7976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43A5-6857-434F-8117-8531D42D93C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22C1-0B51-4882-B889-C882B2B106A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6245-54CD-4972-A4F4-55F00635E4CD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A946-0275-49A4-B8FD-60FE82DE1AEB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6A39-0F61-4BBA-9855-1CD907B3C5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C3C4-BF9E-48B2-B1F3-2AF0AC619186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6B22-9934-4351-A779-7B0456892D7D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DA38-2989-42AA-AE44-8D1C35269232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1278-8B6B-443C-B32D-8AACBFC93F72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1002-6C24-49A2-9B1E-43AE249F55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url=http://payned.nl/nieuws/loonbeslag-wat-nu/&amp;rct=j&amp;frm=1&amp;q=&amp;esrc=s&amp;sa=U&amp;ei=9qSEVJqtNsW_PITvgYgP&amp;ved=0CCYQ9QEwCA&amp;usg=AFQjCNHvqkYd78LKxoBiyQRkfQOjCfYwNw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9564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8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6 H4.1 – 4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46280" y="404640"/>
            <a:ext cx="77738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nnismaking met de BV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1619280" y="2060640"/>
            <a:ext cx="67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rubr. 0 géén Eigen Vermogen en Pri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l de rekeningen: Aandelenvermogen, Winstreserve en Rekening-courant 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rubr. 2: Geld onderweg of kruisposten en Voorlopige boek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6012000" y="4254480"/>
            <a:ext cx="26762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boeken van BTW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1)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15640" y="1390680"/>
            <a:ext cx="71629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ntvangen BTW van afnemers/klanten = </a:t>
            </a:r>
            <a:r>
              <a:rPr b="1" i="1" lang="nl-NL" sz="2000" spc="-1" strike="noStrike">
                <a:solidFill>
                  <a:srgbClr val="000000"/>
                </a:solidFill>
                <a:latin typeface="Calibri"/>
              </a:rPr>
              <a:t>te betalen BTW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aan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de fiscus (= rek. van schuld), dus credit boe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taalde BTW aan leveranciers = </a:t>
            </a:r>
            <a:r>
              <a:rPr b="1" i="1" lang="nl-NL" sz="2000" spc="-1" strike="noStrike">
                <a:solidFill>
                  <a:srgbClr val="000000"/>
                </a:solidFill>
                <a:latin typeface="Calibri"/>
              </a:rPr>
              <a:t>te vorderen BTW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van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de fiscus (= rek. van bezit), dus debet boe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BTW-tariev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Algemeen tarief = 2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Verlaagd tarief = 6% (levensmiddelen, boeken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Vrijgesteld tarief = geen btw plicht (onderwijs, gezondheidszorg, verzekering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6300720" y="4419720"/>
            <a:ext cx="1727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360" y="70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TW in de inkoopfac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764388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TW op de inkoopfactuur wordt betaald aan de leverancier, maar is terug te vorderen van de fiscus (= belastingdien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factuur (= I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mschrijving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                  debet         cred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908000" y="4460760"/>
          <a:ext cx="6323040" cy="1533600"/>
        </p:xfrm>
        <a:graphic>
          <a:graphicData uri="http://schemas.openxmlformats.org/drawingml/2006/table">
            <a:tbl>
              <a:tblPr/>
              <a:tblGrid>
                <a:gridCol w="4127760"/>
                <a:gridCol w="1130040"/>
                <a:gridCol w="106524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raad goederen, …kosten, inventaris, machines, … (= ex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 vorderen BTW (6 of 2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euren (= in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280" y="53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TW in de inkoopcreditfac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187280" y="1197000"/>
            <a:ext cx="7499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TW op de inkoopcreditfactuur vermindert de vordering van de fiscus (= belastingdien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factuur (= If)  </a:t>
            </a:r>
            <a:r>
              <a:rPr b="1" i="1" lang="nl-NL" sz="2000" spc="-1" strike="noStrike">
                <a:solidFill>
                  <a:srgbClr val="ff0000"/>
                </a:solidFill>
                <a:latin typeface="Arial"/>
                <a:ea typeface="Arial"/>
              </a:rPr>
              <a:t>Inkoopcreditfactuur (=I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mschrijving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debet        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739880" y="3638520"/>
          <a:ext cx="6394320" cy="1533600"/>
        </p:xfrm>
        <a:graphic>
          <a:graphicData uri="http://schemas.openxmlformats.org/drawingml/2006/table">
            <a:tbl>
              <a:tblPr/>
              <a:tblGrid>
                <a:gridCol w="4148280"/>
                <a:gridCol w="1157040"/>
                <a:gridCol w="108900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raad goederen, …kosten, inventaris, machines, … (= ex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 vorderen BTW (6 of 2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euren (= in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5640" y="201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ld onderweg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f kruisposten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7643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ij geld-opname of storting op de bankrekening is het bedrag niet meteen af- of bij-geschreven op de bankrekenin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mdat het bericht van de bank (soms zelfs enkele dagen) later komt, het bedrag tijdelijk boeken op de rekening: Geld onderweg (= tussenrekening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Bijv. geldopname van € 200 van de bankreken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mschrijving                             debet      cred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2340000" y="4808520"/>
          <a:ext cx="5184720" cy="878040"/>
        </p:xfrm>
        <a:graphic>
          <a:graphicData uri="http://schemas.openxmlformats.org/drawingml/2006/table">
            <a:tbl>
              <a:tblPr/>
              <a:tblGrid>
                <a:gridCol w="3384360"/>
                <a:gridCol w="927360"/>
                <a:gridCol w="873000"/>
              </a:tblGrid>
              <a:tr h="434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ld onderw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5" name="Picture 25" descr="ANd9GcQTA42zAhOzJn_iYAO60Lo0uSwAnZC2t8tY0cSoIuQI9zXtNhj3Iptb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5241960"/>
            <a:ext cx="132552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645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ld onderweg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f kruisposten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801720" y="1341360"/>
            <a:ext cx="72705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ls het bankafschrift later ontvangen wordt, het bedrag op de rekening: Geld onderweg (= tussenrekening) tegenboeken zodat de rekening: Geld onderweg weer glad loop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2529000" y="4417920"/>
          <a:ext cx="4682880" cy="1036800"/>
        </p:xfrm>
        <a:graphic>
          <a:graphicData uri="http://schemas.openxmlformats.org/drawingml/2006/table">
            <a:tbl>
              <a:tblPr/>
              <a:tblGrid>
                <a:gridCol w="3057480"/>
                <a:gridCol w="836640"/>
                <a:gridCol w="78876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ld onderw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Rectangle 3"/>
          <p:cNvSpPr/>
          <p:nvPr/>
        </p:nvSpPr>
        <p:spPr>
          <a:xfrm>
            <a:off x="801720" y="1617840"/>
            <a:ext cx="72705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nl-N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j ontvangst bankafschrift van de bankreke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mschrijving                     debet 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6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4 paragraaf 1 en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14:11Z</dcterms:modified>
  <cp:revision>190</cp:revision>
  <dc:subject/>
  <dc:title>Gemeente</dc:title>
</cp:coreProperties>
</file>