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ED15-B7C5-4854-8D98-3666EF28F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F9BF-7C48-4506-BBC8-3E47D38EC39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8C64-5FB3-41FB-8CDE-BB87B1540A9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C4A9-6B71-4892-9B8A-B253CF4247F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3811-2A08-4E2B-8E90-9E95B017F83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BB5C28-F697-4D5F-ADC0-815D3726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B7DC38-7A85-4AE9-BCE7-95CD738C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52BC3B-3642-4AB3-8939-67E6F520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E486A6-F812-42AA-9DA8-1F602513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3D3413-1308-4658-A8F7-809975C1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22FCEF-D126-462A-A333-4D6AA457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3BC8FF-F160-48D5-A9D9-27703387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EE28-A18F-4162-BD8E-E7BDE63EFF6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9A7CDD-8496-4A74-B115-F7290E75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94DFB8-7100-4E96-8594-3E8490FA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A97BBB-D648-410F-A08B-D1E1906D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1A6C42-7B26-4EFF-B51E-D8D2C689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BD3F0E-249B-44C2-9C09-66E8373E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4BD6B-D7C3-4F60-B068-A41CEB86765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5D2BAB-6AB2-4234-9187-B73D99F9A37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164430-2D82-486B-AD7D-FD847049075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FF8BF-6FF7-43D6-AD7F-8CA43E241D5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656EA-B6FA-49C7-BFC7-586B8DE249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F8AFC-A22D-4ACA-B758-84DAD6DBC36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6C49FF-F57B-47CC-ACCC-5DE8C69651C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9AF4B4-7DA1-49AF-BBAA-7ECC8C08B9E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154BDB-E88B-4CEE-99DA-DD3DB32659D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E2608-6F32-4B3B-B219-D9DF966C60C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ABC42A-4C3B-4E93-B8CD-79DFD63032A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5ADA5-FE9C-4097-834A-078F570F35E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47118-46EE-45C3-BCC1-E8546539C6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65005-0B6D-4A58-8904-14890EA5EF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040FF-5F51-4A86-BC55-3508C196AA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E3A6C-128D-4DC8-9E33-8BE9177037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F0773-D2C9-458E-B7BF-EC0C9C0C52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77D5-1DE1-48B6-AAA4-5BC2D7EFC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2E02-031A-4816-BC55-E3E3CAC372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7D40-581E-40E2-8591-86932034AD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87E6B-0730-4EAB-B59C-C229F8651C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BAB24-4713-45A3-82BA-9792842295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8366-A0F2-4965-9093-B2FD1369BC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2F0-A1D1-4A94-BE2A-DCCA3985C2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283-E45E-4B82-A93C-153362BAA4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8DC-B286-41B2-ADBD-2C6BFD8FAB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810-0E3B-4522-9A4B-B0661483B1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FC9-51A1-471C-BAAE-DC734A8FCE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E8D2-B91F-42B3-83A5-6F26DC5EB2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6C4-F8EB-4ADB-AE2E-4DC6A14DBE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585-6302-4141-BFEA-25C9EB7764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052-B943-4923-A41C-077A77EFCD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B17-8F5A-492B-AFA3-D0BA1E59CA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5C6B-1067-4F23-A872-BD736B6DA5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DC0-CDF0-4658-9914-082B26DD96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D07-B20F-4200-B0B3-A9A14D4D3E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43972-4D44-4D70-B9C0-B40245C7D4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CCF2A-213D-4CFF-BAB9-B123179599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94D57-6EB1-4AB8-881F-FB696E75D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8FE2-FCEB-4A76-B1C7-2C32F6A897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8F041-34FA-433C-ACBA-CFFD4C5688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82F88-9078-44C4-86D1-BF61A502BC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873AD-59A4-4D60-981E-C0126EC67C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BEE24-29C4-45D4-B4FC-CB88E479B5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151F3-395B-450D-9E34-4C9DAF6BCB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BF7CC-EE67-441A-99DF-F24AE62A3C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EA041-7574-4BCB-8980-F49D2E458B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041CA-06F1-45A6-B69E-70C18C8084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28DCA-18A0-423F-8835-B4DAFDF2857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9322F-C574-4A90-9161-15AD41461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0BFE-825B-4B80-A0FA-A25AB72FBC1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4396C-B1AD-4500-8747-A53294E52CF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66565-AFB9-4FC0-B490-75595A51708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631BE-F108-4E47-930C-28F3A97845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A2EFC-9A85-4F39-9B0F-22E79A6C664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1FF4C-68E4-41CD-A4BB-FF7D59457FD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EBF71-2119-4FCC-9B96-9C61768F0FA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B4C57-539D-4BF5-9B37-21DC1170100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7EFEA-05E2-44DE-A91F-EE1B2C9D265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F358F-D2A2-406E-860B-E30D4ADEA7D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C5A8B-E873-4195-88F9-9BDBCD651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2427-3599-45CD-AA27-6FFD980AECB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A8CB1-8C00-4931-A320-88B2D2C1386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F29E7-362F-4E22-BD8B-77CE209C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263B4-4EFF-477C-93FB-E6FA4B92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FC68B-4B4E-4120-8C34-92B7AEAE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51CB4-B720-4CA8-A68D-64D9AD60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5C4DE-F78A-48C2-9AFD-2F297F2A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67BB1-C7DA-436C-BD6E-EEBBDB66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BAB04-D6EE-4F15-B149-55007EB7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C5E3E-9AFE-4CCC-94EA-D6EAA905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F9DB4-C799-439C-9A55-CDCF9E42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7353-3BE7-4742-B596-7380B934382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6090A-9D43-476C-BE92-292E28ED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93044-FD6B-489F-A252-2082F30C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84164-66AF-4B3A-9D63-A83C8FDB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0749-E148-43D9-9ED4-F8C195F5BDE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00E2-279E-4FEE-94CC-E830D6401BA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FDAE-FB82-49B5-8EFB-5059EDA83F9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4959-865C-4D2A-A7B7-255CD4951EE7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1483-4F63-4E14-A3AA-0A24F4095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6E6B-F5B4-4A5E-9640-0006F6CB0030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3A39-DFA8-42BC-A4FD-1336880EEB7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F125-27D9-491B-80AB-D99D045F84D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CB89-F46A-423F-9FC3-599DB1143B8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C8DA-BBBF-404F-BF87-F5B9EFD8CA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payned.nl/nieuws/loonbeslag-wat-nu/&amp;rct=j&amp;frm=1&amp;q=&amp;esrc=s&amp;sa=U&amp;ei=9qSEVJqtNsW_PITvgYgP&amp;ved=0CCYQ9QEwCA&amp;usg=AFQjCNHvqkYd78LKxoBiyQRkfQOjCfYwNw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95640" y="112500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800"/>
            </a:b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es 7 Hdst 4.3 – 4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otboekrekeningen van een B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473120" y="2060640"/>
            <a:ext cx="676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elands Bandencentrum BV: Alle aandelen van de directeur (= directeur en eigenaar van de 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rekeningen: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elenvermogen 060, Winstreserve 061 en te betalen vennootschapsbelasting 1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1 op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 courant directeur 18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rivé-opnamen en –stor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ersoneelskosten 4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ok salaris van de 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Afbeelding 1" descr=""/>
          <p:cNvPicPr/>
          <p:nvPr/>
        </p:nvPicPr>
        <p:blipFill>
          <a:blip r:embed="rId1"/>
          <a:stretch/>
        </p:blipFill>
        <p:spPr>
          <a:xfrm>
            <a:off x="6948360" y="4641840"/>
            <a:ext cx="1854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107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kopen en vaste verrekenprij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schatte inkoopprijzen wat  men denkt te moeten betalen = vaste verrekenprijs (vv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raadrekeningen bijwerken tegen vvp’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schil tussen werkelijke inkoopprijs en vvp op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rijsverschillen 7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dien werkelijke inkoopprijs hoger = debet op rekening prijsverschil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debet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714680" y="4940280"/>
          <a:ext cx="6467400" cy="1881360"/>
        </p:xfrm>
        <a:graphic>
          <a:graphicData uri="http://schemas.openxmlformats.org/drawingml/2006/table">
            <a:tbl>
              <a:tblPr/>
              <a:tblGrid>
                <a:gridCol w="4221000"/>
                <a:gridCol w="1157400"/>
                <a:gridCol w="108900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 (=vvp-waar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jsverschil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Afbeelding 1" descr=""/>
          <p:cNvPicPr/>
          <p:nvPr/>
        </p:nvPicPr>
        <p:blipFill>
          <a:blip r:embed="rId1"/>
          <a:stretch/>
        </p:blipFill>
        <p:spPr>
          <a:xfrm>
            <a:off x="7777080" y="277344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kopen en vaste verrekenprijz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8360" y="1844640"/>
            <a:ext cx="77738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koopfactuur is identiek aan voorgaan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zendbon: De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prijs verkopen 8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n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raad goederen 7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gen vvp-waarde cod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Afbeelding 2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009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Jaarwer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71040" y="162864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aldo van de rekening prijsverschillen overboeken naar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prijs verkopen 8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jv. debetsaldo van € 200 op de rekening prijsverschill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                                    debet 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547640" y="4608360"/>
          <a:ext cx="6323040" cy="878040"/>
        </p:xfrm>
        <a:graphic>
          <a:graphicData uri="http://schemas.openxmlformats.org/drawingml/2006/table">
            <a:tbl>
              <a:tblPr/>
              <a:tblGrid>
                <a:gridCol w="4127760"/>
                <a:gridCol w="1130040"/>
                <a:gridCol w="10652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oopprijs verkop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jsverschil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3" name="Picture 25" descr="ANd9GcQTA42zAhOzJn_iYAO60Lo0uSwAnZC2t8tY0cSoIuQI9zXtNhj3Iptb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53240" y="5592600"/>
            <a:ext cx="13255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47640" y="321840"/>
            <a:ext cx="6645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Jaarwerk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42560" y="1484280"/>
            <a:ext cx="72709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kening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171 Nog te betalen bedragen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edi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noter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= schuld van het huidige jaar!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kening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170 Vooruit betaalde bedragen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b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noter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= bezitting van het huidige jaar!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951200" y="4035600"/>
          <a:ext cx="6149880" cy="877680"/>
        </p:xfrm>
        <a:graphic>
          <a:graphicData uri="http://schemas.openxmlformats.org/drawingml/2006/table">
            <a:tbl>
              <a:tblPr/>
              <a:tblGrid>
                <a:gridCol w="4014720"/>
                <a:gridCol w="1098360"/>
                <a:gridCol w="103680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ekos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g te betalen bedra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1990800" y="5743440"/>
          <a:ext cx="6110280" cy="878040"/>
        </p:xfrm>
        <a:graphic>
          <a:graphicData uri="http://schemas.openxmlformats.org/drawingml/2006/table">
            <a:tbl>
              <a:tblPr/>
              <a:tblGrid>
                <a:gridCol w="3987720"/>
                <a:gridCol w="1092240"/>
                <a:gridCol w="103032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uitbetaalde bedra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8" name="Rectangle 3"/>
          <p:cNvSpPr/>
          <p:nvPr/>
        </p:nvSpPr>
        <p:spPr>
          <a:xfrm>
            <a:off x="539640" y="1484280"/>
            <a:ext cx="7413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ijv.  te betalen rente-kosten €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omschrijving                                debet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ijv. vooruitbetaalde premie verzekeringen € 6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omschrijving                                 debet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Afbeelding 1" descr=""/>
          <p:cNvPicPr/>
          <p:nvPr/>
        </p:nvPicPr>
        <p:blipFill>
          <a:blip r:embed="rId1"/>
          <a:stretch/>
        </p:blipFill>
        <p:spPr>
          <a:xfrm>
            <a:off x="6372360" y="455760"/>
            <a:ext cx="23270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lommenbalans van een B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4 rekeningen specifie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elenverm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nstreser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-courant directeur (=privé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betalen vennootschapsbelasting (Vp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Afbeelding 3" descr=""/>
          <p:cNvPicPr/>
          <p:nvPr/>
        </p:nvPicPr>
        <p:blipFill>
          <a:blip r:embed="rId1"/>
          <a:stretch/>
        </p:blipFill>
        <p:spPr>
          <a:xfrm>
            <a:off x="594036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7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3 t/m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1:57Z</dcterms:modified>
  <cp:revision>198</cp:revision>
  <dc:subject/>
  <dc:title>Gemeente</dc:title>
</cp:coreProperties>
</file>