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217C-2FC7-46FC-814B-8B315CD7E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5776-3912-463A-9117-86E398BADFD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1D4C-520D-4FF6-A310-A0CAADBFE94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7CA2-9D1C-473C-B285-D540771B76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7255-9101-4AA0-B5E9-018058B4AAC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2E4C7-3A25-41F6-B347-E70AE0A8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86933-A809-47E5-AEB2-7CC355E3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45C2BA-A7C0-4006-B7DF-3487688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3FE709-00B2-4504-9FAB-FB56BF02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B6BFC-EB01-4EB9-8B3B-EC582056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060CA-A415-457F-80F5-A891F76D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E3F1C6-DC77-4C61-ACC9-D8521D3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980E-6089-40ED-AC2C-1CBDB335D6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4960B-1844-4447-ABCE-81DEDE4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A29C36-1A56-4673-AA72-F5BA4FD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008D3-3B7D-47FA-9CD0-1162BF2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2FDDE-886F-408F-8ABE-30DF0613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C5F0F-16F5-4674-A732-F06A2A17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760C-4419-468A-A9B2-BCD8996ED6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0EF5-7CFA-45C8-AFF3-9005442391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1101-2106-485D-A28D-D905B660B3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5EC7-6B90-4A99-B792-BA712223DC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9A74-D1ED-4601-8F97-A7B5BFA1D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3D5F-46C0-4B80-8C87-3F6F3838C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AEBC-CE9B-45C8-87E8-FB673027BE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4D4E-58A7-4DEE-8109-78CDED9D90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E5E5-7483-40AE-8C24-0A5C8D1D40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B305-32AC-49C1-BD04-A7C285CB88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BFAD-57F4-4482-AF8C-DC64EDA8C8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06E-4AA8-4A14-AB9A-84119DDD39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781-4247-469A-AE58-C7D88F9182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651-2FC4-4FE9-B2C0-2C79302538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F09-C868-4FD0-A756-6AA8141DE3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F7C-602E-4467-A7B1-A59C260E7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E126-F614-42F2-BFC0-E3C0EA11E5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B9F-BAEF-4556-83A5-2634210E70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DBF-C0D2-48A8-9E9D-BB803BC6A1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50F-876A-45BC-9F1A-0EEF265646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9C6-E9BA-4840-A0CE-6E774D6729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260-6FA1-4FF1-A378-F4DF93F045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D10-F110-4739-8DD7-B350043A3C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366-6CA6-4706-BC1A-F38E86D318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85167-8607-4AAD-91D2-27BC362A50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0AA12-822B-4FC3-9EBE-0676595D31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5960B-C4D9-4A7F-B3CA-23BDB6E8A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A1BB-C4C4-4EAF-BFCF-EC0F833904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72487-4070-4B4D-ADF8-33E27730A6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B417A-03CA-4D7F-9820-14254421B2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4C840-B5A4-4AA7-864E-4320AF8B6B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7BB26-01CB-4CA5-9AD2-10DF42F0D7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5DB9D-3013-4F7F-A5CD-D5BABBB3CE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B003B-CD14-4FAF-804F-722A337819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13C3-3334-4387-8749-801E703DD7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6CFFB-B8D7-4F03-9447-524A79A962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C89A-49B8-4112-8177-44BABA6247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544AD-AAB9-41BA-9362-62C4F8BB9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F559-D121-49CD-BAAF-920A452373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601B4-DED3-4BC9-9576-FB038970E76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D8698-1323-4478-A5D7-072A612CA3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A49AD-69A0-4556-A16A-52EA943B22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C02C2-1694-47F0-B084-715F3E180A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C37C6-3284-4EC1-902B-8677590074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9BAFF-242A-48DB-8E27-4B31191EDC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123A9-AA9D-4A11-BC13-626FCB4673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E0B5B-B3DB-4DBE-82D5-166DA7BC88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83BDA-B6A2-4B4F-B856-B557653D64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AAEB-7162-4F33-B0AD-8A011CA0C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1E1A-319A-4577-9DF0-2FD52C1B15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445A8-D47E-4B57-9284-C4BA6748253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A2725-798A-441B-A3D2-978680E0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F0ECD-5F61-4C3D-B951-39C0FC0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8A8ED-663B-456F-8A92-49F4DEE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C9C1A-9465-498D-AA21-1A16F708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208F6-BE1C-4E53-8B3F-0B83D567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ED1B4-E593-4C66-BF78-AFCC6CFF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4596F-D4B9-4F5B-A708-6E42C98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34074-17A3-45D5-A9E5-4B9AC57A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3CEE1-77B1-4BB3-87B7-2D888A41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A83B-B53A-49D7-BE03-4B6100ACB9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96208-40F6-4A9A-8E78-CBEBF74B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76B1E-0F5A-448B-9DF4-857D758B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583C9-9D61-4AA3-816A-D9F6BFE3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5C24-8AB5-4442-8D2C-561986881C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290A-456C-4725-930C-B7C331DB0C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81DB-BB64-4130-98A6-5A5AAC893D2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F2BF-EC4F-46F1-A27C-9D632C86ABE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30FC-A7F9-4E41-8F34-E6DD9F7EDC4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6C7D-19DB-4035-AEA6-ABA19212A38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3578-4AF5-4D97-AED2-160741DAFEC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22B-4937-4107-8DC5-B8B93F9A4FE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30BF-4AF0-4F8A-A2D9-F43DD2182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8 Hdst 4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56808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haling met journaalpo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755640" y="2060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deren = journali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codering = een journaal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en die worden gecrediteerd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het woordje ‘aan’ voor het rekeningnummer 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176640" y="4221000"/>
            <a:ext cx="5587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8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3:59Z</dcterms:modified>
  <cp:revision>200</cp:revision>
  <dc:subject/>
  <dc:title>Gemeente</dc:title>
</cp:coreProperties>
</file>