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png" ContentType="image/png"/>
  <Override PartName="/ppt/media/image1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65E59-A006-45C1-B9E2-3C350C9FF3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3B4C7-FF8A-40F4-B5B6-1B7D6123305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0507C-EE57-406B-BF16-944FD438345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B5340-5367-4483-9484-2FC3FE3DEE4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DE64D-CF11-4477-A005-4A6B911431B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27EECA-E236-4850-9DEC-D24BA1E27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31B80D-DB4A-443B-91EA-2B128FA87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A6EABB-740C-4A9B-BDDF-B8413F8E5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2D845A-AB94-4910-9862-A1D01A6B4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84CD87-F5A6-4539-AA61-58FB44694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EDF4D1-2294-4EE8-A483-6B03496AD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42CC2E-92A9-496D-9C8E-C3514F5E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A25DE-57BD-4235-854E-0EF1AD5B356C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4B45DE-FA93-4FCC-BDE7-2275F797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44D736-E550-4F91-8568-8D6A38D4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55BA06-AEB4-46A0-9514-7BFCF7E3B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71A128D-BE3B-4E4E-BFAF-E2E68551F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751B44-DEF2-4034-9677-3B300049C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30667-86BB-4916-B9BC-48D6D000AD2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50DFD-07F8-4DDD-8ADD-3DA4241589C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03287-55E9-42BE-A363-6472BBAF9A2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4EC60-985A-4A54-A2F4-30737118AA3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DCF02-B793-47BA-A49F-DC04DA6B77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31832-B55A-48E5-B1C5-023AB0B80B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39660-C4A2-4ED5-A9D9-463920DF8B0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322FB-2227-496D-BE83-56D0BD57D75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87DDD-F0C3-4676-AEAF-3DC013D4199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BB0F9-EC39-4888-9042-353671DB87E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DD0B2-EFFB-49B8-BFF3-B2BBCE86620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73FC-92DE-4457-874A-A375A897DA2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490D-F1BD-4047-98FF-57068FF0D81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8017-8447-454A-8E82-71BDA85BF86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C690-E841-4009-BA4F-D51D19E5550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7B0C-F2DF-48E1-9467-BF4AD9236A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22AC0-52EB-4748-80A3-5359437717C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91E2-A925-4346-AA47-3D493093F70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0B84-4ED4-4821-8AC9-897CBF555D9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4582-2931-4DDE-85C7-18C4E4D2AC5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5461-045A-4EFC-BFAA-7A0B7C4984F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D5CE-5956-460E-89E3-4381DA13A99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3611-B94C-4362-AC01-8C017041578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D837-FAF4-4478-9ED2-04A08C3E2F6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CFCBDF-B102-4F50-A09C-546147328AB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161E47-D9F2-43A7-8EB4-C339FCB7DA9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DE7BB7-704F-4930-8A1E-586A4AC80D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16985-2B7D-41ED-A83E-716A7D67EE6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D4D56B-BADD-4811-95C9-C567FCB21DF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30933C-4758-4010-B136-3E4FF0FA700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F918F1-42BF-4841-ABB2-7C50E89BB31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B9166A-A6FA-41E5-A311-2BCB95AFDBA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E31BE1-DF40-4447-94BF-8611F2CD27B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3D5286-E48D-4FB5-841B-ED4F62F68FC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997D13-5D24-4F3F-8DD2-4D5BC0262A4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194BF3-34A2-48B4-8996-CC917A68230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C64731-7644-4494-8F17-BA91B6C5965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962F06-7DDE-45F6-889B-B2BDEE4FE8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5C9A1-ACF3-48EF-AED1-A5605CA5316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6C0EA6-ACB4-4254-813E-89F1F16EA8F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2D215F-CDAF-4A96-A37D-A5E3092EB2E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629CBC-EDCC-476B-9424-625B14AD029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F8F2F6-2471-48D8-80C4-62E462426F3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20EC75-23BE-4CAB-9D45-5B6FB9136C9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2CB270-4C23-48B7-BAFF-6B81BC88DD8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CBC662-96FF-447E-8CCD-610F33B31BD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D9E70C-4412-4F13-9D4B-E617B971DD0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6CD90F-9445-4E22-B513-FA4B412C42D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B84192-D112-4FF4-B76E-23D694AC24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2815A-2136-4C3D-90C3-2152F6C9BBC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0D0406-CCB7-46C3-9B45-F20576614C1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AED112-B191-4F94-B4A9-D52FB56E5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86E908-4067-4BE1-A66F-2D81D8C0B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B75271-6E7B-460C-901D-EDF2F5000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91D1FF-E739-4ACA-B963-CA2732BB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B60CBD-8D00-4406-A07A-CD445CA16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98C183-2976-41C8-ADDB-0754934AF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DB779C-419D-4020-B926-E43EACC6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B2B00E-2548-42BB-AE11-26E40DD8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8A2289-BD07-45A5-8A3F-0A7E5398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C50B0-4954-474E-B7D9-366D1765EB2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29A3BD-C4FA-4DA0-B33C-8A3518220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0F60E8-9A70-4B1F-9602-6D65F14E0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15D0DF-6A8D-4612-88C6-6A8AA6200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64928-5B2C-4D9B-8AFA-AF3A01B7795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0ECE0-7308-498C-B40E-C60B4E14F08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C9A70-9CFE-44CE-8036-4EBF65153560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2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3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FE44F-8A20-46B5-BBCE-EEC04F08C6A6}" type="slidenum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8C665-1C5F-487F-B41A-61BB0166551A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3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DD7A1-C2B3-47E9-88BB-7BEA294DDC50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4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EECED-4A86-4EDB-A9C5-647A5DD98BF8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5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0F168-DAB8-4D26-BEE8-4CBF9173983A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971E5-B4FF-4B53-860B-0A69D44FB0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9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0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1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700360" y="1267920"/>
            <a:ext cx="418608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edrijfs-administratie</a:t>
            </a:r>
            <a:br>
              <a:rPr sz="2400"/>
            </a:br>
            <a:br>
              <a:rPr sz="2400"/>
            </a:b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les 11 Hdst 6.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777384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dst 6.2: De kasstaat  bij bedrijven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(1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Rectangle 19"/>
          <p:cNvSpPr/>
          <p:nvPr/>
        </p:nvSpPr>
        <p:spPr>
          <a:xfrm>
            <a:off x="1692360" y="1925640"/>
            <a:ext cx="6769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tailhand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hore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winkelamba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wel veel contante ontvangs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an het eind van de dag/week een kascontrole-str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5" descr=""/>
          <p:cNvPicPr/>
          <p:nvPr/>
        </p:nvPicPr>
        <p:blipFill>
          <a:blip r:embed="rId1"/>
          <a:stretch/>
        </p:blipFill>
        <p:spPr>
          <a:xfrm>
            <a:off x="5292720" y="4479840"/>
            <a:ext cx="346068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dst 6.2: De kasstaat bij bedrijven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(2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1924200" y="1628280"/>
            <a:ext cx="663552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Voorbeeld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assa en kascontro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controlestrook kassa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€  2.649,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ntrolestrook betaalautomaat  -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€  1.023,50  -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bankstorting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€  1.625,5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5" name="Afbeelding 1" descr=""/>
          <p:cNvPicPr/>
          <p:nvPr/>
        </p:nvPicPr>
        <p:blipFill>
          <a:blip r:embed="rId1"/>
          <a:stretch/>
        </p:blipFill>
        <p:spPr>
          <a:xfrm>
            <a:off x="6130800" y="4437000"/>
            <a:ext cx="212436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717120" y="259920"/>
            <a:ext cx="7774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dst 6.2: De kasstaat bij bedrijven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(3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1547280" y="148428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Het boeken van de kasstaa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edere ochtend een vast bedrag aan wisselgeld in de kas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 de ontvangstenkolom: de omzet en te betalen btw van de contante verkop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 de uitgavenkolom: de contante betalingen en de bedragen die onderweg zijn naar de bank (= pin- en creditcard-betalinge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8" name="Picture 4" descr=""/>
          <p:cNvPicPr/>
          <p:nvPr/>
        </p:nvPicPr>
        <p:blipFill>
          <a:blip r:embed="rId1"/>
          <a:stretch/>
        </p:blipFill>
        <p:spPr>
          <a:xfrm>
            <a:off x="5940360" y="4653000"/>
            <a:ext cx="255132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2960" y="337680"/>
            <a:ext cx="77738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dst 6.2: De kasstaat bij bedrijven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(4)</a:t>
            </a:r>
            <a:br>
              <a:rPr sz="16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Het boeken van de bankbijschrijving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Nb.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 rekeningnr. 200 =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anwege ‘geld onderweg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1476360" y="1844640"/>
          <a:ext cx="6095880" cy="1484280"/>
        </p:xfrm>
        <a:graphic>
          <a:graphicData uri="http://schemas.openxmlformats.org/drawingml/2006/table">
            <a:tbl>
              <a:tblPr/>
              <a:tblGrid>
                <a:gridCol w="3311640"/>
                <a:gridCol w="1368360"/>
                <a:gridCol w="14158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nk  (1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€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orting kasgeld (2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€   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nbetalingen (2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€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ditcardbetalingen (2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€   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512" name="Picture 3" descr=""/>
          <p:cNvPicPr/>
          <p:nvPr/>
        </p:nvPicPr>
        <p:blipFill>
          <a:blip r:embed="rId1"/>
          <a:stretch/>
        </p:blipFill>
        <p:spPr>
          <a:xfrm>
            <a:off x="6227640" y="4797360"/>
            <a:ext cx="2178000" cy="14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Huiswerk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1476360" y="1125360"/>
            <a:ext cx="64785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uiswerk les 11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aken de opdrachten van Hdst. 6 paragraaf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an het boek: Administratie voor het MK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it wordt nabesproken in de volgende 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ucc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5" name="Picture 4" descr=""/>
          <p:cNvPicPr/>
          <p:nvPr/>
        </p:nvPicPr>
        <p:blipFill>
          <a:blip r:embed="rId1"/>
          <a:stretch/>
        </p:blipFill>
        <p:spPr>
          <a:xfrm>
            <a:off x="6227640" y="4797360"/>
            <a:ext cx="258444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0T10:15:35Z</dcterms:created>
  <dc:creator>Amber Ancion</dc:creator>
  <dc:description/>
  <dc:language>en-US</dc:language>
  <cp:lastModifiedBy>Jo van den Broek</cp:lastModifiedBy>
  <dcterms:modified xsi:type="dcterms:W3CDTF">2015-09-07T11:34:22Z</dcterms:modified>
  <cp:revision>228</cp:revision>
  <dc:subject/>
  <dc:title>Gemeente</dc:title>
</cp:coreProperties>
</file>