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9D2E-2F89-40A4-886C-620FBA84F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8CEB-22F9-475B-AAE2-146A2A7E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5A09-437D-43E7-8B00-D1CECB84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D606-D654-469F-9092-815B25EA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C05F-AFA6-4E83-9809-A3E82FB8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DFC3-AAD9-4D11-BEE0-A739F5A2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816A-01CF-4705-AE67-88D9B9D8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3C35-E16E-4A85-A186-417D971A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E91B-407E-48B3-ABE0-FF0231DA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7C2B-A83C-45DD-B1A5-235186FC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AAF2-1626-47C3-B11A-4055FF80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2A2D-EFF8-4BE1-9F00-61857F47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B2FC-E90B-46F0-B329-948F1087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E36B-D0A0-444F-85F2-CA2E1324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CC5D-5BFB-44FA-ABE8-5ADE2B57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4BFE-7DE0-4DD9-ADA3-6F72B12B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34DD-4E43-4533-9FDA-057F7902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5E71B-DEBA-4C8E-9D4B-2683AEB97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10BB0-1508-4F94-A46E-44C0D82D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F9831-AAA6-483C-BC3D-B047B9B9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88ED2-20A8-4967-8856-306887F9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E7159-FC99-4D17-B629-EEACE2D9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B027-6840-494E-8217-5CEA3FD5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47F21-0757-4220-96E6-F89EF98A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14C98-B906-4181-9274-5DD05D10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EA9E4-95F8-47D9-AF7E-D8384EE1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1DCB3-D36E-4AF7-A0DA-E3541211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A6EA0-7D48-40A6-B5F7-F4E0D2EC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D4098-26CB-4184-A5F7-D755A1E9F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DFD43-EA13-4B02-91B2-DF77F6BC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C04DA-46B6-4DCE-A06D-7AA57BAA8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678EA-F7EB-4341-808B-E5F51040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CFB23-BB91-4B08-AACA-F9C35D15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8B56-F5AE-4716-AB4B-2BC19A0C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0B0DE-EEDF-49FE-B10B-84E319CF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93468-9126-4D43-982B-98A11BA9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9A88D-D551-4580-A698-92822012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564FB-1F06-4382-B8AF-44895D7A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0B738-29B6-428C-B1EE-9BBD1575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1C64B-4E39-4B1B-8C3A-91CDF452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FE038-7255-4683-B301-612DBC75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A2862-2C72-4967-9971-1D7111999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459DE-3C2C-4613-9F59-2778D87CD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C00BB-50C0-4A41-B3D8-2978858C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089B-606C-4DE4-9DD2-A62DDFE8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E5283-B8DC-4AE5-84F5-86FD6571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1808B-5B77-48FC-9599-B2491B0D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60E82-9CDE-4D56-9BFF-159C7D3D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6F310-FE06-4279-9853-A2062C3F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AEEC5-0CF0-4BA3-93E5-2C6C11C5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D1783-548A-4CD8-B062-6BFB065C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7E1D2-8532-48E6-8A58-928E8F1C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31A33-5325-4A4E-841F-B3052821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1C165-2C47-444D-B1C4-864DE5CB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E2F42-C522-436C-BE6A-02A464C8D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9F00-6AF1-4DA7-A2E0-35AB739A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7A015-F57F-4F1F-B323-E4B64E42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A99F-4CD2-4C99-A5D4-3A90A897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0B52-F31A-49CF-B2D2-F8772897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8FEF-D2DA-4036-BA10-41E7A434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9323-E53D-4652-869A-8BEF4AF6DB22}" type="slidenum">
              <a:rPr b="0" lang="nl-NL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hthoek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Rechthoek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echte verbindingslijn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CC5A-BDD6-4545-9482-77304EAAD251}" type="slidenum">
              <a:rPr b="0" lang="nl-NL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462C-16C1-4429-9014-2C65696DD11A}" type="slidenum">
              <a:rPr b="0" lang="nl-NL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5B7C-EE1E-4307-8D3E-E3DF9FE4B543}" type="slidenum">
              <a:rPr b="0" lang="nl-NL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63C4-7F8A-4798-BC35-1E645D16C424}" type="slidenum">
              <a:rPr b="0" lang="nl-NL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despelendefilosoof.nl/wp-content/uploads/2010/11/waarnemen.png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http://despelendefilosoof.nl/wp-content/uploads/2010/11/waarnemen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92360" y="1413000"/>
            <a:ext cx="54673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82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rote wond = naar de dokt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Kleine wond = schoon spoelen, ontsmetten en pleister of verbandj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Brandwond = afspoelen onder LAUW stromend water en dan naar de dokter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2858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Maken opdr. 1 t/m 5 + 7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Leren bas. 1 en 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elke zintuigen kennen jullie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2" descr="http://www.channelup.nl/tasks/render/file/index.cfm?fileID=82B32A31-9ACB-4A5B-A801BBC876451569"/>
          <p:cNvPicPr/>
          <p:nvPr/>
        </p:nvPicPr>
        <p:blipFill>
          <a:blip r:embed="rId2"/>
          <a:stretch/>
        </p:blipFill>
        <p:spPr>
          <a:xfrm>
            <a:off x="1692360" y="2349360"/>
            <a:ext cx="552456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elke prikkels kennen jullie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Daar is je zintuig speciaal gevoelig voor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eus - geu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Oog – licht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uid – gevo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Oor – gelui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Mond – smaa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Lage drempelwaarde= als je iets snel kunt waarneme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oge drempelwaarde= als je iets niet snel kunt waarneme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oorbeeld hond heeft een lagere drempelwaarde voor geur dan mensen. Een hond kan beter ruiken dan mense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el 1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Reageren op prikkel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2" descr="http://uitwerkingen-deelvragen-pws.jouwweb.nl/upload/e/a/0/uitwerkingen-deelvragen-pws/pws-afbeelding.large.jpg"/>
          <p:cNvPicPr/>
          <p:nvPr/>
        </p:nvPicPr>
        <p:blipFill>
          <a:blip r:embed="rId2"/>
          <a:stretch/>
        </p:blipFill>
        <p:spPr>
          <a:xfrm>
            <a:off x="4500720" y="1916280"/>
            <a:ext cx="4356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ehoor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ezichts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Smaak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Reukzintui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armte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Koudezintuige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Tast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Druk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Pijnpunten zijn uiteinden van zenuwen. Liggen overal in je lichaam ook in de dieper gelegen organe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0" name="Picture 2" descr="http://intranet.grundel.nl/grassroots/biologie/Waarnemen/html/huid%20schematisch1.jpg"/>
          <p:cNvPicPr/>
          <p:nvPr/>
        </p:nvPicPr>
        <p:blipFill>
          <a:blip r:embed="rId1"/>
          <a:stretch/>
        </p:blipFill>
        <p:spPr>
          <a:xfrm>
            <a:off x="-63360" y="642960"/>
            <a:ext cx="91915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9:27:29Z</dcterms:created>
  <dc:creator>CSG Het Noordik</dc:creator>
  <dc:description/>
  <dc:language>en-US</dc:language>
  <cp:lastModifiedBy>Hanneke Borgman</cp:lastModifiedBy>
  <dcterms:modified xsi:type="dcterms:W3CDTF">2015-05-11T07:56:16Z</dcterms:modified>
  <cp:revision>8</cp:revision>
  <dc:subject/>
  <dc:title>Zintuigenstelsel</dc:title>
</cp:coreProperties>
</file>