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8.gif" ContentType="image/gif"/>
  <Override PartName="/ppt/media/image6.gif" ContentType="image/gif"/>
  <Override PartName="/ppt/media/image9.png" ContentType="image/png"/>
  <Override PartName="/ppt/media/image5.gif" ContentType="image/gif"/>
  <Override PartName="/ppt/media/book%20turning%20pages.wav" ContentType="audio/x-wav"/>
  <Override PartName="/ppt/media/amazed.wav" ContentType="audio/x-wav"/>
  <Override PartName="/ppt/media/image4.gif" ContentType="image/gif"/>
  <Override PartName="/ppt/media/image7.gif" ContentType="image/gif"/>
  <Override PartName="/ppt/media/train.wav" ContentType="audio/x-wav"/>
  <Override PartName="/ppt/media/drumroll.wav" ContentType="audio/x-wav"/>
  <Override PartName="/ppt/media/image12.gif" ContentType="image/gif"/>
  <Override PartName="/ppt/media/image3.png" ContentType="image/png"/>
  <Override PartName="/ppt/media/whoosh.wav" ContentType="audio/x-wav"/>
  <Override PartName="/ppt/media/carhorn.wav" ContentType="audio/x-wav"/>
  <Override PartName="/ppt/media/image20.gif" ContentType="image/gif"/>
  <Override PartName="/ppt/media/image18.gif" ContentType="image/gif"/>
  <Override PartName="/ppt/media/image17.gif" ContentType="image/gif"/>
  <Override PartName="/ppt/media/explode.wav" ContentType="audio/x-wav"/>
  <Override PartName="/ppt/media/image15.gif" ContentType="image/gif"/>
  <Override PartName="/ppt/media/image19.gif" ContentType="image/gif"/>
  <Override PartName="/ppt/media/image1.png" ContentType="image/png"/>
  <Override PartName="/ppt/media/kids%20cheer.wav" ContentType="audio/x-wav"/>
  <Override PartName="/ppt/media/image14.gif" ContentType="image/gif"/>
  <Override PartName="/ppt/media/image16.png" ContentType="image/png"/>
  <Override PartName="/ppt/media/image13.gif" ContentType="image/gif"/>
  <Override PartName="/ppt/media/image11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54C04-5330-4257-8824-B74E05052BA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C0870-0B9F-4C01-9464-283F66B51A56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562F8-559C-45A0-9ECC-F9C377977D65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545A3-C6C1-4923-82F0-F5C517224358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CC2B6-0364-4BAC-B73F-45A7DF266877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E83E7-77BE-484E-843E-117C3D9E63D7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8BDB9-7A4B-4F96-A6C8-9357527A8865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D3C3E-FFFF-40E4-9A50-D60588988178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5F5AD-DA49-420E-A784-581A6D66112E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E375C-909B-42F4-BF97-812BEDBAB10F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BE509-C849-44D7-ABF7-3FB6B4AE6EF4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80C78-3519-4CB8-8867-2F3F0CE3DC46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39AC5-F10E-4CB5-9B37-9327CCC055DE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394ED-73DB-4441-90FA-0BB314D08876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FD34B-68E6-4B3B-BEB2-14FA93BD3A22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15916-5A3D-4EF3-9441-10FFDD01ADB1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ADE78-7340-4D04-9FFE-EAFFE81429B7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C6663-73BC-4E69-98DF-354D6FA35424}" type="slidenum">
              <a:rPr b="0" lang="nl-NL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7693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755640" y="4204800"/>
            <a:ext cx="7693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7640" y="206028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55640" y="420480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97640" y="420480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2476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6640" y="2060280"/>
            <a:ext cx="2476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57640" y="2060280"/>
            <a:ext cx="2476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755640" y="4204800"/>
            <a:ext cx="2476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6640" y="4204800"/>
            <a:ext cx="2476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57640" y="4204800"/>
            <a:ext cx="2476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55640" y="2060280"/>
            <a:ext cx="76932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7693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37540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97640" y="2060280"/>
            <a:ext cx="37540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56360" y="62136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97640" y="2060280"/>
            <a:ext cx="37540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55640" y="420480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755640" y="2060280"/>
            <a:ext cx="76932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37540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97640" y="206028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97640" y="420480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97640" y="206028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55640" y="4204800"/>
            <a:ext cx="7693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7693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55640" y="4204800"/>
            <a:ext cx="7693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97640" y="206028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55640" y="420480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97640" y="420480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2476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56640" y="2060280"/>
            <a:ext cx="2476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57640" y="2060280"/>
            <a:ext cx="2476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55640" y="4204800"/>
            <a:ext cx="2476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56640" y="4204800"/>
            <a:ext cx="2476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57640" y="4204800"/>
            <a:ext cx="2476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7693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37540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7640" y="2060280"/>
            <a:ext cx="37540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756360" y="62136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7640" y="2060280"/>
            <a:ext cx="37540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55640" y="420480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37540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7640" y="206028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97640" y="420480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55640" y="206028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97640" y="2060280"/>
            <a:ext cx="375408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55640" y="4204800"/>
            <a:ext cx="76932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ebff"/>
            </a:gs>
            <a:gs pos="100000">
              <a:srgbClr val="f0e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Rectangle 4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Freeform 5"/>
            <p:cNvSpPr/>
            <p:nvPr/>
          </p:nvSpPr>
          <p:spPr>
            <a:xfrm>
              <a:off x="457200" y="0"/>
              <a:ext cx="2743200" cy="1166760"/>
            </a:xfrm>
            <a:prstGeom prst="pie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" name="Group 6"/>
          <p:cNvGrpSpPr/>
          <p:nvPr/>
        </p:nvGrpSpPr>
        <p:grpSpPr>
          <a:xfrm>
            <a:off x="250560" y="1700280"/>
            <a:ext cx="7391160" cy="318960"/>
            <a:chOff x="250560" y="1700280"/>
            <a:chExt cx="7391160" cy="318960"/>
          </a:xfrm>
        </p:grpSpPr>
        <p:sp>
          <p:nvSpPr>
            <p:cNvPr id="4" name="AutoShape 7"/>
            <p:cNvSpPr/>
            <p:nvPr/>
          </p:nvSpPr>
          <p:spPr>
            <a:xfrm>
              <a:off x="631440" y="1700280"/>
              <a:ext cx="7010280" cy="31716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" name="AutoShape 8"/>
            <p:cNvSpPr/>
            <p:nvPr/>
          </p:nvSpPr>
          <p:spPr>
            <a:xfrm flipH="1">
              <a:off x="250200" y="1700280"/>
              <a:ext cx="3934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755640" y="2060280"/>
            <a:ext cx="7693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0" y="6382800"/>
            <a:ext cx="106200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2007-</a:t>
            </a:r>
            <a:fld id="{0A9E7A9A-8074-4CB8-854B-364BE0285779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kjm-z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5ebff"/>
            </a:gs>
            <a:gs pos="100000">
              <a:srgbClr val="f0e1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7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755640" y="2060280"/>
            <a:ext cx="7693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audio" Target="../media/drumroll.wav"/><Relationship Id="rId5" Type="http://schemas.openxmlformats.org/officeDocument/2006/relationships/audio" Target="../media/whoosh.wav"/><Relationship Id="rId6" Type="http://schemas.openxmlformats.org/officeDocument/2006/relationships/audio" Target="../media/train.wav"/><Relationship Id="rId7" Type="http://schemas.openxmlformats.org/officeDocument/2006/relationships/audio" Target="../media/train.wav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3.gif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audio" Target="../media/carhorn.wav"/><Relationship Id="rId6" Type="http://schemas.openxmlformats.org/officeDocument/2006/relationships/audio" Target="../media/book%20turning%20pages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book%20turning%20pag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19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audio" Target="file:///tmp/home/.config/libreoffice/4/user/gallery/book%20turning%20pages.wav" TargetMode="External"/><Relationship Id="rId3" Type="http://schemas.microsoft.com/office/2007/relationships/media" Target="file:///tmp/home/.config/libreoffice/4/user/gallery/book%20turning%20pages.wav" TargetMode="External"/><Relationship Id="rId4" Type="http://schemas.openxmlformats.org/officeDocument/2006/relationships/image" Target="../media/image9.png"/><Relationship Id="rId5" Type="http://schemas.openxmlformats.org/officeDocument/2006/relationships/audio" Target="../media/amazed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audio" Target="file:///tmp/home/.config/libreoffice/4/user/gallery/kids%20cheer.wav" TargetMode="External"/><Relationship Id="rId7" Type="http://schemas.microsoft.com/office/2007/relationships/media" Target="file:///tmp/home/.config/libreoffice/4/user/gallery/kids%20cheer.wav" TargetMode="External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image" Target="../media/image13.gif"/><Relationship Id="rId4" Type="http://schemas.openxmlformats.org/officeDocument/2006/relationships/image" Target="../media/image14.gif"/><Relationship Id="rId5" Type="http://schemas.openxmlformats.org/officeDocument/2006/relationships/audio" Target="../media/train.wav"/><Relationship Id="rId6" Type="http://schemas.openxmlformats.org/officeDocument/2006/relationships/audio" Target="../media/kids%20cheer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audio" Target="../media/book%20turning%20pages.wav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image" Target="../media/image13.gif"/><Relationship Id="rId5" Type="http://schemas.openxmlformats.org/officeDocument/2006/relationships/image" Target="../media/image13.gif"/><Relationship Id="rId6" Type="http://schemas.openxmlformats.org/officeDocument/2006/relationships/image" Target="../media/image13.gif"/><Relationship Id="rId7" Type="http://schemas.openxmlformats.org/officeDocument/2006/relationships/image" Target="../media/image13.gif"/><Relationship Id="rId8" Type="http://schemas.openxmlformats.org/officeDocument/2006/relationships/image" Target="../media/image13.gif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audio" Target="file:///tmp/home/.config/libreoffice/4/user/gallery/explode.wav" TargetMode="External"/><Relationship Id="rId13" Type="http://schemas.microsoft.com/office/2007/relationships/media" Target="file:///tmp/home/.config/libreoffice/4/user/gallery/explode.wav" TargetMode="External"/><Relationship Id="rId14" Type="http://schemas.openxmlformats.org/officeDocument/2006/relationships/image" Target="../media/image9.png"/><Relationship Id="rId15" Type="http://schemas.openxmlformats.org/officeDocument/2006/relationships/audio" Target="../media/whoosh.wav"/><Relationship Id="rId16" Type="http://schemas.openxmlformats.org/officeDocument/2006/relationships/audio" Target="../media/whoosh.wav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-321120" y="1166040"/>
            <a:ext cx="7341840" cy="103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Arial"/>
              </a:rPr>
              <a:t>present continuou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403280" y="1917360"/>
            <a:ext cx="640080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6666"/>
                </a:solidFill>
                <a:latin typeface="Arial"/>
              </a:rPr>
              <a:t>tegenwoordige tijd (o.t.t.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AutoShape 11"/>
          <p:cNvSpPr/>
          <p:nvPr/>
        </p:nvSpPr>
        <p:spPr>
          <a:xfrm>
            <a:off x="6186600" y="1711440"/>
            <a:ext cx="1915920" cy="1190520"/>
          </a:xfrm>
          <a:prstGeom prst="cloudCallout">
            <a:avLst>
              <a:gd name="adj1" fmla="val -22578"/>
              <a:gd name="adj2" fmla="val 73601"/>
            </a:avLst>
          </a:prstGeom>
          <a:blipFill rotWithShape="0">
            <a:blip r:embed="rId1"/>
            <a:srcRect/>
            <a:stretch/>
          </a:blip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What now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AutoShape 12"/>
          <p:cNvSpPr/>
          <p:nvPr/>
        </p:nvSpPr>
        <p:spPr>
          <a:xfrm>
            <a:off x="6286680" y="639720"/>
            <a:ext cx="2584440" cy="2103480"/>
          </a:xfrm>
          <a:prstGeom prst="cloudCallout">
            <a:avLst>
              <a:gd name="adj1" fmla="val 12995"/>
              <a:gd name="adj2" fmla="val 67435"/>
            </a:avLst>
          </a:prstGeom>
          <a:blipFill rotWithShape="0">
            <a:blip r:embed="rId2"/>
            <a:srcRect/>
            <a:stretch/>
          </a:blip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Someth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New ?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1001880" y="4746600"/>
            <a:ext cx="590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Let’s go………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Picture 15" descr="jongens die praten"/>
          <p:cNvPicPr/>
          <p:nvPr/>
        </p:nvPicPr>
        <p:blipFill>
          <a:blip r:embed="rId3"/>
          <a:stretch/>
        </p:blipFill>
        <p:spPr>
          <a:xfrm>
            <a:off x="6084720" y="3141720"/>
            <a:ext cx="2598840" cy="3456000"/>
          </a:xfrm>
          <a:prstGeom prst="rect">
            <a:avLst/>
          </a:prstGeom>
          <a:ln w="0">
            <a:noFill/>
          </a:ln>
        </p:spPr>
      </p:pic>
    </p:spTree>
  </p:cSld>
  <p:transition advTm="15000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5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50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6500"/>
                            </p:stCondLst>
                            <p:childTnLst>
                              <p:par>
                                <p:cTn id="28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9500"/>
                            </p:stCondLst>
                            <p:childTnLst>
                              <p:par>
                                <p:cTn id="32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ra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500"/>
                            </p:stCondLst>
                            <p:childTnLst>
                              <p:par>
                                <p:cTn id="37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" dur="5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0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3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rain.wav"/>
                                        </p:tgtEl>
                                      </p:cMediaNode>
                                    </p:audio>
                                    <p:animMotion origin="layout" path="M 0.07013 0.00209 L -0.96893 -3.7037E-006 E">
                                      <p:cBhvr>
                                        <p:cTn id="42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ijdelijke aanduiding voor datum 3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097A8B23-4F77-4E0F-95B5-B8BDC4977CF7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Tijdelijke aanduiding voor voettekst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Vragen in de present continuous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928800" y="2000160"/>
            <a:ext cx="772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ze tijd wordt gevormd met het werkwoord to BE en er staat dus een hulpwerkwoord in de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bevestigend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zin, dan gebruik je die in je 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vraag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1146240" y="4162320"/>
            <a:ext cx="331164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Zwem ik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4948200" y="4162320"/>
            <a:ext cx="3311640" cy="649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Am I swimming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1160640" y="5842080"/>
            <a:ext cx="3311280" cy="6490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est hij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4976640" y="5842080"/>
            <a:ext cx="3311640" cy="64908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Is he reading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Rectangle 13"/>
          <p:cNvSpPr/>
          <p:nvPr/>
        </p:nvSpPr>
        <p:spPr>
          <a:xfrm>
            <a:off x="1133640" y="3360600"/>
            <a:ext cx="331128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Ik zwem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Rectangle 14"/>
          <p:cNvSpPr/>
          <p:nvPr/>
        </p:nvSpPr>
        <p:spPr>
          <a:xfrm>
            <a:off x="4950000" y="3360600"/>
            <a:ext cx="3311280" cy="649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I am swimm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Rectangle 15"/>
          <p:cNvSpPr/>
          <p:nvPr/>
        </p:nvSpPr>
        <p:spPr>
          <a:xfrm>
            <a:off x="1162080" y="5025960"/>
            <a:ext cx="331164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j lees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Rectangle 16"/>
          <p:cNvSpPr/>
          <p:nvPr/>
        </p:nvSpPr>
        <p:spPr>
          <a:xfrm>
            <a:off x="4978440" y="5025960"/>
            <a:ext cx="3311640" cy="649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He is read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ijdelijke aanduiding voor datum 2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12F2B186-7080-4AEA-ABD3-DB118D401CF6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Tijdelijke aanduiding voor voettekst 3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Vragen in de present continuous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968400" y="2895480"/>
            <a:ext cx="331164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Fiets ik naar school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4844880" y="2895480"/>
            <a:ext cx="3733920" cy="649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Am I cycling to school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969840" y="3738600"/>
            <a:ext cx="3311640" cy="6490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Gaan jullie weg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Rectangle 6"/>
          <p:cNvSpPr/>
          <p:nvPr/>
        </p:nvSpPr>
        <p:spPr>
          <a:xfrm>
            <a:off x="4862520" y="3738600"/>
            <a:ext cx="3760920" cy="64908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Are you going away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Rectangle 7"/>
          <p:cNvSpPr/>
          <p:nvPr/>
        </p:nvSpPr>
        <p:spPr>
          <a:xfrm>
            <a:off x="981000" y="4541760"/>
            <a:ext cx="331164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Eten wij fruit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Rectangle 8"/>
          <p:cNvSpPr/>
          <p:nvPr/>
        </p:nvSpPr>
        <p:spPr>
          <a:xfrm>
            <a:off x="4865760" y="4541760"/>
            <a:ext cx="3774960" cy="68760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Are we eating fruit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Rectangle 9"/>
          <p:cNvSpPr/>
          <p:nvPr/>
        </p:nvSpPr>
        <p:spPr>
          <a:xfrm>
            <a:off x="968400" y="5487840"/>
            <a:ext cx="331164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Leest u een boek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Rectangle 10"/>
          <p:cNvSpPr/>
          <p:nvPr/>
        </p:nvSpPr>
        <p:spPr>
          <a:xfrm>
            <a:off x="4844880" y="5487840"/>
            <a:ext cx="4140360" cy="649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Are you reading a book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7" name="Picture 11" descr="MMj03035000000[1]"/>
          <p:cNvPicPr/>
          <p:nvPr/>
        </p:nvPicPr>
        <p:blipFill>
          <a:blip r:embed="rId1"/>
          <a:stretch/>
        </p:blipFill>
        <p:spPr>
          <a:xfrm>
            <a:off x="3975120" y="2851200"/>
            <a:ext cx="961920" cy="7333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3" descr="MMAG00327_0000[1]"/>
          <p:cNvPicPr/>
          <p:nvPr/>
        </p:nvPicPr>
        <p:blipFill>
          <a:blip r:embed="rId2"/>
          <a:stretch/>
        </p:blipFill>
        <p:spPr>
          <a:xfrm>
            <a:off x="4303800" y="4678200"/>
            <a:ext cx="533160" cy="4003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5" descr="MMj02840840000[1]"/>
          <p:cNvPicPr/>
          <p:nvPr/>
        </p:nvPicPr>
        <p:blipFill>
          <a:blip r:embed="rId3"/>
          <a:stretch/>
        </p:blipFill>
        <p:spPr>
          <a:xfrm>
            <a:off x="4116240" y="3817800"/>
            <a:ext cx="1038240" cy="4478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6" descr="MMj03369140000[1]"/>
          <p:cNvPicPr/>
          <p:nvPr/>
        </p:nvPicPr>
        <p:blipFill>
          <a:blip r:embed="rId4"/>
          <a:stretch/>
        </p:blipFill>
        <p:spPr>
          <a:xfrm>
            <a:off x="4430880" y="5545080"/>
            <a:ext cx="342720" cy="47628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17"/>
          <p:cNvSpPr/>
          <p:nvPr/>
        </p:nvSpPr>
        <p:spPr>
          <a:xfrm>
            <a:off x="1119240" y="2160720"/>
            <a:ext cx="46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g een paar voorbeelden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3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rhor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ok%20turning%20pag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ijdelijke aanduiding voor datum 3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127C0D27-5909-4703-8E4D-83C5168DAFF9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Tijdelijke aanduiding voor voettekst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57840" y="357840"/>
            <a:ext cx="84992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Ontkenning in de present continuous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928800" y="2265480"/>
            <a:ext cx="772308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en ontkenning in het Engel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OE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ltijd een hulpwerkwoord hebb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ulpwerkwoorden – betekenen nie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ulpwerkwoorden – kun je weglaten en de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betekenis van de zin blijf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ulpwerkwoorden – be, have, can, wil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87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2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99"/>
                                </p:to>
                              </p:animCl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3000"/>
                            </p:stCondLst>
                            <p:childTnLst>
                              <p:par>
                                <p:cTn id="489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1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2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99"/>
                                </p:to>
                              </p:animCl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6000"/>
                            </p:stCondLst>
                            <p:childTnLst>
                              <p:par>
                                <p:cTn id="493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21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8" dur="1" fill="hold"/>
                                  <p:tgtEl>
                                    <p:spTgt spid="21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ijdelijke aanduiding voor datum 3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D0E28B70-E878-44B0-BBE6-8DA0E3E43C44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Tijdelijke aanduiding voor voettekst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928800" y="2265480"/>
            <a:ext cx="772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t hulpwerkwoord to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BE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ordt weer gebruikt, want die staat ook in de bevestigende zi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925560" y="4146480"/>
            <a:ext cx="372096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Ik zwem niet 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4948200" y="4146480"/>
            <a:ext cx="3311640" cy="649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I am not swimm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939960" y="5842080"/>
            <a:ext cx="3720960" cy="6490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j leest nie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4976640" y="5842080"/>
            <a:ext cx="3311640" cy="64908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He is not read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912960" y="3344760"/>
            <a:ext cx="372096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Ik zwem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Rectangle 9"/>
          <p:cNvSpPr/>
          <p:nvPr/>
        </p:nvSpPr>
        <p:spPr>
          <a:xfrm>
            <a:off x="4950000" y="3344760"/>
            <a:ext cx="3311280" cy="649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I am swimm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Rectangle 10"/>
          <p:cNvSpPr/>
          <p:nvPr/>
        </p:nvSpPr>
        <p:spPr>
          <a:xfrm>
            <a:off x="941400" y="5025960"/>
            <a:ext cx="372096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ij lees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Rectangle 11"/>
          <p:cNvSpPr/>
          <p:nvPr/>
        </p:nvSpPr>
        <p:spPr>
          <a:xfrm>
            <a:off x="4978440" y="5025960"/>
            <a:ext cx="3311640" cy="649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He is read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AutoShape 2"/>
          <p:cNvSpPr/>
          <p:nvPr/>
        </p:nvSpPr>
        <p:spPr>
          <a:xfrm>
            <a:off x="285840" y="285840"/>
            <a:ext cx="864396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Ontkenning in de present continuous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ook%20turning%20pag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ijdelijke aanduiding voor datum 2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173324FE-A292-4C73-B13E-555E194310E9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Tijdelijke aanduiding voor voettekst 3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Rectangle 3"/>
          <p:cNvSpPr/>
          <p:nvPr/>
        </p:nvSpPr>
        <p:spPr>
          <a:xfrm>
            <a:off x="824040" y="2895480"/>
            <a:ext cx="378432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Ik fiets niet naar schoo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Rectangle 4"/>
          <p:cNvSpPr/>
          <p:nvPr/>
        </p:nvSpPr>
        <p:spPr>
          <a:xfrm>
            <a:off x="4844880" y="2895480"/>
            <a:ext cx="4078440" cy="649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I am not cycling to schoo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Rectangle 5"/>
          <p:cNvSpPr/>
          <p:nvPr/>
        </p:nvSpPr>
        <p:spPr>
          <a:xfrm>
            <a:off x="824040" y="4611600"/>
            <a:ext cx="378432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Jullie gaan niet we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4844880" y="4611600"/>
            <a:ext cx="4108680" cy="649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You are not going awa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792000" y="3755880"/>
            <a:ext cx="378468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Zij eten geen frui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4813200" y="3755880"/>
            <a:ext cx="4124520" cy="68112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They are not eating frui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Rectangle 9"/>
          <p:cNvSpPr/>
          <p:nvPr/>
        </p:nvSpPr>
        <p:spPr>
          <a:xfrm>
            <a:off x="824040" y="5487840"/>
            <a:ext cx="378432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U leest geen boek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Rectangle 10"/>
          <p:cNvSpPr/>
          <p:nvPr/>
        </p:nvSpPr>
        <p:spPr>
          <a:xfrm>
            <a:off x="4844880" y="5487840"/>
            <a:ext cx="4140360" cy="649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You are not reading a book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Text Box 15"/>
          <p:cNvSpPr/>
          <p:nvPr/>
        </p:nvSpPr>
        <p:spPr>
          <a:xfrm>
            <a:off x="1119240" y="2160720"/>
            <a:ext cx="46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og een paar voorbeelden: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AutoShape 2"/>
          <p:cNvSpPr/>
          <p:nvPr/>
        </p:nvSpPr>
        <p:spPr>
          <a:xfrm>
            <a:off x="285840" y="285840"/>
            <a:ext cx="864396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Ontkenning in de present continuous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500"/>
                            </p:stCondLst>
                            <p:childTnLst>
                              <p:par>
                                <p:cTn id="55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2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500"/>
                            </p:stCondLst>
                            <p:childTnLst>
                              <p:par>
                                <p:cTn id="56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500"/>
                            </p:stCondLst>
                            <p:childTnLst>
                              <p:par>
                                <p:cTn id="5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2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ijdelijke aanduiding voor datum 2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29720DF6-810C-4686-AB1A-3AE898F8929D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Tijdelijke aanduiding voor voettekst 3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Rectangle 3"/>
          <p:cNvSpPr/>
          <p:nvPr/>
        </p:nvSpPr>
        <p:spPr>
          <a:xfrm>
            <a:off x="285840" y="2895480"/>
            <a:ext cx="407196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I cycle to school every day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Rectangle 4"/>
          <p:cNvSpPr/>
          <p:nvPr/>
        </p:nvSpPr>
        <p:spPr>
          <a:xfrm>
            <a:off x="4572000" y="2895480"/>
            <a:ext cx="4351320" cy="649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I am walking to school  now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285840" y="4611600"/>
            <a:ext cx="407196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He swims every week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Rectangle 6"/>
          <p:cNvSpPr/>
          <p:nvPr/>
        </p:nvSpPr>
        <p:spPr>
          <a:xfrm>
            <a:off x="4572000" y="4611600"/>
            <a:ext cx="4381560" cy="649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e is playing hockey now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285840" y="3755880"/>
            <a:ext cx="407196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They always eat appl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Rectangle 8"/>
          <p:cNvSpPr/>
          <p:nvPr/>
        </p:nvSpPr>
        <p:spPr>
          <a:xfrm>
            <a:off x="4572000" y="3755880"/>
            <a:ext cx="4365720" cy="68112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hey are eating a banana now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Rectangle 9"/>
          <p:cNvSpPr/>
          <p:nvPr/>
        </p:nvSpPr>
        <p:spPr>
          <a:xfrm>
            <a:off x="285840" y="5487840"/>
            <a:ext cx="407196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You read book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4572000" y="5500800"/>
            <a:ext cx="4357800" cy="64908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You are reading a magazine</a:t>
            </a: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AutoShape 2"/>
          <p:cNvSpPr/>
          <p:nvPr/>
        </p:nvSpPr>
        <p:spPr>
          <a:xfrm>
            <a:off x="285840" y="285840"/>
            <a:ext cx="8643960" cy="1143000"/>
          </a:xfrm>
          <a:prstGeom prst="roundRect">
            <a:avLst>
              <a:gd name="adj" fmla="val 21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Verschil present simple en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present continuous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Tekstvak 14"/>
          <p:cNvSpPr/>
          <p:nvPr/>
        </p:nvSpPr>
        <p:spPr>
          <a:xfrm>
            <a:off x="928800" y="221472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16040"/>
                <a:tab algn="ctr" pos="5837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sent simple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resent continuo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500"/>
                            </p:stCondLst>
                            <p:childTnLst>
                              <p:par>
                                <p:cTn id="59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500"/>
                            </p:stCondLst>
                            <p:childTnLst>
                              <p:par>
                                <p:cTn id="6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500"/>
                            </p:stCondLst>
                            <p:childTnLst>
                              <p:par>
                                <p:cTn id="6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4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500"/>
                            </p:stCondLst>
                            <p:childTnLst>
                              <p:par>
                                <p:cTn id="6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ijdelijke aanduiding voor datum 3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5E763049-ECC8-4D1D-9533-486B453D7E5A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Tijdelijke aanduiding voor voettekst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esent continous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obeer maar…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826920" y="2133360"/>
            <a:ext cx="7693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56" name="Picture 4" descr="MMj02135130000[1]"/>
          <p:cNvPicPr/>
          <p:nvPr/>
        </p:nvPicPr>
        <p:blipFill>
          <a:blip r:embed="rId1"/>
          <a:stretch/>
        </p:blipFill>
        <p:spPr>
          <a:xfrm>
            <a:off x="1325520" y="2739960"/>
            <a:ext cx="1247760" cy="9050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6" descr="MMj02952530000[1]"/>
          <p:cNvPicPr/>
          <p:nvPr/>
        </p:nvPicPr>
        <p:blipFill>
          <a:blip r:embed="rId2"/>
          <a:stretch/>
        </p:blipFill>
        <p:spPr>
          <a:xfrm>
            <a:off x="3792600" y="2913120"/>
            <a:ext cx="1218960" cy="7142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8" descr="MMj03653050000[1]"/>
          <p:cNvPicPr/>
          <p:nvPr/>
        </p:nvPicPr>
        <p:blipFill>
          <a:blip r:embed="rId3"/>
          <a:stretch/>
        </p:blipFill>
        <p:spPr>
          <a:xfrm>
            <a:off x="6783480" y="261936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1" descr="MMj01892150000[1]"/>
          <p:cNvPicPr/>
          <p:nvPr/>
        </p:nvPicPr>
        <p:blipFill>
          <a:blip r:embed="rId4"/>
          <a:stretch/>
        </p:blipFill>
        <p:spPr>
          <a:xfrm>
            <a:off x="1357200" y="4429080"/>
            <a:ext cx="1428840" cy="8193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3" descr="MMj02836550000[1]"/>
          <p:cNvPicPr/>
          <p:nvPr/>
        </p:nvPicPr>
        <p:blipFill>
          <a:blip r:embed="rId5"/>
          <a:stretch/>
        </p:blipFill>
        <p:spPr>
          <a:xfrm>
            <a:off x="7015320" y="4489560"/>
            <a:ext cx="533160" cy="85716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14"/>
          <p:cNvSpPr/>
          <p:nvPr/>
        </p:nvSpPr>
        <p:spPr>
          <a:xfrm>
            <a:off x="813600" y="3736800"/>
            <a:ext cx="35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ucks are swimm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Rectangle 17"/>
          <p:cNvSpPr/>
          <p:nvPr/>
        </p:nvSpPr>
        <p:spPr>
          <a:xfrm>
            <a:off x="2049480" y="2292480"/>
            <a:ext cx="41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y are playing hocke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Rectangle 18"/>
          <p:cNvSpPr/>
          <p:nvPr/>
        </p:nvSpPr>
        <p:spPr>
          <a:xfrm>
            <a:off x="517320" y="5214960"/>
            <a:ext cx="35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he is playing ches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Rectangle 19"/>
          <p:cNvSpPr/>
          <p:nvPr/>
        </p:nvSpPr>
        <p:spPr>
          <a:xfrm>
            <a:off x="5734080" y="3735360"/>
            <a:ext cx="26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he is sleep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Rectangle 20"/>
          <p:cNvSpPr/>
          <p:nvPr/>
        </p:nvSpPr>
        <p:spPr>
          <a:xfrm>
            <a:off x="4479480" y="5445000"/>
            <a:ext cx="431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 is eating an ice-cream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ijdelijke aanduiding voor datum 3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53A0A081-F7A2-4B9B-A431-108287928F75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Tijdelijke aanduiding voor voettekst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Present continuous? – Vragen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755640" y="2060280"/>
            <a:ext cx="7693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70" name="Picture 5" descr="MMj02835510000[1]"/>
          <p:cNvPicPr/>
          <p:nvPr/>
        </p:nvPicPr>
        <p:blipFill>
          <a:blip r:embed="rId1"/>
          <a:stretch/>
        </p:blipFill>
        <p:spPr>
          <a:xfrm>
            <a:off x="3743280" y="3005280"/>
            <a:ext cx="1728720" cy="164304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6732720" y="7245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advTm="5000">
    <p:circle/>
  </p:transition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maze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2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271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ijdelijke aanduiding voor datum 3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B835CBE2-66DA-4B2F-8B6C-762E719C153D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Tijdelijke aanduiding voor voettekst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Inhoud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755640" y="2060280"/>
            <a:ext cx="76932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Soorten zinn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Wat is de present continuou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Wanneer gebruik ik de present continuou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Hoe maak ik de present continuou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Vragen in de present continuo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Ontkenningen in de present continuou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4" name="Picture 8" descr="MMj02135130000[1]"/>
          <p:cNvPicPr/>
          <p:nvPr/>
        </p:nvPicPr>
        <p:blipFill>
          <a:blip r:embed="rId1"/>
          <a:stretch/>
        </p:blipFill>
        <p:spPr>
          <a:xfrm>
            <a:off x="1403280" y="2349360"/>
            <a:ext cx="1247760" cy="905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MMj03034660000[1]"/>
          <p:cNvPicPr/>
          <p:nvPr/>
        </p:nvPicPr>
        <p:blipFill>
          <a:blip r:embed="rId2"/>
          <a:stretch/>
        </p:blipFill>
        <p:spPr>
          <a:xfrm>
            <a:off x="1403280" y="4797360"/>
            <a:ext cx="857160" cy="561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MMj02952530000[1]"/>
          <p:cNvPicPr/>
          <p:nvPr/>
        </p:nvPicPr>
        <p:blipFill>
          <a:blip r:embed="rId3"/>
          <a:stretch/>
        </p:blipFill>
        <p:spPr>
          <a:xfrm>
            <a:off x="5003640" y="333360"/>
            <a:ext cx="1219320" cy="7142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MMj03653050000[1]"/>
          <p:cNvPicPr/>
          <p:nvPr/>
        </p:nvPicPr>
        <p:blipFill>
          <a:blip r:embed="rId4"/>
          <a:stretch/>
        </p:blipFill>
        <p:spPr>
          <a:xfrm>
            <a:off x="7451640" y="2637000"/>
            <a:ext cx="1028880" cy="1028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MMj01892150000[1]"/>
          <p:cNvPicPr/>
          <p:nvPr/>
        </p:nvPicPr>
        <p:blipFill>
          <a:blip r:embed="rId5"/>
          <a:stretch/>
        </p:blipFill>
        <p:spPr>
          <a:xfrm>
            <a:off x="3851280" y="4221000"/>
            <a:ext cx="1428840" cy="81936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14"/>
          <p:cNvSpPr/>
          <p:nvPr/>
        </p:nvSpPr>
        <p:spPr>
          <a:xfrm>
            <a:off x="1062720" y="3429000"/>
            <a:ext cx="35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ucks are swimm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Rectangle 15"/>
          <p:cNvSpPr/>
          <p:nvPr/>
        </p:nvSpPr>
        <p:spPr>
          <a:xfrm>
            <a:off x="138240" y="5446800"/>
            <a:ext cx="276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 is swimm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Rectangle 16"/>
          <p:cNvSpPr/>
          <p:nvPr/>
        </p:nvSpPr>
        <p:spPr>
          <a:xfrm>
            <a:off x="3716280" y="1125360"/>
            <a:ext cx="41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ey are playing hockey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Rectangle 17"/>
          <p:cNvSpPr/>
          <p:nvPr/>
        </p:nvSpPr>
        <p:spPr>
          <a:xfrm>
            <a:off x="4302000" y="4941720"/>
            <a:ext cx="35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he is playing ches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Rectangle 18"/>
          <p:cNvSpPr/>
          <p:nvPr/>
        </p:nvSpPr>
        <p:spPr>
          <a:xfrm>
            <a:off x="5685120" y="3735360"/>
            <a:ext cx="26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he is sleep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" descr="">
            <a:hlinkClick r:id="" action="ppaction://media"/>
          </p:cNvPr>
          <p:cNvPicPr/>
          <p:nvPr>
            <a:audioFile r:link="rId6"/>
            <p:extLst>
              <p:ext uri="{DAA4B4D4-6D71-4841-9C94-3DE7FCFB9230}">
                <p14:media r:link="rId7"/>
              </p:ext>
            </p:extLst>
          </p:nvPr>
        </p:nvPicPr>
        <p:blipFill>
          <a:blip r:embed="rId8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15000">
    <p:circl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 repeatCount="100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3" presetSubtype="10" repeatCount="100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25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0">
                                  <p:stCondLst>
                                    <p:cond delay="3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xit" presetID="10">
                                  <p:stCondLst>
                                    <p:cond delay="3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10">
                                  <p:stCondLst>
                                    <p:cond delay="3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10">
                                  <p:stCondLst>
                                    <p:cond delay="3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2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xit" presetID="10">
                                  <p:stCondLst>
                                    <p:cond delay="3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2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10">
                                  <p:stCondLst>
                                    <p:cond delay="35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2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8" presetSubtype="16">
                                  <p:stCondLst>
                                    <p:cond delay="39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43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8" presetSubtype="16">
                                  <p:stCondLst>
                                    <p:cond delay="47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5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55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8" presetSubtype="16">
                                  <p:stCondLst>
                                    <p:cond delay="59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63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8" presetSubtype="16">
                                  <p:stCondLst>
                                    <p:cond delay="67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7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09" dur="1" fill="hold"/>
                                  <p:tgtEl>
                                    <p:spTgt spid="1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99"/>
                                </p:to>
                              </p:animClr>
                              <p:animClr clrSpc="rgb">
                                <p:cBhvr>
                                  <p:cTn id="110" dur="1" fill="hold"/>
                                  <p:tgtEl>
                                    <p:spTgt spid="10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99"/>
                                </p:to>
                              </p:animClr>
                              <p:animClr clrSpc="rgb">
                                <p:cBhvr>
                                  <p:cTn id="111" dur="1" fill="hold"/>
                                  <p:tgtEl>
                                    <p:spTgt spid="10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99"/>
                                </p:to>
                              </p:animClr>
                              <p:animClr clrSpc="rgb">
                                <p:cBhvr>
                                  <p:cTn id="112" dur="1" fill="hold"/>
                                  <p:tgtEl>
                                    <p:spTgt spid="10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99"/>
                                </p:to>
                              </p:animClr>
                              <p:animClr clrSpc="rgb">
                                <p:cBhvr>
                                  <p:cTn id="113" dur="1" fill="hold"/>
                                  <p:tgtEl>
                                    <p:spTgt spid="10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99"/>
                                </p:to>
                              </p:animClr>
                              <p:animClr clrSpc="rgb">
                                <p:cBhvr>
                                  <p:cTn id="114" dur="1" fill="hold"/>
                                  <p:tgtEl>
                                    <p:spTgt spid="10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14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ijdelijke aanduiding voor datum 3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733FF287-53A2-4B3C-B5E8-691B8C15585D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Tijdelijke aanduiding voor voettekst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oorten zinn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755640" y="2060280"/>
            <a:ext cx="76932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evestigende zinn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ragende zinn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ntkennende zinn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et is zo.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k lees een boek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Vraag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ees ik een boek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Nee, nie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Ik lees geen boek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9" name="Picture 4" descr="MCj00787110000[1]"/>
          <p:cNvPicPr/>
          <p:nvPr/>
        </p:nvPicPr>
        <p:blipFill>
          <a:blip r:embed="rId1"/>
          <a:stretch/>
        </p:blipFill>
        <p:spPr>
          <a:xfrm>
            <a:off x="7451640" y="3789360"/>
            <a:ext cx="871560" cy="211140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50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60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75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75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path" presetID="4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3837 -0.00764 C -0.53542 -0.03287 -0.40747 -0.08912 -0.39948 -0.08912 C -0.39045 -0.08912 -0.3599 -0.00833 -0.35694 0.0169 C -0.35295 0.04491 -0.25399 -0.0743 -0.24392 -0.0743 C -0.2349 -0.0743 -0.21285 0.16852 -0.20885 0.14051 C -0.20694 0.11528 -0.1283 -0.05949 -0.11927 -0.05949 C -0.11128 -0.05949 -0.10729 -0.03542 -0.10417 -0.01018 C -0.10122 0.01783 -0.09722 0.04583 -0.08819 0.04583 C -0.07917 0.04583 -0.07222 -0.01018 -0.07222 -0.00995 C -0.06927 -0.03542 -0.06615 -0.05949 -0.05729 -0.05949 C -0.04826 -0.05949 -0.04514 -0.03542 -0.04219 -0.01018 C -0.03819 0.01783 -0.03524 0.04583 -0.02517 0.04583 C -0.01615 0.04583 -0.01319 0.01783 -0.01024 -0.01018 C -0.00625 -0.03542 -0.0033 -0.05949 0.00573 -0.05949 C 0.01372 -0.05949 0.01771 -0.03542 0.02083 -0.01018 C 0.02378 0.01783 0.02778 0.04583 0.03681 0.04583 C 0.04583 0.04583 0.04878 0.01783 0.05278 -0.01018 E">
                                      <p:cBhvr>
                                        <p:cTn id="146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ijdelijke aanduiding voor datum 2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5C49D112-14E7-41B0-8E96-755C17EDFBE6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Tijdelijke aanduiding voor voettekst 3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Wat is de present continuou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1187280" y="2276640"/>
            <a:ext cx="3311640" cy="6490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Ik fiet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5003640" y="2276640"/>
            <a:ext cx="3311640" cy="64908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I am cycl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1187280" y="3141720"/>
            <a:ext cx="3311640" cy="6490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e trein vertrek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5003640" y="3141720"/>
            <a:ext cx="3311640" cy="64908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The train is leav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1187280" y="4005360"/>
            <a:ext cx="3311640" cy="6490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Wij eten frui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5003640" y="4005360"/>
            <a:ext cx="3311640" cy="64908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We are eating frui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1187280" y="4869000"/>
            <a:ext cx="3311640" cy="6490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Zij spel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Rectangle 10"/>
          <p:cNvSpPr/>
          <p:nvPr/>
        </p:nvSpPr>
        <p:spPr>
          <a:xfrm>
            <a:off x="5003640" y="4869000"/>
            <a:ext cx="3311640" cy="64908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They are play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1" name="Picture 12" descr="MMj03035000000[1]"/>
          <p:cNvPicPr/>
          <p:nvPr/>
        </p:nvPicPr>
        <p:blipFill>
          <a:blip r:embed="rId1"/>
          <a:stretch/>
        </p:blipFill>
        <p:spPr>
          <a:xfrm>
            <a:off x="4133880" y="2232000"/>
            <a:ext cx="961920" cy="7333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4" descr="MMj03544800000[1]"/>
          <p:cNvPicPr/>
          <p:nvPr/>
        </p:nvPicPr>
        <p:blipFill>
          <a:blip r:embed="rId2"/>
          <a:stretch/>
        </p:blipFill>
        <p:spPr>
          <a:xfrm>
            <a:off x="4262400" y="3152880"/>
            <a:ext cx="619200" cy="5522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6" descr="MMAG00327_0000[1]"/>
          <p:cNvPicPr/>
          <p:nvPr/>
        </p:nvPicPr>
        <p:blipFill>
          <a:blip r:embed="rId3"/>
          <a:stretch/>
        </p:blipFill>
        <p:spPr>
          <a:xfrm>
            <a:off x="4432320" y="4156200"/>
            <a:ext cx="533520" cy="399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2" descr="MMj03034880000[1]"/>
          <p:cNvPicPr/>
          <p:nvPr/>
        </p:nvPicPr>
        <p:blipFill>
          <a:blip r:embed="rId4"/>
          <a:stretch/>
        </p:blipFill>
        <p:spPr>
          <a:xfrm>
            <a:off x="4284720" y="4869000"/>
            <a:ext cx="799920" cy="66672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ra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kids%20che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ijdelijke aanduiding voor datum 3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04A04CEB-F96A-4FA5-9E50-D53339104088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Tijdelijke aanduiding voor voettekst 4"/>
          <p:cNvSpPr/>
          <p:nvPr/>
        </p:nvSpPr>
        <p:spPr>
          <a:xfrm>
            <a:off x="5500800" y="6383160"/>
            <a:ext cx="2896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64520" y="415080"/>
            <a:ext cx="871344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6666"/>
                </a:solidFill>
                <a:latin typeface="Arial"/>
              </a:rPr>
              <a:t>Wanneer gebruik ik de present continuous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Text Box 14"/>
          <p:cNvSpPr/>
          <p:nvPr/>
        </p:nvSpPr>
        <p:spPr>
          <a:xfrm>
            <a:off x="818640" y="2071800"/>
            <a:ext cx="630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Om aan te geven dat </a:t>
            </a:r>
            <a:r>
              <a:rPr b="1" lang="nl-NL" sz="2800" spc="-1" strike="noStrike">
                <a:solidFill>
                  <a:srgbClr val="003366"/>
                </a:solidFill>
                <a:latin typeface="Arial"/>
              </a:rPr>
              <a:t>NU</a:t>
            </a: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 iets gebeur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Rectangle 17"/>
          <p:cNvSpPr/>
          <p:nvPr/>
        </p:nvSpPr>
        <p:spPr>
          <a:xfrm>
            <a:off x="1116000" y="2860560"/>
            <a:ext cx="3311640" cy="64944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Ik fiets naar schoo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Rectangle 18"/>
          <p:cNvSpPr/>
          <p:nvPr/>
        </p:nvSpPr>
        <p:spPr>
          <a:xfrm>
            <a:off x="4932360" y="2860560"/>
            <a:ext cx="3711600" cy="649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I am cycling to schoo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Rectangle 19"/>
          <p:cNvSpPr/>
          <p:nvPr/>
        </p:nvSpPr>
        <p:spPr>
          <a:xfrm>
            <a:off x="1112760" y="4994280"/>
            <a:ext cx="3341880" cy="8668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De trein vertrekt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Rectangle 20"/>
          <p:cNvSpPr/>
          <p:nvPr/>
        </p:nvSpPr>
        <p:spPr>
          <a:xfrm>
            <a:off x="4929120" y="4994280"/>
            <a:ext cx="3500640" cy="88092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The train is leaving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Rectangle 23"/>
          <p:cNvSpPr/>
          <p:nvPr/>
        </p:nvSpPr>
        <p:spPr>
          <a:xfrm>
            <a:off x="1114560" y="3848040"/>
            <a:ext cx="3311280" cy="77148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8db08d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Wij leren Engel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Rectangle 24"/>
          <p:cNvSpPr/>
          <p:nvPr/>
        </p:nvSpPr>
        <p:spPr>
          <a:xfrm>
            <a:off x="4944960" y="3848040"/>
            <a:ext cx="3484800" cy="78444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We are learn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English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2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ijdelijke aanduiding voor datum 3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AA15F650-E340-4380-97E1-A80620A8DB3A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Tijdelijke aanduiding voor voettekst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506880" y="286200"/>
            <a:ext cx="8427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Hoe maak ik de present continuou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755640" y="2060280"/>
            <a:ext cx="7693200" cy="46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ersoon + vorm van werkwoord BE + hele werkwoord + 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ersoon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to B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Rectangle 5"/>
          <p:cNvSpPr/>
          <p:nvPr/>
        </p:nvSpPr>
        <p:spPr>
          <a:xfrm>
            <a:off x="4857840" y="3797280"/>
            <a:ext cx="3311280" cy="270360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 (‘m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(‘r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s (‘s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(‘r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(‘r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e (‘re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Rectangle 6"/>
          <p:cNvSpPr/>
          <p:nvPr/>
        </p:nvSpPr>
        <p:spPr>
          <a:xfrm>
            <a:off x="1143000" y="3797280"/>
            <a:ext cx="3311640" cy="277488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e / she / i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ijdelijke aanduiding voor datum 3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0DE626A2-120F-42A4-B5CE-F2B05160A9FC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Tijdelijke aanduiding voor voettekst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01120" y="286200"/>
            <a:ext cx="835632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Hoe maak ik de present continuou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755640" y="2060280"/>
            <a:ext cx="7693200" cy="46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Persoon + vorm van werkwoord BE + hele werkwoord + 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hele werkwoord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+ 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4857840" y="3797280"/>
            <a:ext cx="3311280" cy="270360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}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1143000" y="3797280"/>
            <a:ext cx="3311640" cy="2774880"/>
          </a:xfrm>
          <a:prstGeom prst="rect">
            <a:avLst/>
          </a:prstGeom>
          <a:gradFill rotWithShape="0">
            <a:gsLst>
              <a:gs pos="0">
                <a:srgbClr val="5c7d9d"/>
              </a:gs>
              <a:gs pos="100000">
                <a:srgbClr val="003366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ffff"/>
                </a:solidFill>
                <a:latin typeface="Arial"/>
              </a:rPr>
              <a:t>pla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i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nc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r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rit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Tekstvak 8"/>
          <p:cNvSpPr/>
          <p:nvPr/>
        </p:nvSpPr>
        <p:spPr>
          <a:xfrm>
            <a:off x="3070440" y="471492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Tekstvak 9"/>
          <p:cNvSpPr/>
          <p:nvPr/>
        </p:nvSpPr>
        <p:spPr>
          <a:xfrm>
            <a:off x="2953080" y="5556240"/>
            <a:ext cx="3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Tekstvak 10"/>
          <p:cNvSpPr/>
          <p:nvPr/>
        </p:nvSpPr>
        <p:spPr>
          <a:xfrm>
            <a:off x="5715000" y="6072120"/>
            <a:ext cx="242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aar let op…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60" name="Picture 12" descr="MMj02837400000[1]"/>
          <p:cNvPicPr/>
          <p:nvPr/>
        </p:nvPicPr>
        <p:blipFill>
          <a:blip r:embed="rId1"/>
          <a:stretch/>
        </p:blipFill>
        <p:spPr>
          <a:xfrm>
            <a:off x="3929040" y="5418000"/>
            <a:ext cx="1339920" cy="1440000"/>
          </a:xfrm>
          <a:prstGeom prst="rect">
            <a:avLst/>
          </a:prstGeom>
          <a:ln w="0">
            <a:noFill/>
          </a:ln>
        </p:spPr>
      </p:pic>
      <p:sp>
        <p:nvSpPr>
          <p:cNvPr id="161" name="Tekstvak 13"/>
          <p:cNvSpPr/>
          <p:nvPr/>
        </p:nvSpPr>
        <p:spPr>
          <a:xfrm>
            <a:off x="3128040" y="4286160"/>
            <a:ext cx="47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7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0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3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6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9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2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ok%20turning%20pag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0" dur="2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301" dur="1" fill="hold">
                                    <p:stCondLst>
                                      <p:cond evt="end">
                                        <p:tn val="299"/>
                                      </p:cond>
                                    </p:stCondLst>
                                  </p:cTn>
                                  <p:tgtEl>
                                    <p:spTgt spid="1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5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set>
                                <p:cBhvr>
                                  <p:cTn id="306" dur="1" fill="hold">
                                    <p:stCondLst>
                                      <p:cond evt="end">
                                        <p:tn val="304"/>
                                      </p:cond>
                                    </p:stCondLst>
                                  </p:cTn>
                                  <p:tgtEl>
                                    <p:spTgt spid="15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15" dur="1" fill="hold"/>
                                  <p:tgtEl>
                                    <p:spTgt spid="16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ijdelijke aanduiding voor datum 3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A150E720-9554-4ABF-8D9E-20ED608D40FE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Tijdelijke aanduiding voor voettekst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505440" y="286200"/>
            <a:ext cx="82846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Hoe maak ik de present continuous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755640" y="2060280"/>
            <a:ext cx="76932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I am eating (I’m eating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You are eating (You’re eating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He / she / it is eating (He’s eating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Geldt ook voor John, mother, cat enz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We are ea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You are ea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3366"/>
                </a:solidFill>
                <a:latin typeface="Arial"/>
              </a:rPr>
              <a:t>They are eatin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66" name="Group 15"/>
          <p:cNvGrpSpPr/>
          <p:nvPr/>
        </p:nvGrpSpPr>
        <p:grpSpPr>
          <a:xfrm>
            <a:off x="5459400" y="4336920"/>
            <a:ext cx="2657520" cy="1187640"/>
            <a:chOff x="5459400" y="4336920"/>
            <a:chExt cx="2657520" cy="1187640"/>
          </a:xfrm>
        </p:grpSpPr>
        <p:pic>
          <p:nvPicPr>
            <p:cNvPr id="167" name="Picture 5" descr="MMAG00327_0000[1]"/>
            <p:cNvPicPr/>
            <p:nvPr/>
          </p:nvPicPr>
          <p:blipFill>
            <a:blip r:embed="rId1"/>
            <a:stretch/>
          </p:blipFill>
          <p:spPr>
            <a:xfrm>
              <a:off x="6669000" y="5097600"/>
              <a:ext cx="53352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icture 6" descr="MMAG00327_0000[1]"/>
            <p:cNvPicPr/>
            <p:nvPr/>
          </p:nvPicPr>
          <p:blipFill>
            <a:blip r:embed="rId2"/>
            <a:stretch/>
          </p:blipFill>
          <p:spPr>
            <a:xfrm>
              <a:off x="5459400" y="5124600"/>
              <a:ext cx="53352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Picture 7" descr="MMAG00327_0000[1]"/>
            <p:cNvPicPr/>
            <p:nvPr/>
          </p:nvPicPr>
          <p:blipFill>
            <a:blip r:embed="rId3"/>
            <a:stretch/>
          </p:blipFill>
          <p:spPr>
            <a:xfrm>
              <a:off x="6021360" y="4336920"/>
              <a:ext cx="533520" cy="40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9" descr="MMAG00327_0000[1]"/>
            <p:cNvPicPr/>
            <p:nvPr/>
          </p:nvPicPr>
          <p:blipFill>
            <a:blip r:embed="rId4"/>
            <a:stretch/>
          </p:blipFill>
          <p:spPr>
            <a:xfrm>
              <a:off x="7583400" y="4575240"/>
              <a:ext cx="533520" cy="399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1" name="Group 16"/>
          <p:cNvGrpSpPr/>
          <p:nvPr/>
        </p:nvGrpSpPr>
        <p:grpSpPr>
          <a:xfrm>
            <a:off x="5675400" y="4552920"/>
            <a:ext cx="2657520" cy="1187640"/>
            <a:chOff x="5675400" y="4552920"/>
            <a:chExt cx="2657520" cy="1187640"/>
          </a:xfrm>
        </p:grpSpPr>
        <p:pic>
          <p:nvPicPr>
            <p:cNvPr id="172" name="Picture 17" descr="MMAG00327_0000[1]"/>
            <p:cNvPicPr/>
            <p:nvPr/>
          </p:nvPicPr>
          <p:blipFill>
            <a:blip r:embed="rId5"/>
            <a:stretch/>
          </p:blipFill>
          <p:spPr>
            <a:xfrm>
              <a:off x="6885000" y="5313600"/>
              <a:ext cx="53352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18" descr="MMAG00327_0000[1]"/>
            <p:cNvPicPr/>
            <p:nvPr/>
          </p:nvPicPr>
          <p:blipFill>
            <a:blip r:embed="rId6"/>
            <a:stretch/>
          </p:blipFill>
          <p:spPr>
            <a:xfrm>
              <a:off x="5675400" y="5340600"/>
              <a:ext cx="533520" cy="399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Picture 19" descr="MMAG00327_0000[1]"/>
            <p:cNvPicPr/>
            <p:nvPr/>
          </p:nvPicPr>
          <p:blipFill>
            <a:blip r:embed="rId7"/>
            <a:stretch/>
          </p:blipFill>
          <p:spPr>
            <a:xfrm>
              <a:off x="6237360" y="4552920"/>
              <a:ext cx="533520" cy="40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Picture 20" descr="MMAG00327_0000[1]"/>
            <p:cNvPicPr/>
            <p:nvPr/>
          </p:nvPicPr>
          <p:blipFill>
            <a:blip r:embed="rId8"/>
            <a:stretch/>
          </p:blipFill>
          <p:spPr>
            <a:xfrm>
              <a:off x="7799400" y="4791240"/>
              <a:ext cx="533520" cy="399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6" name="AutoShape 22"/>
          <p:cNvSpPr/>
          <p:nvPr/>
        </p:nvSpPr>
        <p:spPr>
          <a:xfrm>
            <a:off x="6470640" y="3727440"/>
            <a:ext cx="1562040" cy="830160"/>
          </a:xfrm>
          <a:prstGeom prst="cloudCallout">
            <a:avLst>
              <a:gd name="adj1" fmla="val -43750"/>
              <a:gd name="adj2" fmla="val 70000"/>
            </a:avLst>
          </a:prstGeom>
          <a:blipFill rotWithShape="0">
            <a:blip r:embed="rId9"/>
            <a:srcRect/>
            <a:stretch/>
          </a:blip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e’re eating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AutoShape 25"/>
          <p:cNvSpPr/>
          <p:nvPr/>
        </p:nvSpPr>
        <p:spPr>
          <a:xfrm>
            <a:off x="7075440" y="5726160"/>
            <a:ext cx="1562040" cy="830160"/>
          </a:xfrm>
          <a:prstGeom prst="cloudCallout">
            <a:avLst>
              <a:gd name="adj1" fmla="val -58944"/>
              <a:gd name="adj2" fmla="val -102962"/>
            </a:avLst>
          </a:prstGeom>
          <a:blipFill rotWithShape="0">
            <a:blip r:embed="rId10"/>
            <a:srcRect/>
            <a:stretch/>
          </a:blip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 am eating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AutoShape 27"/>
          <p:cNvSpPr/>
          <p:nvPr/>
        </p:nvSpPr>
        <p:spPr>
          <a:xfrm>
            <a:off x="3657600" y="3924360"/>
            <a:ext cx="1562040" cy="830160"/>
          </a:xfrm>
          <a:prstGeom prst="cloudCallout">
            <a:avLst>
              <a:gd name="adj1" fmla="val 72458"/>
              <a:gd name="adj2" fmla="val 109083"/>
            </a:avLst>
          </a:prstGeom>
          <a:blipFill rotWithShape="0">
            <a:blip r:embed="rId11"/>
            <a:srcRect/>
            <a:stretch/>
          </a:blipFill>
          <a:ln w="255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he’s eat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79" name="" descr="">
            <a:hlinkClick r:id="" action="ppaction://media"/>
          </p:cNvPr>
          <p:cNvPicPr/>
          <p:nvPr>
            <a:audioFile r:link="rId12"/>
            <p:extLst>
              <p:ext uri="{DAA4B4D4-6D71-4841-9C94-3DE7FCFB9230}">
                <p14:media r:link="rId13"/>
              </p:ext>
            </p:extLst>
          </p:nvPr>
        </p:nvPicPr>
        <p:blipFill>
          <a:blip r:embed="rId14"/>
          <a:stretch>
            <a:fillRect/>
          </a:stretch>
        </p:blipFill>
        <p:spPr>
          <a:xfrm>
            <a:off x="7885080" y="4005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Rot by="21600000">
                                      <p:cBhvr>
                                        <p:cTn id="324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4000"/>
                            </p:stCondLst>
                            <p:childTnLst>
                              <p:par>
                                <p:cTn id="343" nodeType="afterEffect" fill="hold" presetClass="entr" presetID="3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6000"/>
                            </p:stCondLst>
                            <p:childTnLst>
                              <p:par>
                                <p:cTn id="3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7000"/>
                            </p:stCondLst>
                            <p:childTnLst>
                              <p:par>
                                <p:cTn id="3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80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9" dur="2356" fill="hold"/>
                                        <p:tgtEl>
                                          <p:spTgt spid="1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79"/>
                </p:tgtEl>
              </p:cMediaNode>
            </p:audio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ijdelijke aanduiding voor datum 3"/>
          <p:cNvSpPr/>
          <p:nvPr/>
        </p:nvSpPr>
        <p:spPr>
          <a:xfrm>
            <a:off x="0" y="6383160"/>
            <a:ext cx="1062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2007-</a:t>
            </a:r>
            <a:fld id="{7A085B95-0BCF-4A5D-8929-51918187ABC0}" type="slidenum">
              <a:rPr b="0" lang="nl-NL" sz="14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Tijdelijke aanduiding voor voettekst 4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Arial"/>
              </a:rPr>
              <a:t>kjm-za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756360" y="621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Vragen in de present continuous.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928800" y="2265480"/>
            <a:ext cx="7723080" cy="33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en vraag in het Engels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OET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altijd een hulpwerkwoord hebbe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ulpwerkwoorden – betekenen niet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ulpwerkwoorden – kun je weglaten en de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 betekenis van de zin blijf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ulpwerkwoorden – be, have, can, wil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circle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69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18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99"/>
                                </p:to>
                              </p:animCl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3000"/>
                            </p:stCondLst>
                            <p:childTnLst>
                              <p:par>
                                <p:cTn id="371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3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18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99"/>
                                </p:to>
                              </p:animCl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600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77" dur="1" fill="hold">
                                    <p:stCondLst>
                                      <p:cond delay="3000"/>
                                    </p:stCondLst>
                                  </p:cTn>
                                  <p:tgtEl>
                                    <p:spTgt spid="18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80" dur="1" fill="hold"/>
                                  <p:tgtEl>
                                    <p:spTgt spid="18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1T17:21:46Z</dcterms:created>
  <dc:creator>Els  van der Zande</dc:creator>
  <dc:description/>
  <dc:language>en-US</dc:language>
  <cp:lastModifiedBy>Els van der Zande</cp:lastModifiedBy>
  <dcterms:modified xsi:type="dcterms:W3CDTF">2007-07-24T16:34:21Z</dcterms:modified>
  <cp:revision>119</cp:revision>
  <dc:subject/>
  <dc:title>The present simple</dc:title>
</cp:coreProperties>
</file>