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BE4-D954-4AA1-84A9-1FF6E104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BD7-A368-4B49-B17D-C4DBDC50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505-AB6E-4F19-A2C4-4CFD1047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364-E5C3-41DA-B8C5-83C77A9A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1E01-E198-4FA3-B6AF-70D3B38E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47AC-B38B-4A3C-B9DE-C44A8201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8F8F-7C7B-4549-8E1D-43E1F86B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0EEF-83C5-4BF3-98D4-2D104490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4FC1-93B4-4491-AA3E-427542E7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062E-7F73-4CDF-B1B3-124ABD2A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E6DC-AACB-4BDC-90F4-C7D0E8AE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FD2-2C81-475D-82FF-85F44177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36CC-3258-4285-AFCB-22105CCC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749E-9304-4494-A5CB-1397B5D6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8370-695A-414F-B9B5-F7B76AB1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D710-FD1D-4630-A653-34905B9E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FB82-94D6-4DF5-BAFA-6D506C71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0F6D9-11C7-4289-A23C-FD157BF1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6F78E-9E10-4CA0-8F7F-E53C0CAC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0D996-A5EE-4CA3-B837-A3BEA26D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73CC6-BCDB-4D2D-B40F-F0DE9732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5045-DF56-497B-96AC-F2D7F201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3E4-8037-47E8-920C-39F9C65F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65D13-2460-447B-94F8-FBCFC366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D2A14-3F63-4897-AB80-B5C5B635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8D7B0-C7D7-48CF-858B-FBB54439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93CDA-3B67-43AE-8878-1E6214D5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954FF-DF13-465C-851D-6E1855E9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CBEE6-2A88-4207-97AD-49089016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D410-256A-46FE-AD5D-CFC90850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6F1C7-3DD7-499F-803E-72D09AD6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3684B-C16A-431C-9674-7D7C55E8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6398F-E6B2-4525-AC56-28F1B9AC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D40-1821-4421-8DD6-0F454587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E7F7E-4EF5-4212-A5C6-540FE90A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62F72-82EC-4A43-B66A-E3F68E3D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2CB06-E02A-4EFF-8F1F-418D3898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F47C0-71A0-4D5B-8DB1-46B72F68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7BB00-FDE5-4984-9554-A1695DEF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92733-B972-49B5-8132-17B84CD5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82600-80F9-4F09-8ABF-5EABCF3D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F5008-16C4-48F3-B6F3-1661867A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BDB6C-E062-4AAF-BEAC-BD1F420A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32B9A-81A4-4C41-9297-C104F1EF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9FA-ABB3-4288-9BC6-F4F46045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CBA4C-18DF-4C73-9E35-5E2D6783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0387C-B464-482F-9E14-19CAA0E5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DB6E3-397D-4312-871A-07402C69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0D882-EDEE-46C8-89CD-67148499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51679-6D97-4A05-B38E-63ECBF9A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ACBCC-AD3C-48AA-8172-F177E2FC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DDF89-18BA-47E9-AD1A-3948D9B5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AB98A-0913-485F-8024-522085FE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BBAE8-FCDC-46CD-BF04-D4A2A8C3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AA5E2-CFDE-4ECE-874C-9F21DA2F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484-E061-410B-B564-5AF87F54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FF965-A449-4126-8F70-F7F6EE57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2B8-79C8-465F-BCEB-617B7E38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8F68-BA84-4B9E-971E-41D20547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F76-D451-47DA-845E-18F75639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820C-799B-4098-9EB1-98A6C9219DA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F1F5-5E9E-4EEF-BB12-7429A3C5CC7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D9E9-8DF8-4C58-9F47-1066673010DA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8C6D-32D5-47A9-B862-D08BC6C1D48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8004-4D83-4042-8CE8-B640847F8BC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entoen.nu/media/38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H3.3 NEDERLAND TIJDENS DE DUITSE BEZETTING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0" name="Picture 5" descr="Duitsers op het Binnenhof tijdens de Tweede Wereldoorlog."/>
          <p:cNvPicPr/>
          <p:nvPr/>
        </p:nvPicPr>
        <p:blipFill>
          <a:blip r:embed="rId1"/>
          <a:stretch/>
        </p:blipFill>
        <p:spPr>
          <a:xfrm>
            <a:off x="324000" y="2060640"/>
            <a:ext cx="4316400" cy="3240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http://www.auschwitz.nl/beeld/holocaust/5_A81-12.jpg"/>
          <p:cNvPicPr/>
          <p:nvPr/>
        </p:nvPicPr>
        <p:blipFill>
          <a:blip r:embed="rId2"/>
          <a:stretch/>
        </p:blipFill>
        <p:spPr>
          <a:xfrm>
            <a:off x="4932360" y="3068640"/>
            <a:ext cx="38098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10 Mei 1940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0 Mei 1940: aanval op Nederland als onderdeel van de Blitzkrieg op West-Europa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4 mei 1940: bombardement op Rotterdam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5 mei 1940: Nederland capituleer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Koningin en regering vluchten naar Engelan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Achtergebleven bestuurders hebben opdracht ‘in belang van volk’ met de ‘nieuwe gezagsdragers’ samen te werken’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224" name="Groep 7"/>
          <p:cNvGrpSpPr/>
          <p:nvPr/>
        </p:nvGrpSpPr>
        <p:grpSpPr>
          <a:xfrm>
            <a:off x="324000" y="1197000"/>
            <a:ext cx="8191440" cy="5500080"/>
            <a:chOff x="324000" y="1197000"/>
            <a:chExt cx="8191440" cy="5500080"/>
          </a:xfrm>
        </p:grpSpPr>
        <p:pic>
          <p:nvPicPr>
            <p:cNvPr id="225" name="Picture 5" descr="http://www.lewisiana.nl/arendsmilde/foto%27s1940-45/Rotterdam%20mei%201940%201.jpg"/>
            <p:cNvPicPr/>
            <p:nvPr/>
          </p:nvPicPr>
          <p:blipFill>
            <a:blip r:embed="rId1"/>
            <a:stretch/>
          </p:blipFill>
          <p:spPr>
            <a:xfrm>
              <a:off x="324000" y="1197000"/>
              <a:ext cx="819144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kstvak 6"/>
            <p:cNvSpPr/>
            <p:nvPr/>
          </p:nvSpPr>
          <p:spPr>
            <a:xfrm>
              <a:off x="2142000" y="6237360"/>
              <a:ext cx="3210480" cy="459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292934"/>
                  </a:solidFill>
                  <a:latin typeface="Arial"/>
                </a:rPr>
                <a:t>Brandend Rotterdam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Regering in ballingschap (Londen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Koningin Wilhelmina symbool van het verzet in Nederland, mede dankzij toespraken voor Radio Oranj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9" name="Picture 5" descr="http://blogs.rnw.nl/wereldkids/files/2009/04/080504_wo2_radiooranje.jpg"/>
          <p:cNvPicPr/>
          <p:nvPr/>
        </p:nvPicPr>
        <p:blipFill>
          <a:blip r:embed="rId1"/>
          <a:stretch/>
        </p:blipFill>
        <p:spPr>
          <a:xfrm>
            <a:off x="2484360" y="1628640"/>
            <a:ext cx="404820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Verloop Duitse bezetting van Nederland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81040" y="151236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34"/>
                </a:solidFill>
                <a:latin typeface="Arial"/>
              </a:rPr>
              <a:t>Eerste fase: 1940-1942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uits bestuur (o.l.v. Seyss-Inquart) behandelt Nederlanders ‘met fluwelen handschoen’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Reden: Nazi’s proberen ‘Germaans broedervolk’ aan Duitse kant te krijgen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aarom ook geen militair bestuur zoals in België en Frankrijk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Houding meeste Nederlanders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Aanpassen aan nieuwe situatie (</a:t>
            </a:r>
            <a:r>
              <a:rPr b="0" i="1" lang="nl-NL" sz="1600" spc="-1" strike="noStrike">
                <a:solidFill>
                  <a:srgbClr val="292934"/>
                </a:solidFill>
                <a:latin typeface="Arial"/>
              </a:rPr>
              <a:t>accommodatie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Sommigen collaboreren (werken samen): NSB o.l.v. Mussert groeit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Nauwelijks verzet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In 1941: strenger Duits optrede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NSB enige politiek partij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uitsers controleren vakbonden, kunst, pers, onderwijs en jeugdorganisati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2" name="Picture 5" descr="http://www.annefrankguide.net/nl-NL/content/NSBaffiche2-b-foto.jpg"/>
          <p:cNvPicPr/>
          <p:nvPr/>
        </p:nvPicPr>
        <p:blipFill>
          <a:blip r:embed="rId1"/>
          <a:stretch/>
        </p:blipFill>
        <p:spPr>
          <a:xfrm>
            <a:off x="6443640" y="2108160"/>
            <a:ext cx="2649600" cy="3882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Tweede Wereldoorlo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66720"/>
            <a:ext cx="4943520" cy="5715000"/>
          </a:xfrm>
          <a:prstGeom prst="rect">
            <a:avLst/>
          </a:prstGeom>
          <a:ln w="0">
            <a:noFill/>
          </a:ln>
        </p:spPr>
      </p:pic>
      <p:sp>
        <p:nvSpPr>
          <p:cNvPr id="234" name="Tekstvak 7"/>
          <p:cNvSpPr/>
          <p:nvPr/>
        </p:nvSpPr>
        <p:spPr>
          <a:xfrm>
            <a:off x="349560" y="6381720"/>
            <a:ext cx="46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Seyss-Inquart spreekt NSB-bijeenkomst to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5" name="Picture 9" descr="http://www.bs-prisma.nl/lessen/geschiedenis/groep8/thema3/Mussert2.jpg"/>
          <p:cNvPicPr/>
          <p:nvPr/>
        </p:nvPicPr>
        <p:blipFill>
          <a:blip r:embed="rId4"/>
          <a:stretch/>
        </p:blipFill>
        <p:spPr>
          <a:xfrm>
            <a:off x="2614680" y="633240"/>
            <a:ext cx="4162320" cy="5715000"/>
          </a:xfrm>
          <a:prstGeom prst="rect">
            <a:avLst/>
          </a:prstGeom>
          <a:ln w="0">
            <a:noFill/>
          </a:ln>
        </p:spPr>
      </p:pic>
      <p:sp>
        <p:nvSpPr>
          <p:cNvPr id="236" name="Tekstvak 9"/>
          <p:cNvSpPr/>
          <p:nvPr/>
        </p:nvSpPr>
        <p:spPr>
          <a:xfrm>
            <a:off x="3286440" y="5373720"/>
            <a:ext cx="2818800" cy="3682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NSB-leider Anton Musser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Vroeg verzet: </a:t>
            </a:r>
            <a:r>
              <a:rPr b="0" lang="nl-NL" sz="2900" spc="-1" strike="noStrike">
                <a:solidFill>
                  <a:srgbClr val="d2533c"/>
                </a:solidFill>
                <a:latin typeface="Arial"/>
              </a:rPr>
              <a:t>februaristaking 1941</a:t>
            </a: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5589360"/>
            <a:ext cx="810108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92934"/>
                </a:solidFill>
                <a:latin typeface="Arial"/>
              </a:rPr>
              <a:t>Solidariteit arbeiders met Joden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92934"/>
                </a:solidFill>
                <a:latin typeface="Arial"/>
              </a:rPr>
              <a:t>Bijzonder: enige grootschalige demonstratie door niet-joden in West-Europa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92934"/>
                </a:solidFill>
                <a:latin typeface="Arial"/>
              </a:rPr>
              <a:t>Duitsers onderdrukken staking met geweld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9" name="Picture 5" descr="http://www.verzetsmuseum.org/binaries/achter_de_iconen/februaristaking/razzia_j_d_370.jpg"/>
          <p:cNvPicPr/>
          <p:nvPr/>
        </p:nvPicPr>
        <p:blipFill>
          <a:blip r:embed="rId1"/>
          <a:stretch/>
        </p:blipFill>
        <p:spPr>
          <a:xfrm>
            <a:off x="395280" y="1557360"/>
            <a:ext cx="3524400" cy="3009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http://virtueletochten.noord-hollandsarchief.nl/content/image/images/custom/184.gif"/>
          <p:cNvPicPr/>
          <p:nvPr/>
        </p:nvPicPr>
        <p:blipFill>
          <a:blip r:embed="rId2"/>
          <a:stretch/>
        </p:blipFill>
        <p:spPr>
          <a:xfrm>
            <a:off x="4464000" y="0"/>
            <a:ext cx="46800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Jodenvervolging in Nederland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1940-1941: burgerrechten joden ontnomen en steeds meer geïsoleer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Bv. Beroeps- en uitgaansverboden / dragen jodenster / oprichting jodenwijk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1942-1943:vrijwel alle joden via kamp Westerbork en Vught naar Auschwitz en Sobibor getransporteerd en vermoor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Slechts enkelen weten door onderduik (met steun van Nederlands verzet) de oorlog te overlev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3" name="Picture 5" descr="http://www.nrc.nl/multimedia/dynamic/00042/westerbork_42518e.jpg"/>
          <p:cNvPicPr/>
          <p:nvPr/>
        </p:nvPicPr>
        <p:blipFill>
          <a:blip r:embed="rId1"/>
          <a:stretch/>
        </p:blipFill>
        <p:spPr>
          <a:xfrm>
            <a:off x="2556000" y="2421000"/>
            <a:ext cx="4257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2</a:t>
            </a:r>
            <a:r>
              <a:rPr b="0" lang="nl-NL" sz="4000" spc="-1" strike="noStrike" baseline="30000">
                <a:solidFill>
                  <a:srgbClr val="d2533c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 fase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1943-1944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Duitsers treden harder op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Verplichte tewerkstelling mannen in Duitslan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Steeds meer schaarste aan goederen wegens leveringen aan Duitslan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Gevolg: (Lichte) groei verze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Laatste fase: 1944-1945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Na invasie in Normandië 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(juni 1944)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 en slag bij Arnhem 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(september 1944)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 komt Nederland in de frontlinie te liggen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Gevolg: grote delen Zeeland, Limburg en rivierengebied lijden onder oorlogsgewel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Noord-Nederland blijft bezet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Wegens spoorwegstaking (uitgeroepen door regering in Londen) grote schaarste aan voedsel en brandstof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Gevolg: 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Hongerwinter</a:t>
            </a: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: tienduizenden slachtoffers, vooral in de sted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8" name="Picture 5" descr="Een hongerend jongetje in Amsterdam 1944-45"/>
          <p:cNvPicPr/>
          <p:nvPr/>
        </p:nvPicPr>
        <p:blipFill>
          <a:blip r:embed="rId1"/>
          <a:stretch/>
        </p:blipFill>
        <p:spPr>
          <a:xfrm>
            <a:off x="6227640" y="2852640"/>
            <a:ext cx="2524320" cy="3286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http://xtbuy.com/image/album/D+Day/photo-D-Day.jpg"/>
          <p:cNvPicPr/>
          <p:nvPr/>
        </p:nvPicPr>
        <p:blipFill>
          <a:blip r:embed="rId2"/>
          <a:stretch/>
        </p:blipFill>
        <p:spPr>
          <a:xfrm>
            <a:off x="755640" y="1557360"/>
            <a:ext cx="476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Mei 1945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95280" y="414936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Bevrijding van Noorden en Westen van Nederland door Canadezen en Engelse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5 mei 1945: capitulatie Duitse leger in Nederlan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2" name="Picture 5" descr="http://sgpdirksland.files.wordpress.com/2010/03/bevrijding.jpg"/>
          <p:cNvPicPr/>
          <p:nvPr/>
        </p:nvPicPr>
        <p:blipFill>
          <a:blip r:embed="rId1"/>
          <a:stretch/>
        </p:blipFill>
        <p:spPr>
          <a:xfrm>
            <a:off x="324000" y="1052640"/>
            <a:ext cx="4095720" cy="3047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http://familieclausman.nl/afbeeldingen/bevrijding.jpg"/>
          <p:cNvPicPr/>
          <p:nvPr/>
        </p:nvPicPr>
        <p:blipFill>
          <a:blip r:embed="rId2"/>
          <a:stretch/>
        </p:blipFill>
        <p:spPr>
          <a:xfrm>
            <a:off x="4643280" y="1197000"/>
            <a:ext cx="42562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8:34:11Z</dcterms:created>
  <dc:creator>Damstede</dc:creator>
  <dc:description/>
  <dc:language>en-US</dc:language>
  <cp:lastModifiedBy>WINDOWSXP</cp:lastModifiedBy>
  <dcterms:modified xsi:type="dcterms:W3CDTF">2011-12-20T08:57:06Z</dcterms:modified>
  <cp:revision>8</cp:revision>
  <dc:subject/>
  <dc:title>9§7 duitse bezetting van Nederland</dc:title>
</cp:coreProperties>
</file>