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3E24-9DB0-4008-8918-728478D62F2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2954-540A-48D1-890D-CBB833673F1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chema: Bloedgroepen - Antigen rode bloedcel – Antistof bloed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A7EA-7629-43BD-8EF3-3322DCCA600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bloedplasma van de bloedontvanger mag geen antistoffen bevatten tegen de antigenen van het donorbloed. Zodra hier geen rekening mee wordt gehouden treedt er bloedklontering op. Dit is levensgevaar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EDEE-FD45-4BDD-8F8A-B901E2D7016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344-3655-4C82-B123-65EC5E1A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ABF-2FEB-4A86-9FF0-7742E604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1A6-8CA6-4065-805C-645F178A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95B8-3666-4CFC-B772-BF2242D4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DCC-8641-42D3-96C2-35DCD881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1079-B7E5-4016-AFCD-9EA58E75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AF3-401B-4B70-84C4-6B5A1A2A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F92-FA37-461E-9D86-F733258D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00B-FAED-4A19-821B-373A7C3B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7DA-A811-48BA-96C3-FC483B94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5B3-2624-463E-A6FA-5219BFC3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820-D22D-462C-BA82-6D7FDA15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6800-B872-4598-97AD-33D7BEC72C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ogle.nl/url?sa=i&amp;rct=j&amp;q=&amp;esrc=s&amp;frm=1&amp;source=images&amp;cd=&amp;cad=rja&amp;docid=UBw8m2iKvci4xM&amp;tbnid=_65XAbxw6HX9qM:&amp;ved=0CAUQjRw&amp;url=http%3A%2F%2Fwww.nurseacademy.nl%2Ftijdschrift%2Ftijdschrift_artikel%2Ft%2Fbloedgroepen_en_rhesusfactoren&amp;ei=if4NU7ymJsva0QXomoDACg&amp;bvm=bv.61965928,d.d2k&amp;psig=AFQjCNHGRjmxGbpczrujxyWh-HET4XZtbg&amp;ust=1393512370087725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en/ huis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www.theyoungmusicagency.nl/wp-content/uploads/hetklokhuis.png"/>
          <p:cNvPicPr/>
          <p:nvPr/>
        </p:nvPicPr>
        <p:blipFill>
          <a:blip r:embed="rId1"/>
          <a:stretch/>
        </p:blipFill>
        <p:spPr>
          <a:xfrm>
            <a:off x="0" y="1706400"/>
            <a:ext cx="9144000" cy="5151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11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Klokh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levering: Bl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opdracht 7 e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i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ees voorafgaand aan het maken van de opdrachten de bijbehorende tekstk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rm een tweetal en maa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gitale opdracht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www.hartwijzer.nl/afb/bloedonderzoek.gif"/>
          <p:cNvPicPr/>
          <p:nvPr/>
        </p:nvPicPr>
        <p:blipFill>
          <a:blip r:embed="rId1"/>
          <a:srcRect l="6047" t="0" r="6259" b="0"/>
          <a:stretch/>
        </p:blipFill>
        <p:spPr>
          <a:xfrm>
            <a:off x="6659640" y="4653000"/>
            <a:ext cx="21826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maken opdracht 7 t/m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ren leskaart 1 t/m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ijk opdracht 1 t/m 9 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es tekstkader 1 t/m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er tekstkader 1 t/m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er opdracht 1 t/m 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erh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manieren kan een witte bloedcel een ziekteverwekker onschadelijk mak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aan kan een witte bloedcel een lichaamsvreemde stof herkenn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het verschil tussen een vaccinatie en een ser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erh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fagocytose2"/>
          <p:cNvPicPr/>
          <p:nvPr/>
        </p:nvPicPr>
        <p:blipFill>
          <a:blip r:embed="rId1"/>
          <a:srcRect l="9777" t="2585" r="6245" b="25699"/>
          <a:stretch/>
        </p:blipFill>
        <p:spPr>
          <a:xfrm>
            <a:off x="395280" y="189000"/>
            <a:ext cx="1309680" cy="1584360"/>
          </a:xfrm>
          <a:prstGeom prst="rect">
            <a:avLst/>
          </a:prstGeom>
          <a:ln w="0">
            <a:noFill/>
          </a:ln>
        </p:spPr>
      </p:pic>
      <p:pic>
        <p:nvPicPr>
          <p:cNvPr id="54" name="Tijdelijke aanduiding voor inhoud 4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137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4 verschillende bloedgroep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groep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groep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groep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groep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schil: antigenen + antistof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rcRect l="16782" t="30959" r="58241" b="47350"/>
          <a:stretch/>
        </p:blipFill>
        <p:spPr>
          <a:xfrm>
            <a:off x="5796000" y="4076640"/>
            <a:ext cx="3095640" cy="201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elearning.nurseacademy.nl/images/cropped/240/180/uploads/nascholingsartikel/2013010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227664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rcRect l="18262" t="31294" r="28598" b="25393"/>
          <a:stretch/>
        </p:blipFill>
        <p:spPr>
          <a:xfrm>
            <a:off x="539640" y="1413000"/>
            <a:ext cx="7775640" cy="4752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ziet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ntigen B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ru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8218440" cy="6048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toffen laten bloedcellen klont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rcRect l="16782" t="30959" r="58241" b="47350"/>
          <a:stretch/>
        </p:blipFill>
        <p:spPr>
          <a:xfrm>
            <a:off x="1332000" y="2421000"/>
            <a:ext cx="3095640" cy="201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356000" y="2421000"/>
            <a:ext cx="3168720" cy="2020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689120"/>
          </a:xfrm>
          <a:prstGeom prst="rect">
            <a:avLst/>
          </a:prstGeom>
          <a:solidFill>
            <a:srgbClr val="ff5050"/>
          </a:solidFill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tistof A reageert met antige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tistof B reageert met antige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bloed02A"/>
          <p:cNvPicPr/>
          <p:nvPr/>
        </p:nvPicPr>
        <p:blipFill>
          <a:blip r:embed="rId3"/>
          <a:srcRect l="0" t="53529" r="61194" b="0"/>
          <a:stretch/>
        </p:blipFill>
        <p:spPr>
          <a:xfrm>
            <a:off x="611280" y="4797360"/>
            <a:ext cx="1890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1" descr="http://www.wetenschap24.nl/.imaging/stk/wetenschap/zoom/media/wetenschap/noorderlicht/artikelen/2013/januari/shutterstock_102314338/original/shutterstock_102314338.jpg"/>
          <p:cNvPicPr/>
          <p:nvPr/>
        </p:nvPicPr>
        <p:blipFill>
          <a:blip r:embed="rId1"/>
          <a:stretch/>
        </p:blipFill>
        <p:spPr>
          <a:xfrm>
            <a:off x="4576680" y="0"/>
            <a:ext cx="45673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176720" cy="44211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loedtransfu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krijgt bloed van een bloeddonor toegedie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voorkeur krijg je bloed van dezelfde bloedgroe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616572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s je verkeerd bloed krijgt is dat levensgevaarlij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bloed02A"/>
          <p:cNvPicPr/>
          <p:nvPr/>
        </p:nvPicPr>
        <p:blipFill>
          <a:blip r:embed="rId2"/>
          <a:srcRect l="0" t="53529" r="61194" b="0"/>
          <a:stretch/>
        </p:blipFill>
        <p:spPr>
          <a:xfrm>
            <a:off x="7236000" y="5373720"/>
            <a:ext cx="1687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http://www.dieetvandaag.nl/wp-content/uploads/2012/03/Bloedgroep.jpg"/>
          <p:cNvPicPr/>
          <p:nvPr/>
        </p:nvPicPr>
        <p:blipFill>
          <a:blip r:embed="rId1"/>
          <a:stretch/>
        </p:blipFill>
        <p:spPr>
          <a:xfrm>
            <a:off x="3780000" y="18900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76" name="Afbeelding 1" descr=""/>
          <p:cNvPicPr/>
          <p:nvPr/>
        </p:nvPicPr>
        <p:blipFill>
          <a:blip r:embed="rId2"/>
          <a:stretch/>
        </p:blipFill>
        <p:spPr>
          <a:xfrm>
            <a:off x="2370240" y="2492280"/>
            <a:ext cx="47242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hesus antig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n, in combinatie met de bloedgroepen, ook op bloedcellen zitt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ijdelijke aanduiding voor inhoud 4" descr=""/>
          <p:cNvPicPr/>
          <p:nvPr/>
        </p:nvPicPr>
        <p:blipFill>
          <a:blip r:embed="rId1"/>
          <a:srcRect l="0" t="22337" r="0" b="41178"/>
          <a:stretch/>
        </p:blipFill>
        <p:spPr>
          <a:xfrm>
            <a:off x="179280" y="3357720"/>
            <a:ext cx="5004000" cy="10094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0" y="623736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voorbeeld: A+, B-, AB-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rcRect l="6075" t="7981" r="0" b="11713"/>
          <a:stretch/>
        </p:blipFill>
        <p:spPr>
          <a:xfrm>
            <a:off x="1619280" y="4437000"/>
            <a:ext cx="3529080" cy="1647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rcRect l="24154" t="41148" r="44092" b="24413"/>
          <a:stretch/>
        </p:blipFill>
        <p:spPr>
          <a:xfrm>
            <a:off x="5292720" y="3357720"/>
            <a:ext cx="33480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1:11:48Z</dcterms:created>
  <dc:creator>Jojanneke</dc:creator>
  <dc:description/>
  <dc:language>en-US</dc:language>
  <cp:lastModifiedBy>Gebruiker</cp:lastModifiedBy>
  <dcterms:modified xsi:type="dcterms:W3CDTF">2016-03-07T13:35:45Z</dcterms:modified>
  <cp:revision>17</cp:revision>
  <dc:subject/>
  <dc:title>Inhoud les</dc:title>
</cp:coreProperties>
</file>