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B83-2969-4547-B28B-EB8ACFBD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2FA-0DAE-4976-BD7E-4945D280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E20-6C36-4820-BC61-32DC0104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0B51-6A27-419C-BB4D-C03FC0D6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026D-84D3-4463-9767-0DDC2A2B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1D57-EAA9-4BAD-B244-83E4A66D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0838-BD63-447B-8707-A74DBDF5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340B-3454-429C-B0FA-195809FF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C620-655F-4B90-B740-5A62B077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F03A-28C4-41CD-9E9F-7FB226AB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5A29-D93F-4CFE-8A04-CAE28737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998-0DD2-4639-8F8B-E9DD6693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1B86A-E106-4645-9A75-96D4ADA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6499-6B0D-4D6D-8FD4-68FB2664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5095-9765-4711-96DC-475990C1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E361-C077-422A-92E4-821EBEC9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86DF-9202-4441-ADFE-2A1E5B52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09C0-52B9-4BDC-99F3-A17BFA6F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D148-8827-4601-8D4E-D34CDC70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4FB1-38D8-4164-99E7-09D8FA90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CDC-3437-4B29-8613-CEC104AF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437-7FA0-4B30-B0D8-CE191098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2C6E-1DE2-409F-8DC6-4A9EE406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224-2E77-41E5-B65A-E4EBE874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636B-FCA9-4C18-BDAB-F3C9777F0FE2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9B95-1C7F-43CE-BC4A-D8818E9FE441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alibri"/>
              </a:rPr>
              <a:t>Certificaat voor vacht en voe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125360"/>
            <a:ext cx="5472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itgereikt op 29 mei 201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aam 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las 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941720"/>
            <a:ext cx="68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eft deelgenomen aan de test om voeding, vacht bij verschillende dieren te kunnen herkennen mede mogelijk gemaakt door Citaverde college te Heerlen en Kasteelpark Bor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64000" y="334656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100008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073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8:55:36Z</dcterms:created>
  <dc:creator>hp</dc:creator>
  <dc:description/>
  <dc:language>en-US</dc:language>
  <cp:lastModifiedBy>hp</cp:lastModifiedBy>
  <dcterms:modified xsi:type="dcterms:W3CDTF">2013-04-23T09:13:15Z</dcterms:modified>
  <cp:revision>2</cp:revision>
  <dc:subject/>
  <dc:title>Slide 1</dc:title>
</cp:coreProperties>
</file>