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7FFE-30AB-4EB3-BBD5-675BFB82C5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784B-C513-4880-9A2F-DF1B2979A3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88526A3D-AF37-47DD-B580-0EDE56FB1898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informatie, verantwoording of bewijs binnen werkproc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belang bedrijfsvoering / geldende selectielij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welke metadata / digitale duurzaamhe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autoris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pslaan en beschrijv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ar(in) worden documenten opgeslag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gegevens worden vastgelegd en door wie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kennen jull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elke manieren van ordening worden gebruikt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hronolog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Alfabe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Numer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ystematisch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nderwer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object, subjec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Orde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 werkproc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Zaakgerich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Selecteren, Verwijderen en Bewa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 aan de hand van selectielijs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: Plicht!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vang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Beschikbaarstellen!!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ie mag er wat raadplegen, wijzigen, verwijde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Wanneer wordt wat gepubliceerd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 vinden gebruikers de voor hen relevante informatie en document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lleen archiefstukken/records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of ook overige informatie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Recordkeeping processen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Recordkeeping processen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astleggen/verwer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a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rde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rijv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lect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erwijde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nalyse wet- en regelgeving, eisen bedrijfsvoering en verantwoording, risicoanaly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zie hiervo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archief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archiefstuk/maker/context, plaats in systeem en relatie met andere stukk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doel: bewijs leveren dat stuk is opgemaakt of opgenomen in syste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classificatie activiteiten, leggen van koppelingen, indexer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juiste media en bewaarcond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ie verkrijgt toegang, onder welke voorwaard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gen verplaatsen en gebruik van archiefstukken, voortgangsbewak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systematische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overbrenging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bevoegdheden, beslissingen en keuz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wordt voldaan aan de gestelde eisen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voldoet systeem aan verwachtingen (evaluatie, bijstelling)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Opleid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- permanent programma voor opleiding voor iedere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Vastleggen, vangen (capture)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et identificeren van document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aken van de keuze of een document in de collecti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moet worden opgen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2-03-21T12:27:35Z</dcterms:modified>
  <cp:revision>38</cp:revision>
  <dc:subject/>
  <dc:title>Dia 1</dc:title>
</cp:coreProperties>
</file>