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Welke doelen hebben controlere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C516-FA1F-4164-8B11-D644200EA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2D9B-4522-4F59-B59A-4B2151F5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102A-C489-4FCF-BF69-5EF1F2BED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64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96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492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2B5F-9FCE-455E-A42D-AAD08D836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6473C-EBB9-4F4C-A4B0-2912BC085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99C4-25FD-4E54-A4DC-583BAA0C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BB11-7D24-4DF9-8DEF-1D742E76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0B34-65C9-4B8C-9CDE-F2A0AA67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B436-772F-4DDB-8C69-83B6946E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266400"/>
            <a:ext cx="79981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ADE4-B7D0-4785-B89F-47B51C66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A331-A274-4F89-B3D7-575A5881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ECA8-30EA-4D21-BDB4-47F8D493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23E3-EFD2-429C-94DD-1C724537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1EC1-08E1-47B1-8549-F9DD8BD7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35BE-7C2B-49E6-BDE2-2CC06014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55AE-1F8A-47F9-85B2-B31B939CB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64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096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92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6002-7BBA-4057-9951-6AECDB0D8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1AA47-E0D8-4147-A34A-3E48EB19C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81372-1349-437E-BCEA-F43DAAB9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EA711-08E3-44E0-9E17-E065D3B8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BBEF6-D367-4CBA-B86E-DC38FB5C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F0C84-8733-43DB-A131-2C1A7AA1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FF18-52F4-41DE-867F-5FD17C56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266400"/>
            <a:ext cx="79981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5B744-0941-4E01-A25A-4571C59D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5D10A-9EF9-4966-8024-7852AEB3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B1A98-D1A3-400D-A36F-A1728269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69207-C0EF-4938-9150-744A6028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91C92-E559-43A8-A218-27FEB4BA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98E15-DA9E-480F-9614-9F7EB0FB1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64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096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492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A85B0-0CB8-4847-9493-57DC1BB75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36B6-A902-4FA7-839A-DA715EA3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BD52-41A1-4B7D-980C-48C7CFF2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266400"/>
            <a:ext cx="79981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F84F-C21F-4DC7-9F0B-66234AE3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AEDE-B94D-41BE-B3F9-A2C1CAEF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8827-430B-4373-BA85-90645112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0DE0-6BA5-4B92-BF4D-FA6A850B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4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1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01B9B2-B3D1-4017-B5F7-15665B514BFB}" type="slidenum">
              <a:rPr b="0" lang="nl-NL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77691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NL" sz="12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E720055-F3F4-4321-A7C6-99ABCED35DD2}" type="slidenum">
              <a:rPr b="0" lang="nl-N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A60D636-6B4D-4CD5-A74A-840657CA7538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watch?v=FzCsiGkSBec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assie.horeca.nl/video/15658/het_reageren_op_een_verborgen_regelovertreding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Verdana"/>
              </a:rPr>
              <a:t>Les 2 Sociale Hygiëne / 2-1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447560" y="351756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755640" y="2708280"/>
            <a:ext cx="7620120" cy="28573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3203640" y="638172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Jacob van Wie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Deur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Geweigerd.nl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Allen die zich in Nederland bevinden, worden in gelijke gevallen gelijk behandeld. Discriminatie wegens godsdienst, levensovertuiging, politieke gezindheid, ras, geslacht of op welke grond dan ook, is niet toegestaan.”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Samenwerken met partij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Verdana"/>
              </a:rPr>
              <a:t>Met welke partijen werk je sam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eme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Andere ondernem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Politi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Taken leidinggeven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erknemers voorlicht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Instructie gev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oezicht houd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erkoverleg voer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oor- Nabespreking (briefing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Coachen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Vragen en antwoord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anneer vertoont iemand sociaal-hygiënisch gedrag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at zijn fatsoensnorme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3. Wat is het verschil tussen moreel en immoreel gedrag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4. Waaruit bestaat een sociaal-hygiënisch beleid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5. Leg uit waarom het verstandig is om in een horeca- of slijtersbedrijf een sociaal-hygiënisch beleid te voere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6. Wat moet een leidinggevende doen om geloofwaardig over te komen bij zijn gasten of klante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7. Een gedragsregel stelt grenzen aan gedrag. Geef aan tussen welke twee gedragingen de gedragsregel de grens stel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8. Er zijn twee soorten regels. Welke zijn dit en wat hebben ze met elkaar gemee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9. Stel dat u een regel moet opstellen. Wat moet u dan ten minste in de omschrijving van de regel opneme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0. Leg uit wat het verband is tussen het waarom van de regel en het geven van argumente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1. Wat verstaat men onder het begrip ‘normvervaging’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2. Geef aan wat het doel is van een handhavingsbelei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3. Uit welke vier stappen bestaat het handhavingsbeleid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4. Welke W’s spelen een rol bij de waarneming van regelovertreding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Hoe kun je er als ondernemer voor zorgen dat gasten zich goed gedragen jouw horeca-gelegenhei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5. Welke drie sancties kunnen in een horecabedrijf worden toegepast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6. Wanneer pleegt iemand ‘huisvredebreuk’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7. Geef aan wat u de gast vertelt voordat u tot vorderen overgaa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8. Wat zijn de drie voordelen van een schriftelijke ontzegging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9. Geef aan waarover elke medewerker zich moet uitspreken bij toepassing van het handhavingsbelei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20. Geef aan waar de selectiecriteria bij het deurbeleid betrekking op mogen hebbe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21. Wat wordt in de Grondwet onder discriminatie verstaa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22. Welke afspraken kunnen er gemaakt worden met de politie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23. Over welke zaken kunnen ondernemers samenwerke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Afsluit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ZIJN ER NOG VRAG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oede week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Sociaal-Hygienisch 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kstvak 2"/>
          <p:cNvSpPr/>
          <p:nvPr/>
        </p:nvSpPr>
        <p:spPr>
          <a:xfrm>
            <a:off x="849240" y="278136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ideo Contact maken bij regelhandhav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passie.horeca.nl/video/15658/het_reageren_op_een_verborgen_regelovertre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Sociaal-Hygiënisch beleid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46656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9107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isie op gastvrijheidsconcep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46656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9107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dreigingen onderzoe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46656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9107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renzen stellen aan gedra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46656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9107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handhavingsbele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46656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9107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urbele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46656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9107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amenwerken met partij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46656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9107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oorlichting en instructi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46656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9107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iligheidsbeleid (komt late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Sociaal-Hygiënisch 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spcBef>
                <a:spcPts val="751"/>
              </a:spcBef>
              <a:buNone/>
              <a:tabLst>
                <a:tab algn="l" pos="0"/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Een goede gedragsregel bestaat uit drie  onderdelen, namelijk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751"/>
              </a:spcBef>
              <a:buNone/>
              <a:tabLst>
                <a:tab algn="l" pos="0"/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692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i="1" lang="nl-NL" sz="3000" spc="-1" strike="noStrike">
                <a:solidFill>
                  <a:srgbClr val="000000"/>
                </a:solidFill>
                <a:latin typeface="Verdana"/>
              </a:rPr>
              <a:t>doel</a:t>
            </a:r>
            <a:r>
              <a:rPr b="0" i="1" lang="nl-NL" sz="3000" spc="-1" strike="noStrike">
                <a:solidFill>
                  <a:srgbClr val="000000"/>
                </a:solidFill>
                <a:latin typeface="Verdana"/>
              </a:rPr>
              <a:t> van de regel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692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i="1" lang="nl-NL" sz="3000" spc="-1" strike="noStrike">
                <a:solidFill>
                  <a:srgbClr val="000000"/>
                </a:solidFill>
                <a:latin typeface="Verdana"/>
              </a:rPr>
              <a:t>inhoud</a:t>
            </a:r>
            <a:r>
              <a:rPr b="0" i="1" lang="nl-NL" sz="3000" spc="-1" strike="noStrike">
                <a:solidFill>
                  <a:srgbClr val="000000"/>
                </a:solidFill>
                <a:latin typeface="Verdana"/>
              </a:rPr>
              <a:t> van de regel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692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Verdana"/>
              </a:rPr>
              <a:t>het </a:t>
            </a:r>
            <a:r>
              <a:rPr b="1" i="1" lang="nl-NL" sz="3000" spc="-1" strike="noStrike">
                <a:solidFill>
                  <a:srgbClr val="000000"/>
                </a:solidFill>
                <a:latin typeface="Verdana"/>
              </a:rPr>
              <a:t>waarom </a:t>
            </a:r>
            <a:r>
              <a:rPr b="0" i="1" lang="nl-NL" sz="3000" spc="-1" strike="noStrike">
                <a:solidFill>
                  <a:srgbClr val="000000"/>
                </a:solidFill>
                <a:latin typeface="Verdana"/>
              </a:rPr>
              <a:t>van de rege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499"/>
              </a:spcBef>
              <a:buNone/>
              <a:tabLst>
                <a:tab algn="l" pos="0"/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499"/>
              </a:spcBef>
              <a:buNone/>
              <a:tabLst>
                <a:tab algn="l" pos="0"/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nl-NL" sz="2800" spc="-1" strike="noStrike">
                <a:solidFill>
                  <a:srgbClr val="000000"/>
                </a:solidFill>
                <a:latin typeface="Verdana"/>
              </a:rPr>
              <a:t>Opdracht huisregels!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ociaal-Hygiënisch belei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8360" indent="-4669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6836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Handhavingsbeleid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6836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 hebben nu regels, maar wat moet je doen om er voor te zorgen dat deze ook worden nageleefd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Sociaal-Hygiënisch 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Verdana"/>
              </a:rPr>
              <a:t>Handhavingsbeleid: Stapp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Regels controleren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Regelovertreding corriger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Regelovertreding sanctioner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Sancties afdwing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Deur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Eisen stellen om ervoor te zorgen da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goede naam van het bedrijf behouden blijf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orde en rust in het bedrijf gegarandeerd word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veiligheid van gasten en medewerkers gewaarborgd word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De eisen mogen alleen betrekking hebben o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le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dra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redietwaardighei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Deur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Verdana"/>
              </a:rPr>
              <a:t>Selectiecrite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Selecteren op basis van getalscriteriu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Selecteren op basis van leeftij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Selectie op basis van huisrege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09:40:52Z</dcterms:created>
  <dc:creator>VMBO Leeuwarden</dc:creator>
  <dc:description/>
  <dc:language>en-US</dc:language>
  <cp:lastModifiedBy>12viwijc</cp:lastModifiedBy>
  <dcterms:modified xsi:type="dcterms:W3CDTF">2013-12-02T08:19:09Z</dcterms:modified>
  <cp:revision>18</cp:revision>
  <dc:subject/>
  <dc:title>Sociale Hygiëne jaar1 Sporeto</dc:title>
</cp:coreProperties>
</file>